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3.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1.jpeg" ContentType="image/jpeg"/>
  <Override PartName="/ppt/media/image5.png" ContentType="image/png"/>
  <Override PartName="/ppt/media/image10.png" ContentType="image/png"/>
  <Override PartName="/ppt/media/image2.png" ContentType="image/png"/>
  <Override PartName="/ppt/media/image15.png" ContentType="image/png"/>
  <Override PartName="/ppt/media/image3.jpeg" ContentType="image/jpeg"/>
  <Override PartName="/ppt/media/image4.png" ContentType="image/png"/>
  <Override PartName="/ppt/media/image14.wmf" ContentType="image/x-wmf"/>
  <Override PartName="/ppt/media/image6.png" ContentType="image/png"/>
  <Override PartName="/ppt/media/image11.png" ContentType="image/png"/>
  <Override PartName="/ppt/media/image8.png" ContentType="image/png"/>
  <Override PartName="/ppt/media/image13.png" ContentType="image/png"/>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FFB6A-6DF5-4565-BF75-C43B6F27444D}"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
        <p:nvSpPr>
          <p:cNvPr id="163"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4A312-E11B-4394-9832-9666B0BB46AA}"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5BB8B-A3E3-49B6-AD5D-0BFA5E7BC8F8}"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C7C577-DCD5-4F55-AFED-D78B7666BB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6E702-D485-4B07-8C32-32671A058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2731A1-5B88-4674-839D-D905F18EB4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072606-54C3-4283-870A-EBBAC8013C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63280-6CA7-4749-A9BB-83F81AE03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98DA8-9566-4899-BFFC-895F63990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6EEE2-D854-4BF4-BE29-03578BEDD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75F37-D58C-465A-9D64-8B86A614F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38B39-F08D-48FC-B93C-CD372493E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368B9-BACF-4093-A31F-F1A0F72A1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E6597-22EB-4144-93AF-F670531ED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95205-C79E-4E62-B984-40A704769A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9AFD7-E4E8-47D5-B3F0-267A726ADAF9}"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rs.usda.gov/Briefing/FarmPolicy/gov-pay.htm"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ers.usda.gov/publications/AIB728/aib728d.pdf" TargetMode="External"/><Relationship Id="rId2" Type="http://schemas.openxmlformats.org/officeDocument/2006/relationships/hyperlink" Target="http://www.oxfam.org/en/policy/bn051115-green-box-subsidies" TargetMode="Externa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fao.org/docrep/x4400e/x4400e09.htm#TopOfPage"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1196640"/>
            <a:ext cx="9144000" cy="3336840"/>
          </a:xfrm>
          <a:prstGeom prst="rect">
            <a:avLst/>
          </a:prstGeom>
          <a:noFill/>
          <a:ln w="0">
            <a:noFill/>
          </a:ln>
        </p:spPr>
        <p:txBody>
          <a:bodyPr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RSPECTIVAS DOS MERCADOS MUNDIAL E NACIONAL PARA PRODUTOS AGROPECUÁRIOS </a:t>
            </a:r>
            <a:br>
              <a:rPr sz="4000"/>
            </a:br>
            <a:r>
              <a:rPr b="1" lang="en-US" sz="4000" spc="-1" strike="noStrike">
                <a:solidFill>
                  <a:srgbClr val="000000"/>
                </a:solidFill>
                <a:latin typeface="Arial"/>
              </a:rPr>
              <a:t>DO RIO GRANDE DO SU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178920" y="333360"/>
            <a:ext cx="8807400" cy="5616720"/>
          </a:xfrm>
          <a:prstGeom prst="rect">
            <a:avLst/>
          </a:prstGeom>
          <a:noFill/>
          <a:ln w="0">
            <a:noFill/>
          </a:ln>
        </p:spPr>
        <p:txBody>
          <a:bodyPr anchor="t">
            <a:normAutofit fontScale="97000"/>
          </a:bodyPr>
          <a:p>
            <a:pPr marL="332640" indent="-332640" algn="just">
              <a:spcBef>
                <a:spcPts val="14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Índia:</a:t>
            </a:r>
            <a:r>
              <a:rPr b="0" lang="en-US" sz="2800" spc="-1" strike="noStrike">
                <a:solidFill>
                  <a:srgbClr val="000000"/>
                </a:solidFill>
                <a:latin typeface="Arial"/>
              </a:rPr>
              <a:t> terceiro produtor mundial de alimentos, com aproximadamente 8,5% de participação no mercado;</a:t>
            </a:r>
            <a:endParaRPr b="0" lang="en-US" sz="2800" spc="-1" strike="noStrike">
              <a:solidFill>
                <a:srgbClr val="000000"/>
              </a:solidFill>
              <a:latin typeface="Arial"/>
            </a:endParaRPr>
          </a:p>
          <a:p>
            <a:pPr marL="332640" indent="-332640" algn="just">
              <a:spcBef>
                <a:spcPts val="14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asil:</a:t>
            </a:r>
            <a:r>
              <a:rPr b="0" lang="en-US" sz="2800" spc="-1" strike="noStrike">
                <a:solidFill>
                  <a:srgbClr val="000000"/>
                </a:solidFill>
                <a:latin typeface="Arial"/>
              </a:rPr>
              <a:t> assume o quarto lugar com aproximadamente 4,5% da produção global. Vale notar que a produção chinesa supera a norte-americana 6%, o que equivale a quase um Brasil e meio de diferença;</a:t>
            </a:r>
            <a:endParaRPr b="0" lang="en-US" sz="2800" spc="-1" strike="noStrike">
              <a:solidFill>
                <a:srgbClr val="000000"/>
              </a:solidFill>
              <a:latin typeface="Arial"/>
            </a:endParaRPr>
          </a:p>
          <a:p>
            <a:pPr marL="332640" indent="-332640" algn="just">
              <a:spcBef>
                <a:spcPts val="14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gentina:</a:t>
            </a:r>
            <a:r>
              <a:rPr b="0" lang="en-US" sz="2800" spc="-1" strike="noStrike">
                <a:solidFill>
                  <a:srgbClr val="000000"/>
                </a:solidFill>
                <a:latin typeface="Arial"/>
              </a:rPr>
              <a:t> se mantém como o país com maior produtividade agrícola per capita, ainda que decrescente ao longo do tempo. Sua participação na produção mundial gira em torno de 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107640" y="188640"/>
            <a:ext cx="8908920" cy="5616360"/>
          </a:xfrm>
          <a:prstGeom prst="rect">
            <a:avLst/>
          </a:prstGeom>
          <a:noFill/>
          <a:ln w="0">
            <a:noFill/>
          </a:ln>
        </p:spPr>
        <p:txBody>
          <a:bodyPr anchor="t">
            <a:normAutofit/>
          </a:bodyPr>
          <a:p>
            <a:pPr marL="343080" indent="-343080" algn="just">
              <a:lnSpc>
                <a:spcPct val="90000"/>
              </a:lnSpc>
              <a:spcBef>
                <a:spcPts val="1125"/>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produtividade da agricultura </a:t>
            </a:r>
            <a:r>
              <a:rPr b="1" lang="en-US" sz="3000" spc="-1" strike="noStrike">
                <a:solidFill>
                  <a:srgbClr val="000000"/>
                </a:solidFill>
                <a:latin typeface="Arial"/>
              </a:rPr>
              <a:t>francesa</a:t>
            </a:r>
            <a:r>
              <a:rPr b="0" lang="en-US" sz="3000" spc="-1" strike="noStrike">
                <a:solidFill>
                  <a:srgbClr val="000000"/>
                </a:solidFill>
                <a:latin typeface="Arial"/>
              </a:rPr>
              <a:t> cresceu e, hoje, é similar à norte-americana. A França ocupa o sexto lugar na produção agrícola mundial (aprox. 3%), logo após a </a:t>
            </a:r>
            <a:r>
              <a:rPr b="1" lang="en-US" sz="3000" spc="-1" strike="noStrike">
                <a:solidFill>
                  <a:srgbClr val="000000"/>
                </a:solidFill>
                <a:latin typeface="Arial"/>
              </a:rPr>
              <a:t>Federação Russa</a:t>
            </a:r>
            <a:r>
              <a:rPr b="0" lang="en-US" sz="3000" spc="-1" strike="noStrike">
                <a:solidFill>
                  <a:srgbClr val="000000"/>
                </a:solidFill>
                <a:latin typeface="Arial"/>
              </a:rPr>
              <a:t> (3,6%);</a:t>
            </a:r>
            <a:endParaRPr b="0" lang="en-US" sz="3000" spc="-1" strike="noStrike">
              <a:solidFill>
                <a:srgbClr val="000000"/>
              </a:solidFill>
              <a:latin typeface="Arial"/>
            </a:endParaRPr>
          </a:p>
          <a:p>
            <a:pPr marL="343080" indent="-343080" algn="just">
              <a:lnSpc>
                <a:spcPct val="90000"/>
              </a:lnSpc>
              <a:spcBef>
                <a:spcPts val="1125"/>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lemanha</a:t>
            </a:r>
            <a:r>
              <a:rPr b="0" lang="en-US" sz="3000" spc="-1" strike="noStrike">
                <a:solidFill>
                  <a:srgbClr val="000000"/>
                </a:solidFill>
                <a:latin typeface="Arial"/>
              </a:rPr>
              <a:t>, </a:t>
            </a:r>
            <a:r>
              <a:rPr b="1" lang="en-US" sz="3000" spc="-1" strike="noStrike">
                <a:solidFill>
                  <a:srgbClr val="000000"/>
                </a:solidFill>
                <a:latin typeface="Arial"/>
              </a:rPr>
              <a:t>Itália</a:t>
            </a:r>
            <a:r>
              <a:rPr b="0" lang="en-US" sz="3000" spc="-1" strike="noStrike">
                <a:solidFill>
                  <a:srgbClr val="000000"/>
                </a:solidFill>
                <a:latin typeface="Arial"/>
              </a:rPr>
              <a:t> e </a:t>
            </a:r>
            <a:r>
              <a:rPr b="1" lang="en-US" sz="3000" spc="-1" strike="noStrike">
                <a:solidFill>
                  <a:srgbClr val="000000"/>
                </a:solidFill>
                <a:latin typeface="Arial"/>
              </a:rPr>
              <a:t>Indonésia</a:t>
            </a:r>
            <a:r>
              <a:rPr b="0" lang="en-US" sz="3000" spc="-1" strike="noStrike">
                <a:solidFill>
                  <a:srgbClr val="000000"/>
                </a:solidFill>
                <a:latin typeface="Arial"/>
              </a:rPr>
              <a:t> respectivamente ocupam a 6ª, 8ª e 9ª posição no ranking, com 2,2%; 1,9% e 1,8% da produção total;</a:t>
            </a:r>
            <a:endParaRPr b="0" lang="en-US" sz="3000" spc="-1" strike="noStrike">
              <a:solidFill>
                <a:srgbClr val="000000"/>
              </a:solidFill>
              <a:latin typeface="Arial"/>
            </a:endParaRPr>
          </a:p>
          <a:p>
            <a:pPr marL="343080" indent="-343080" algn="just">
              <a:lnSpc>
                <a:spcPct val="90000"/>
              </a:lnSpc>
              <a:spcBef>
                <a:spcPts val="1125"/>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m conjunto, estes 9 países respondem por quase 2/3 da produção mundial de alimentos.</a:t>
            </a:r>
            <a:endParaRPr b="0" lang="en-US" sz="3000" spc="-1" strike="noStrike">
              <a:solidFill>
                <a:srgbClr val="000000"/>
              </a:solidFill>
              <a:latin typeface="Arial"/>
            </a:endParaRPr>
          </a:p>
        </p:txBody>
      </p:sp>
      <p:sp>
        <p:nvSpPr>
          <p:cNvPr id="64" name="Text Box 3"/>
          <p:cNvSpPr/>
          <p:nvPr/>
        </p:nvSpPr>
        <p:spPr>
          <a:xfrm>
            <a:off x="108000" y="5445000"/>
            <a:ext cx="8928000" cy="9471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O gráfico seguinte (defasado) reproduz a situação em 199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Figure B (continued)"/>
          <p:cNvPicPr/>
          <p:nvPr/>
        </p:nvPicPr>
        <p:blipFill>
          <a:blip r:embed="rId1"/>
          <a:stretch/>
        </p:blipFill>
        <p:spPr>
          <a:xfrm>
            <a:off x="971640" y="44280"/>
            <a:ext cx="7089840" cy="671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6"/>
          <p:cNvSpPr/>
          <p:nvPr/>
        </p:nvSpPr>
        <p:spPr>
          <a:xfrm>
            <a:off x="611280" y="1197000"/>
            <a:ext cx="7991280" cy="4572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225"/>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do o tamanho da população de China, o excelente desempenho deste país na produção de alimentos não foi suficiente para retirá-lo da posição de importador líquido. Diferentemente, a Índia alcançou uma posição de exportador líquido, mas sua produção excedentária é relativamente pequena. </a:t>
            </a:r>
            <a:endParaRPr b="0" lang="en-US" sz="2800" spc="-1" strike="noStrike">
              <a:solidFill>
                <a:srgbClr val="000000"/>
              </a:solidFill>
              <a:latin typeface="Arial"/>
            </a:endParaRPr>
          </a:p>
        </p:txBody>
      </p:sp>
      <p:sp>
        <p:nvSpPr>
          <p:cNvPr id="67" name="Text Box 7"/>
          <p:cNvSpPr/>
          <p:nvPr/>
        </p:nvSpPr>
        <p:spPr>
          <a:xfrm>
            <a:off x="111240" y="5824440"/>
            <a:ext cx="8997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225"/>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É isso o que se observa no mapa do próximo sl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mapa da balança com de alimentos 2000-02"/>
          <p:cNvPicPr/>
          <p:nvPr/>
        </p:nvPicPr>
        <p:blipFill>
          <a:blip r:embed="rId1"/>
          <a:stretch/>
        </p:blipFill>
        <p:spPr>
          <a:xfrm>
            <a:off x="539640" y="404640"/>
            <a:ext cx="8064720" cy="6858000"/>
          </a:xfrm>
          <a:prstGeom prst="rect">
            <a:avLst/>
          </a:prstGeom>
          <a:ln w="0">
            <a:noFill/>
          </a:ln>
        </p:spPr>
      </p:pic>
      <p:sp>
        <p:nvSpPr>
          <p:cNvPr id="69" name="PlaceHolder 1"/>
          <p:cNvSpPr>
            <a:spLocks noGrp="1"/>
          </p:cNvSpPr>
          <p:nvPr>
            <p:ph type="title"/>
          </p:nvPr>
        </p:nvSpPr>
        <p:spPr>
          <a:xfrm>
            <a:off x="34920" y="-27360"/>
            <a:ext cx="9577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Os determinantes da crise financeira “mundial”</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324000" y="549360"/>
            <a:ext cx="8569080" cy="5861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Mas se o sucesso de China e Índia não os converte em competidores expressivos no mercado mundial,  a capacidade demonstrada por estes países para ampliarem a produção e a produtividade internas lhes permite adotar políticas seletivas de importação, que se associam a políticas de reconversão produtiva interna, voltadas à melhor exploração de suas disponibilidades relativas de recursos (muita mão-de-obra; pouca terra);</a:t>
            </a:r>
            <a:endParaRPr b="0" lang="en-US" sz="2800" spc="-1" strike="noStrike">
              <a:solidFill>
                <a:srgbClr val="000000"/>
              </a:solidFill>
              <a:latin typeface="Arial"/>
            </a:endParaRPr>
          </a:p>
          <a:p>
            <a:pPr algn="just">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Ou, dito de outra forma: a China (secundada pela Índia) estão tentando “empurrar” para a “nova periferia” a produção de bens agrícolas intensivos em terra e de menor valor agregad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108000" y="404640"/>
            <a:ext cx="886140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ultaneamente, tendo em vista as taxas igualmente elevadas de crescimento da produtividade agrícola nos EUA, França e Alemanha – que consolidam e aprofundam suas posições de exportadores líquidos -  o mercado mundial de alimentos tende a se mostrar crescentemente competitivo ao longo das últimas décadas.</a:t>
            </a:r>
            <a:endParaRPr b="0" lang="en-US" sz="2800" spc="-1" strike="noStrike">
              <a:solidFill>
                <a:srgbClr val="000000"/>
              </a:solidFill>
              <a:latin typeface="Arial"/>
            </a:endParaRPr>
          </a:p>
        </p:txBody>
      </p:sp>
      <p:sp>
        <p:nvSpPr>
          <p:cNvPr id="72" name="Text Box 3"/>
          <p:cNvSpPr/>
          <p:nvPr/>
        </p:nvSpPr>
        <p:spPr>
          <a:xfrm>
            <a:off x="1625760" y="4152960"/>
            <a:ext cx="719424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 resultado agregado destes movimentos é o fracasso da Rodada do Uruguay e a estruturalização do impasse da assim chamada “Rodada de Doha”. Nos termos da FAO, no relatório já citado</a:t>
            </a:r>
            <a:r>
              <a:rPr b="0" lang="pt-BR"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4"/>
          <p:cNvSpPr/>
          <p:nvPr/>
        </p:nvSpPr>
        <p:spPr>
          <a:xfrm>
            <a:off x="468360" y="1020600"/>
            <a:ext cx="8351640" cy="4218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In April 1994, the Final Act of the Uruguay Round of MTNs was signed in Marrakesh. Launched in 1986, the Round concluded with an agreement to create the World Trade Organization (WTO) to replace GATT. The State of Food and Agriculture 1995 reported that, given the importance of the issues and the seven years of strenuous negotiations involved, the outcome of the Uruguay Round in terms of market access and reductions in domestic support and export subsidization fell short of what might have been expected. Agricultural protectionism remained high and was likely to continue to plague agricultural markets in traditional and new forms in the future”. </a:t>
            </a:r>
            <a:endParaRPr b="0" lang="en-US" sz="2000" spc="-1" strike="noStrike">
              <a:solidFill>
                <a:srgbClr val="000000"/>
              </a:solidFill>
              <a:latin typeface="Arial"/>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TE OF FOOD AND AGRICULTURE (2000)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5"/>
          <p:cNvSpPr/>
          <p:nvPr/>
        </p:nvSpPr>
        <p:spPr>
          <a:xfrm>
            <a:off x="34920" y="1014480"/>
            <a:ext cx="9074160" cy="48042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Rodada de Doha: uma década sem qualquer avanço substantivo.</a:t>
            </a:r>
            <a:endParaRPr b="0" lang="en-US" sz="2800" spc="-1" strike="noStrike">
              <a:solidFill>
                <a:srgbClr val="000000"/>
              </a:solidFill>
              <a:latin typeface="Arial"/>
            </a:endParaRPr>
          </a:p>
          <a:p>
            <a:pPr algn="just">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Formalmente, EUA e Europa (com apoio da WTO, Banco Mundial, e dos movimentos camponeses europeus e americanos) vem procurando alterar os padrões de subsídios, que ganham a forma de “programas de defesa do meio ambiente” e pagamentos pela “não utilização de recursos naturais” (from amber box to green bo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179280" y="476280"/>
            <a:ext cx="8785440" cy="6121440"/>
          </a:xfrm>
          <a:prstGeom prst="rect">
            <a:avLst/>
          </a:prstGeom>
          <a:noFill/>
          <a:ln w="0">
            <a:noFill/>
          </a:ln>
        </p:spPr>
        <p:txBody>
          <a:bodyPr anchor="t">
            <a:normAutofit/>
          </a:bodyPr>
          <a:p>
            <a:pPr marL="343080" indent="-343080" algn="just">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ão obstante, como muito bem denunciam diversas entidades defensoras do livre-comércio de produtos agropecuários como forma de alavancagem do desenvolvimento endógeno da periferia (como Oxfam, Caritas, etc.), diversos programas considerados “</a:t>
            </a:r>
            <a:r>
              <a:rPr b="0" i="1" lang="en-US" sz="2800" spc="-1" strike="noStrike">
                <a:solidFill>
                  <a:srgbClr val="000000"/>
                </a:solidFill>
                <a:latin typeface="Arial"/>
              </a:rPr>
              <a:t>green</a:t>
            </a:r>
            <a:r>
              <a:rPr b="0" lang="en-US" sz="2800" spc="-1" strike="noStrike">
                <a:solidFill>
                  <a:srgbClr val="000000"/>
                </a:solidFill>
                <a:latin typeface="Arial"/>
              </a:rPr>
              <a:t>” – como os programas governamentais de assistência nutricional – distorcem, sim, o mercado, ao permitirem aos governos centrais comprarem bens agrícolas acima do preço do mercado internacional para distribuição gratui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274680"/>
            <a:ext cx="8229600" cy="58514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A economia gaúcha vem passando por um processo acelerado e extremamente preocupante de concentração espacial da renda e da riqueza. </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O mapa temático reproduzido no próximo slide nos oferece uma expressão clara e dramática deste processo.</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le estão representados os padrões de crescimento demográfico dos 496 municípios gaúchos atualmente existentes entre 1991 e 200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4"/>
          <p:cNvSpPr/>
          <p:nvPr/>
        </p:nvSpPr>
        <p:spPr>
          <a:xfrm>
            <a:off x="684360" y="1341360"/>
            <a:ext cx="8277120" cy="2836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 acordo com a USDA, os dispêndios com programas “</a:t>
            </a:r>
            <a:r>
              <a:rPr b="0" i="1" lang="en-US" sz="2800" spc="-1" strike="noStrike">
                <a:solidFill>
                  <a:srgbClr val="000000"/>
                </a:solidFill>
                <a:latin typeface="Arial"/>
              </a:rPr>
              <a:t>green box</a:t>
            </a:r>
            <a:r>
              <a:rPr b="0" lang="en-US" sz="2800" spc="-1" strike="noStrike">
                <a:solidFill>
                  <a:srgbClr val="000000"/>
                </a:solidFill>
                <a:latin typeface="Arial"/>
              </a:rPr>
              <a:t>” de padrão assistencial cresceram, nos EUA, entre 1995 e 2007, de US$ 46 bilhões para US$ 76,2 bilhões.</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este respeito, veja-se </a:t>
            </a:r>
            <a:r>
              <a:rPr b="0" lang="en-US" sz="2000" spc="-1" strike="noStrike" u="sng">
                <a:solidFill>
                  <a:srgbClr val="009999"/>
                </a:solidFill>
                <a:uFillTx/>
                <a:latin typeface="Arial"/>
                <a:hlinkClick r:id="rId1"/>
              </a:rPr>
              <a:t>http://www.ers.usda.gov/Briefing/FarmPolicy/gov-pay.ht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457200" y="404280"/>
            <a:ext cx="8229600" cy="4526280"/>
          </a:xfrm>
          <a:prstGeom prst="rect">
            <a:avLst/>
          </a:prstGeom>
          <a:noFill/>
          <a:ln w="0">
            <a:noFill/>
          </a:ln>
        </p:spPr>
        <p:txBody>
          <a:bodyPr anchor="t">
            <a:normAutofit fontScale="84000"/>
          </a:bodyPr>
          <a:p>
            <a:pPr marL="288000" indent="-28800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o se isto não bastasse, os dispêndios dos países centrais também têm crescido substancialmente através do pagamento aos pequenos produtores para diminuição da área plantada e preservação do solo e do eco-sistema.</a:t>
            </a:r>
            <a:endParaRPr b="0" lang="en-US" sz="2800" spc="-1" strike="noStrike">
              <a:solidFill>
                <a:srgbClr val="000000"/>
              </a:solidFill>
              <a:latin typeface="Arial"/>
            </a:endParaRPr>
          </a:p>
          <a:p>
            <a:pPr marL="2880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000" indent="-28800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speito destes programas terem, de fato, um menor impacto distorcivo do mercado (</a:t>
            </a:r>
            <a:r>
              <a:rPr b="0" i="1" lang="en-US" sz="2800" spc="-1" strike="noStrike">
                <a:solidFill>
                  <a:srgbClr val="000000"/>
                </a:solidFill>
                <a:latin typeface="Arial"/>
              </a:rPr>
              <a:t>vis-à-vis </a:t>
            </a:r>
            <a:r>
              <a:rPr b="0" lang="en-US" sz="2800" spc="-1" strike="noStrike">
                <a:solidFill>
                  <a:srgbClr val="000000"/>
                </a:solidFill>
                <a:latin typeface="Arial"/>
              </a:rPr>
              <a:t>os programas tradicionais de subsídios), eles impõem um peso fiscal maior aos estados nacionais desenvolvidos, que não contam, sequer, com estoques de mercadorias para se ressarcirem de parte dos dispênd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179280" y="402840"/>
            <a:ext cx="8909280" cy="4527720"/>
          </a:xfrm>
          <a:prstGeom prst="rect">
            <a:avLst/>
          </a:prstGeom>
          <a:noFill/>
          <a:ln w="0">
            <a:noFill/>
          </a:ln>
        </p:spPr>
        <p:txBody>
          <a:bodyPr anchor="t">
            <a:normAutofit fontScale="87000"/>
          </a:bodyPr>
          <a:p>
            <a:pPr marL="298440" indent="-298440"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uma conjuntura de crise financeira e fiscal global, estes programas podem ser paulatinamente abandonados (ou inadequadamente fiscalizados, como aponta a Oxfam) gerando uma nova pressão de oferta de alimentos no mercado mundial. Vale observar que, segundo o USDA, programas deste padrão já retiraram de uso </a:t>
            </a:r>
            <a:r>
              <a:rPr b="1" lang="en-US" sz="2700" spc="-1" strike="noStrike">
                <a:solidFill>
                  <a:srgbClr val="000000"/>
                </a:solidFill>
                <a:latin typeface="Arial"/>
              </a:rPr>
              <a:t>30 milhões de ha de terra apenas nos EUA. </a:t>
            </a:r>
            <a:endParaRPr b="0" lang="en-US" sz="2700" spc="-1" strike="noStrike">
              <a:solidFill>
                <a:srgbClr val="000000"/>
              </a:solidFill>
              <a:latin typeface="Arial"/>
            </a:endParaRPr>
          </a:p>
          <a:p>
            <a:pPr marL="298440" indent="0" algn="just">
              <a:lnSpc>
                <a:spcPct val="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98440" indent="-298440" algn="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u="sng">
                <a:solidFill>
                  <a:srgbClr val="009999"/>
                </a:solidFill>
                <a:uFillTx/>
                <a:latin typeface="Arial"/>
                <a:hlinkClick r:id="rId1"/>
              </a:rPr>
              <a:t>www.ers.usda.gov/publications/AIB728/aib728d.pdf</a:t>
            </a:r>
            <a:endParaRPr b="0" lang="en-US" sz="1900" spc="-1" strike="noStrike">
              <a:solidFill>
                <a:srgbClr val="000000"/>
              </a:solidFill>
              <a:latin typeface="Arial"/>
            </a:endParaRPr>
          </a:p>
          <a:p>
            <a:pPr marL="298440" indent="0" algn="just">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98440" indent="-298440"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ma idéia da magnitude desta área,</a:t>
            </a:r>
            <a:r>
              <a:rPr b="1" lang="en-US" sz="2700" spc="-1" strike="noStrike">
                <a:solidFill>
                  <a:srgbClr val="000000"/>
                </a:solidFill>
                <a:latin typeface="Arial"/>
              </a:rPr>
              <a:t>toda a área nacional empregada em agricultura temporária não chega a 76 milhões de ha </a:t>
            </a:r>
            <a:r>
              <a:rPr b="0" lang="en-US" sz="2700" spc="-1" strike="noStrike">
                <a:solidFill>
                  <a:srgbClr val="000000"/>
                </a:solidFill>
                <a:latin typeface="Arial"/>
              </a:rPr>
              <a:t>(Censo Agropec., 2006).</a:t>
            </a:r>
            <a:endParaRPr b="0" lang="en-US" sz="2700" spc="-1" strike="noStrike">
              <a:solidFill>
                <a:srgbClr val="000000"/>
              </a:solidFill>
              <a:latin typeface="Arial"/>
            </a:endParaRPr>
          </a:p>
          <a:p>
            <a:pPr marL="298440" indent="0" algn="just">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98440" indent="-298440" algn="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respeito das distorções subjacentes ao padrão regulatório da produção agrícola reconhecido como legítimo e não  distorcivo pela WTO, recomendamos fortemente a leitura de “</a:t>
            </a:r>
            <a:r>
              <a:rPr b="0" i="1" lang="en-US" sz="1400" spc="-1" strike="noStrike">
                <a:solidFill>
                  <a:srgbClr val="000000"/>
                </a:solidFill>
                <a:latin typeface="Arial"/>
              </a:rPr>
              <a:t>Green, but not clean</a:t>
            </a:r>
            <a:r>
              <a:rPr b="0" lang="en-US" sz="1400" spc="-1" strike="noStrike">
                <a:solidFill>
                  <a:srgbClr val="000000"/>
                </a:solidFill>
                <a:latin typeface="Arial"/>
              </a:rPr>
              <a:t>”, no site da Oxfam: </a:t>
            </a:r>
            <a:r>
              <a:rPr b="0" lang="pt-BR" sz="1400" spc="-1" strike="noStrike" u="sng">
                <a:solidFill>
                  <a:srgbClr val="009999"/>
                </a:solidFill>
                <a:uFillTx/>
                <a:latin typeface="Arial"/>
                <a:hlinkClick r:id="rId2"/>
              </a:rPr>
              <a:t>http://www.oxfam.org/en/policy/bn051115-green-box-subsidies</a:t>
            </a:r>
            <a:r>
              <a:rPr b="0" lang="pt-BR" sz="1400" spc="-1" strike="noStrike">
                <a:solidFill>
                  <a:srgbClr val="000000"/>
                </a:solidFill>
                <a:latin typeface="Arial"/>
              </a:rPr>
              <a:t> </a:t>
            </a:r>
            <a:endParaRPr b="0" lang="en-US" sz="1400" spc="-1" strike="noStrike">
              <a:solidFill>
                <a:srgbClr val="000000"/>
              </a:solidFill>
              <a:latin typeface="Arial"/>
            </a:endParaRPr>
          </a:p>
          <a:p>
            <a:pPr marL="298440" indent="0" algn="just">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O enorme potencial de ampliação de oferta e seus desdobramentos</a:t>
            </a:r>
            <a:endParaRPr b="0" lang="en-US" sz="32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fontScale="90000"/>
          </a:bodyPr>
          <a:p>
            <a:pPr marL="308520" indent="-3085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 despeito do que pretendem neo-malthusianos e catastrofistas de todos os matizes, o potencial de ampliação de oferta agrícola é enorme no mundo. </a:t>
            </a:r>
            <a:endParaRPr b="0" lang="en-US" sz="2000" spc="-1" strike="noStrike">
              <a:solidFill>
                <a:srgbClr val="000000"/>
              </a:solidFill>
              <a:latin typeface="Arial"/>
            </a:endParaRPr>
          </a:p>
          <a:p>
            <a:pPr marL="308520" indent="-3085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e acordo com o OECD-FAO Agricultural Outlook 2009-2018, a área cultivada no mundo hoje é de aproximadamente 1,4 bilhões de ha. E o potencial aberto ao cultivo na América do Sul e na África é de 4,3 bilhões de ha. </a:t>
            </a:r>
            <a:endParaRPr b="0" lang="en-US" sz="2000" spc="-1" strike="noStrike">
              <a:solidFill>
                <a:srgbClr val="000000"/>
              </a:solidFill>
              <a:latin typeface="Arial"/>
            </a:endParaRPr>
          </a:p>
          <a:p>
            <a:pPr marL="308520" indent="-3085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e acordo com o mesmo relatório, mesmo se adotamos as exigências mais fortes de sustentação dos biomas naturais, haveria, no mínimo, 1,56 bilhões de ha a serem ocupados no mundo. </a:t>
            </a:r>
            <a:endParaRPr b="0" lang="en-US" sz="2000" spc="-1" strike="noStrike">
              <a:solidFill>
                <a:srgbClr val="000000"/>
              </a:solidFill>
              <a:latin typeface="Arial"/>
            </a:endParaRPr>
          </a:p>
          <a:p>
            <a:pPr marL="308520" indent="-3085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 se somarmos a isto o fato de que em pouco mais de 10% da área cultivada atualmente opera-se com as tecnologias capazes de garantir máxima produtividade por área, somos levados a concluir que a produção de alimentos no mundo poderia quadruplicar sem qualquer desmatamento ou cultivo de áreas fadadas à erosão e à rápida perda de fertilidade e capacidade produtiv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590400" y="836640"/>
            <a:ext cx="8229600" cy="4525920"/>
          </a:xfrm>
          <a:prstGeom prst="rect">
            <a:avLst/>
          </a:prstGeom>
          <a:noFill/>
          <a:ln w="0">
            <a:noFill/>
          </a:ln>
        </p:spPr>
        <p:txBody>
          <a:bodyPr anchor="t">
            <a:normAutofit fontScale="93000"/>
          </a:bodyPr>
          <a:p>
            <a:pPr marL="318960" indent="-31896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questão que fica, então, é: como operar diante de uma realidade marcada, de um lado, pela presença de excedentes estruturais da oferta de alimentos por parte dos países desenvolvidos e, de outro, por uma crescente capacidade produzir internamente alimentos baseados na utilização intensiva de mão-de-obra por parte dos principais países importadores de bens agropecuários do mundo, como China e índia.</a:t>
            </a:r>
            <a:endParaRPr b="0" lang="en-US" sz="2400" spc="-1" strike="noStrike">
              <a:solidFill>
                <a:srgbClr val="000000"/>
              </a:solidFill>
              <a:latin typeface="Arial"/>
            </a:endParaRPr>
          </a:p>
          <a:p>
            <a:pPr marL="3189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r nos parecer que o ponto de partida necessário para articular uma resposta consistente a esta questão candente envolva uma avaliação circunstanciada da dinâmica de crescimento e das políticas agropecuárias dos principais países produtores e consumidores de bens agropecuári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5092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incipais commodities em valor</a:t>
            </a:r>
            <a:br>
              <a:rPr sz="3600"/>
            </a:br>
            <a:endParaRPr b="0" lang="en-US" sz="3600" spc="-1" strike="noStrike">
              <a:solidFill>
                <a:srgbClr val="000000"/>
              </a:solidFill>
              <a:latin typeface="Arial"/>
            </a:endParaRPr>
          </a:p>
        </p:txBody>
      </p:sp>
      <p:pic>
        <p:nvPicPr>
          <p:cNvPr id="83" name="Picture 5" descr="ChartPic_000132"/>
          <p:cNvPicPr/>
          <p:nvPr/>
        </p:nvPicPr>
        <p:blipFill>
          <a:blip r:embed="rId1"/>
          <a:stretch/>
        </p:blipFill>
        <p:spPr>
          <a:xfrm>
            <a:off x="0" y="934920"/>
            <a:ext cx="9140760" cy="6023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4" name=""/>
          <p:cNvGraphicFramePr/>
          <p:nvPr/>
        </p:nvGraphicFramePr>
        <p:xfrm>
          <a:off x="457200" y="404640"/>
          <a:ext cx="8229600" cy="6134400"/>
        </p:xfrm>
        <a:graphic>
          <a:graphicData uri="http://schemas.openxmlformats.org/drawingml/2006/table">
            <a:tbl>
              <a:tblPr/>
              <a:tblGrid>
                <a:gridCol w="1438200"/>
                <a:gridCol w="3009960"/>
                <a:gridCol w="1836720"/>
                <a:gridCol w="1944720"/>
              </a:tblGrid>
              <a:tr h="604800">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Rank</a:t>
                      </a:r>
                      <a:endParaRPr b="0" lang="en-US" sz="16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Commodity</a:t>
                      </a:r>
                      <a:endParaRPr b="0" lang="en-US" sz="16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Production </a:t>
                      </a:r>
                      <a:endParaRPr b="0" lang="en-US" sz="1600" spc="-1" strike="noStrike">
                        <a:solidFill>
                          <a:srgbClr val="000000"/>
                        </a:solidFill>
                        <a:latin typeface="Arial"/>
                      </a:endParaRPr>
                    </a:p>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Int $1000)</a:t>
                      </a:r>
                      <a:endParaRPr b="0" lang="en-US" sz="16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Production (MT)</a:t>
                      </a:r>
                      <a:endParaRPr b="0" lang="en-US" sz="1600" spc="-1" strike="noStrike">
                        <a:solidFill>
                          <a:srgbClr val="000000"/>
                        </a:solidFill>
                        <a:latin typeface="Arial"/>
                      </a:endParaRPr>
                    </a:p>
                  </a:txBody>
                  <a:tcPr anchor="b" marL="90000" marR="90000">
                    <a:lnL>
                      <a:noFill/>
                    </a:lnL>
                    <a:lnR>
                      <a:noFill/>
                    </a:lnR>
                    <a:lnT>
                      <a:noFill/>
                    </a:lnT>
                    <a:lnB>
                      <a:noFill/>
                    </a:lnB>
                    <a:solidFill>
                      <a:srgbClr val="c0c0c0"/>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1</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8080"/>
                          </a:solidFill>
                          <a:latin typeface="Arial"/>
                          <a:ea typeface="Arial"/>
                        </a:rPr>
                        <a:t>Cow milk, whole, fresh</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144.976.5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566.850.186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2</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8080"/>
                          </a:solidFill>
                          <a:latin typeface="Arial"/>
                          <a:ea typeface="Arial"/>
                        </a:rPr>
                        <a:t>Rice, paddy</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130.994.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659.590.623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3</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8080"/>
                          </a:solidFill>
                          <a:latin typeface="Arial"/>
                          <a:ea typeface="Arial"/>
                        </a:rPr>
                        <a:t>Indigenous Cattle Meat</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114.771.4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55.491.236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4</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8080"/>
                          </a:solidFill>
                          <a:latin typeface="Arial"/>
                          <a:ea typeface="Arial"/>
                        </a:rPr>
                        <a:t>Indigenous Pigmeat</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96.440.38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95.235.648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5</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8080"/>
                          </a:solidFill>
                          <a:latin typeface="Arial"/>
                          <a:ea typeface="Arial"/>
                        </a:rPr>
                        <a:t>Indigenous Chicken Meat</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85.618.38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73.402.695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6</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8080"/>
                          </a:solidFill>
                          <a:latin typeface="Arial"/>
                          <a:ea typeface="Arial"/>
                        </a:rPr>
                        <a:t>Wheat</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72.917.38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605.994.942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7</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8080"/>
                          </a:solidFill>
                          <a:latin typeface="Arial"/>
                          <a:ea typeface="Arial"/>
                        </a:rPr>
                        <a:t>Hen eggs, in shell</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47.921.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58.961.474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8</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8080"/>
                          </a:solidFill>
                          <a:latin typeface="Arial"/>
                          <a:ea typeface="Arial"/>
                        </a:rPr>
                        <a:t>Soybeans</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44.666.58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220.532.612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9</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8080"/>
                          </a:solidFill>
                          <a:latin typeface="Arial"/>
                          <a:ea typeface="Arial"/>
                        </a:rPr>
                        <a:t>Buffalo milk, whole, fresh</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42.629.46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86.574.529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10</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8080"/>
                          </a:solidFill>
                          <a:latin typeface="Arial"/>
                          <a:ea typeface="Arial"/>
                        </a:rPr>
                        <a:t>Vegetables fresh nes</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41.856.9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245.079.45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11</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8080"/>
                          </a:solidFill>
                          <a:latin typeface="Arial"/>
                          <a:ea typeface="Arial"/>
                        </a:rPr>
                        <a:t>Maize</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38.394.49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791.794.584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12</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8080"/>
                          </a:solidFill>
                          <a:latin typeface="Arial"/>
                          <a:ea typeface="Arial"/>
                        </a:rPr>
                        <a:t>Cotton lint</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37.736.33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25.420.57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13</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8080"/>
                          </a:solidFill>
                          <a:latin typeface="Arial"/>
                          <a:ea typeface="Arial"/>
                        </a:rPr>
                        <a:t>Potatoes</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34.821.63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309.344.247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14</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8080"/>
                          </a:solidFill>
                          <a:latin typeface="Arial"/>
                          <a:ea typeface="Arial"/>
                        </a:rPr>
                        <a:t>Sugar cane</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32.090.14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1.590.701.77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15</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8080"/>
                          </a:solidFill>
                          <a:latin typeface="Arial"/>
                          <a:ea typeface="Arial"/>
                        </a:rPr>
                        <a:t>Grapes</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31.183.82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67.221.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16</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8080"/>
                          </a:solidFill>
                          <a:latin typeface="Arial"/>
                          <a:ea typeface="Arial"/>
                        </a:rPr>
                        <a:t>Tomatoes</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30.327.2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129.942.416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17</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8080"/>
                          </a:solidFill>
                          <a:latin typeface="Arial"/>
                          <a:ea typeface="Arial"/>
                        </a:rPr>
                        <a:t>Apples</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18.832.01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65.970.706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18</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8080"/>
                          </a:solidFill>
                          <a:latin typeface="Arial"/>
                          <a:ea typeface="Arial"/>
                        </a:rPr>
                        <a:t>Groundnuts, with shell</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17.092.21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37.144.128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19</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8080"/>
                          </a:solidFill>
                          <a:latin typeface="Arial"/>
                          <a:ea typeface="Arial"/>
                        </a:rPr>
                        <a:t>Indigenous Sheep Meat</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15.910.86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8.042.813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20</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8080"/>
                          </a:solidFill>
                          <a:latin typeface="Arial"/>
                          <a:ea typeface="Arial"/>
                        </a:rPr>
                        <a:t>Cassav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14.051.95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214.515.149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4920" y="-18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incipais Commodities em Volume</a:t>
            </a:r>
            <a:endParaRPr b="0" lang="en-US" sz="3600" spc="-1" strike="noStrike">
              <a:solidFill>
                <a:srgbClr val="000000"/>
              </a:solidFill>
              <a:latin typeface="Arial"/>
            </a:endParaRPr>
          </a:p>
        </p:txBody>
      </p:sp>
      <p:pic>
        <p:nvPicPr>
          <p:cNvPr id="86" name="Picture 5" descr="ChartPic_000116"/>
          <p:cNvPicPr/>
          <p:nvPr/>
        </p:nvPicPr>
        <p:blipFill>
          <a:blip r:embed="rId1"/>
          <a:stretch/>
        </p:blipFill>
        <p:spPr>
          <a:xfrm>
            <a:off x="-36360" y="919080"/>
            <a:ext cx="9216720" cy="6181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08000" y="188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incipais Commodities em Volume</a:t>
            </a:r>
            <a:endParaRPr b="0" lang="en-US" sz="3600" spc="-1" strike="noStrike">
              <a:solidFill>
                <a:srgbClr val="000000"/>
              </a:solidFill>
              <a:latin typeface="Arial"/>
            </a:endParaRPr>
          </a:p>
        </p:txBody>
      </p:sp>
      <p:graphicFrame>
        <p:nvGraphicFramePr>
          <p:cNvPr id="88" name=""/>
          <p:cNvGraphicFramePr/>
          <p:nvPr/>
        </p:nvGraphicFramePr>
        <p:xfrm>
          <a:off x="395280" y="1144440"/>
          <a:ext cx="8229600" cy="5713560"/>
        </p:xfrm>
        <a:graphic>
          <a:graphicData uri="http://schemas.openxmlformats.org/drawingml/2006/table">
            <a:tbl>
              <a:tblPr/>
              <a:tblGrid>
                <a:gridCol w="1235160"/>
                <a:gridCol w="3200400"/>
                <a:gridCol w="1805040"/>
                <a:gridCol w="1989000"/>
              </a:tblGrid>
              <a:tr h="405000">
                <a:tc>
                  <a:txBody>
                    <a:bodyPr lIns="90000" rIns="90000" tIns="46800" bIns="46800" anchor="b">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Rank</a:t>
                      </a:r>
                      <a:endParaRPr b="0" lang="en-US" sz="16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Commodity</a:t>
                      </a:r>
                      <a:endParaRPr b="0" lang="en-US" sz="16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Production          (Int $1000)</a:t>
                      </a:r>
                      <a:endParaRPr b="0" lang="en-US" sz="16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Production (MT)</a:t>
                      </a:r>
                      <a:endParaRPr b="0" lang="en-US" sz="1600" spc="-1" strike="noStrike">
                        <a:solidFill>
                          <a:srgbClr val="000000"/>
                        </a:solidFill>
                        <a:latin typeface="Arial"/>
                      </a:endParaRPr>
                    </a:p>
                  </a:txBody>
                  <a:tcPr anchor="b" marL="90000" marR="90000">
                    <a:lnL>
                      <a:noFill/>
                    </a:lnL>
                    <a:lnR>
                      <a:noFill/>
                    </a:lnR>
                    <a:lnT>
                      <a:noFill/>
                    </a:lnT>
                    <a:lnB>
                      <a:noFill/>
                    </a:lnB>
                    <a:solidFill>
                      <a:srgbClr val="c0c0c0"/>
                    </a:solidFill>
                  </a:tcPr>
                </a:tc>
              </a:tr>
              <a:tr h="26676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Sugar cane</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32.090.14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590.701.77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496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2</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Maize</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38.394.49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791.794.584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532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3</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Rice, paddy</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30.994.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659.590.623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496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4</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Wheat</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72.917.38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605.994.942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496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5</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Cow milk, whole, fresh</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44.976.5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566.850.186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532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6</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Potatoes</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34.821.63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309.344.247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676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7</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Sugar beet</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0.907.03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46.713.216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496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8</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Vegetables fresh nes</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41.856.9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45.079.45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532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9</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Soybeans</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44.666.58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20.532.612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496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0</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Cassav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4.051.95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14.515.149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496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1</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Barley</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3.265.138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33.431.341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676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2</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Tomatoes</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30.327.2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29.942.416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532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3</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Sweet potatoes</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7.073.337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07.667.971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496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4</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Watermelons</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9.491.603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97.434.562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496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5</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Indigenous Pigmeat</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96.440.38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95.235.648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532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6</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Buffalo milk, whole, fresh</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42.629.46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86.574.529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496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7</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Bananas</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2.065.27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85.855.856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676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8</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Indigenous Chicken Meat</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85.618.38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73.402.695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532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9</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Cabbages and other brassicas</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9.417.104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68.918.014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496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20</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Grapes</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31.183.82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67.221.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08000" y="-27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iores produtores de leite</a:t>
            </a:r>
            <a:endParaRPr b="0" lang="en-US" sz="36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3200" spc="-1" strike="noStrike">
              <a:solidFill>
                <a:srgbClr val="000000"/>
              </a:solidFill>
              <a:latin typeface="Arial"/>
            </a:endParaRPr>
          </a:p>
        </p:txBody>
      </p:sp>
      <p:pic>
        <p:nvPicPr>
          <p:cNvPr id="91" name="Picture 5" descr="ChartPic_000071"/>
          <p:cNvPicPr/>
          <p:nvPr/>
        </p:nvPicPr>
        <p:blipFill>
          <a:blip r:embed="rId1"/>
          <a:stretch/>
        </p:blipFill>
        <p:spPr>
          <a:xfrm>
            <a:off x="-36360" y="1430280"/>
            <a:ext cx="9213840" cy="552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Espaço Reservado para Conteúdo 3" descr="mapa_intro.jpg"/>
          <p:cNvPicPr/>
          <p:nvPr/>
        </p:nvPicPr>
        <p:blipFill>
          <a:blip r:embed="rId1"/>
          <a:stretch/>
        </p:blipFill>
        <p:spPr>
          <a:xfrm>
            <a:off x="2000160" y="0"/>
            <a:ext cx="51768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6360" y="-27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ncipais produtores de leite</a:t>
            </a:r>
            <a:br>
              <a:rPr sz="3200"/>
            </a:br>
            <a:endParaRPr b="0" lang="en-US" sz="3200" spc="-1" strike="noStrike">
              <a:solidFill>
                <a:srgbClr val="000000"/>
              </a:solidFill>
              <a:latin typeface="Arial"/>
            </a:endParaRPr>
          </a:p>
        </p:txBody>
      </p:sp>
      <p:graphicFrame>
        <p:nvGraphicFramePr>
          <p:cNvPr id="93" name="Object 302"/>
          <p:cNvGraphicFramePr/>
          <p:nvPr/>
        </p:nvGraphicFramePr>
        <p:xfrm>
          <a:off x="1476360" y="728640"/>
          <a:ext cx="6191280" cy="5940360"/>
        </p:xfrm>
        <a:graphic>
          <a:graphicData uri="http://schemas.openxmlformats.org/presentationml/2006/ole">
            <p:oleObj progId="Excel.Sheet.12" r:id="rId1" spid="">
              <p:embed/>
              <p:pic>
                <p:nvPicPr>
                  <p:cNvPr id="94" name="Object 302" descr=""/>
                  <p:cNvPicPr/>
                  <p:nvPr/>
                </p:nvPicPr>
                <p:blipFill>
                  <a:blip r:embed="rId2"/>
                  <a:stretch/>
                </p:blipFill>
                <p:spPr>
                  <a:xfrm>
                    <a:off x="1476360" y="728640"/>
                    <a:ext cx="6191280" cy="594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5" descr="ChartPic_000160"/>
          <p:cNvPicPr/>
          <p:nvPr/>
        </p:nvPicPr>
        <p:blipFill>
          <a:blip r:embed="rId1"/>
          <a:stretch/>
        </p:blipFill>
        <p:spPr>
          <a:xfrm>
            <a:off x="-108000" y="1197000"/>
            <a:ext cx="9820440" cy="5638680"/>
          </a:xfrm>
          <a:prstGeom prst="rect">
            <a:avLst/>
          </a:prstGeom>
          <a:ln w="0">
            <a:noFill/>
          </a:ln>
        </p:spPr>
      </p:pic>
      <p:sp>
        <p:nvSpPr>
          <p:cNvPr id="96" name="Rectangle 6"/>
          <p:cNvSpPr/>
          <p:nvPr/>
        </p:nvSpPr>
        <p:spPr>
          <a:xfrm>
            <a:off x="34920" y="115920"/>
            <a:ext cx="9036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incipais prod. de carne bovin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8000" y="-100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dução mundial de carne bovina</a:t>
            </a:r>
            <a:endParaRPr b="0" lang="en-US" sz="3600" spc="-1" strike="noStrike">
              <a:solidFill>
                <a:srgbClr val="000000"/>
              </a:solidFill>
              <a:latin typeface="Arial"/>
            </a:endParaRPr>
          </a:p>
        </p:txBody>
      </p:sp>
      <p:graphicFrame>
        <p:nvGraphicFramePr>
          <p:cNvPr id="98" name=""/>
          <p:cNvGraphicFramePr/>
          <p:nvPr/>
        </p:nvGraphicFramePr>
        <p:xfrm>
          <a:off x="108000" y="907920"/>
          <a:ext cx="8905680" cy="5943600"/>
        </p:xfrm>
        <a:graphic>
          <a:graphicData uri="http://schemas.openxmlformats.org/drawingml/2006/table">
            <a:tbl>
              <a:tblPr/>
              <a:tblGrid>
                <a:gridCol w="1630440"/>
                <a:gridCol w="3531960"/>
                <a:gridCol w="1870200"/>
                <a:gridCol w="1873080"/>
              </a:tblGrid>
              <a:tr h="459000">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Rank</a:t>
                      </a:r>
                      <a:endParaRPr b="0" lang="en-US" sz="16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Area</a:t>
                      </a:r>
                      <a:endParaRPr b="0" lang="en-US" sz="16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Production       (Int $1000)</a:t>
                      </a:r>
                      <a:endParaRPr b="0" lang="en-US" sz="16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Production (MT)</a:t>
                      </a:r>
                      <a:endParaRPr b="0" lang="en-US" sz="1600" spc="-1" strike="noStrike">
                        <a:solidFill>
                          <a:srgbClr val="000000"/>
                        </a:solidFill>
                        <a:latin typeface="Arial"/>
                      </a:endParaRPr>
                    </a:p>
                  </a:txBody>
                  <a:tcPr anchor="b" marL="90000" marR="90000">
                    <a:lnL>
                      <a:noFill/>
                    </a:lnL>
                    <a:lnR>
                      <a:noFill/>
                    </a:lnR>
                    <a:lnT>
                      <a:noFill/>
                    </a:lnT>
                    <a:lnB>
                      <a:noFill/>
                    </a:lnB>
                    <a:solidFill>
                      <a:srgbClr val="c0c0c0"/>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United States of Americ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2.351.9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0.807.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2</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Brazil</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3.867.9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6.705.041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3</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Chin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2.073.45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5.837.434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4</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Argentin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6.163.723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980.12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5</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Mexico</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3.715.458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796.4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6</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France</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3.706.772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792.2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7</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Russian Federation</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3.473.268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679.302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8</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Canad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3.341.796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615.737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9</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Indi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652.28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282.36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0</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Germany</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543.984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230.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1</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Italy</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797.335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869.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2</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Colombi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695.403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819.716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3</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South Afric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635.286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790.65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4</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United Kingdom</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561.551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755.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5</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New Zealand</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365.772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660.341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6</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Pakistan</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356.607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655.91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7</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Ireland</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190.006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575.36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8</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Uruguay</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184.605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572.748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9</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Spain</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183.056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572.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20</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Uzbekistan</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138.716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550.562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Chart1" descr="ChartPic_000147"/>
          <p:cNvPicPr/>
          <p:nvPr/>
        </p:nvPicPr>
        <p:blipFill>
          <a:blip r:embed="rId1"/>
          <a:stretch/>
        </p:blipFill>
        <p:spPr>
          <a:xfrm>
            <a:off x="34920" y="1052640"/>
            <a:ext cx="9144000" cy="5864040"/>
          </a:xfrm>
          <a:prstGeom prst="rect">
            <a:avLst/>
          </a:prstGeom>
          <a:ln w="0">
            <a:noFill/>
          </a:ln>
        </p:spPr>
      </p:pic>
      <p:sp>
        <p:nvSpPr>
          <p:cNvPr id="100" name="PlaceHolder 1"/>
          <p:cNvSpPr>
            <a:spLocks noGrp="1"/>
          </p:cNvSpPr>
          <p:nvPr>
            <p:ph type="title"/>
          </p:nvPr>
        </p:nvSpPr>
        <p:spPr>
          <a:xfrm>
            <a:off x="34560" y="-100440"/>
            <a:ext cx="910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ncipais prod. de carne de suín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4560" y="43920"/>
            <a:ext cx="889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ção mundial de carne suína</a:t>
            </a:r>
            <a:endParaRPr b="0" lang="en-US" sz="4000" spc="-1" strike="noStrike">
              <a:solidFill>
                <a:srgbClr val="000000"/>
              </a:solidFill>
              <a:latin typeface="Arial"/>
            </a:endParaRPr>
          </a:p>
        </p:txBody>
      </p:sp>
      <p:graphicFrame>
        <p:nvGraphicFramePr>
          <p:cNvPr id="102" name=""/>
          <p:cNvGraphicFramePr/>
          <p:nvPr/>
        </p:nvGraphicFramePr>
        <p:xfrm>
          <a:off x="34920" y="1125360"/>
          <a:ext cx="9074160" cy="5821560"/>
        </p:xfrm>
        <a:graphic>
          <a:graphicData uri="http://schemas.openxmlformats.org/drawingml/2006/table">
            <a:tbl>
              <a:tblPr/>
              <a:tblGrid>
                <a:gridCol w="1362240"/>
                <a:gridCol w="3528720"/>
                <a:gridCol w="1989360"/>
                <a:gridCol w="2193840"/>
              </a:tblGrid>
              <a:tr h="5806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Rank</a:t>
                      </a:r>
                      <a:endParaRPr b="0" lang="en-US" sz="16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Area</a:t>
                      </a:r>
                      <a:endParaRPr b="0" lang="en-US" sz="16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Production (Int $1000)</a:t>
                      </a:r>
                      <a:endParaRPr b="0" lang="en-US" sz="16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Production (MT)</a:t>
                      </a:r>
                      <a:endParaRPr b="0" lang="en-US" sz="1600" spc="-1" strike="noStrike">
                        <a:solidFill>
                          <a:srgbClr val="000000"/>
                        </a:solidFill>
                        <a:latin typeface="Arial"/>
                      </a:endParaRPr>
                    </a:p>
                  </a:txBody>
                  <a:tcPr anchor="b" marL="90000" marR="90000">
                    <a:lnL>
                      <a:noFill/>
                    </a:lnL>
                    <a:lnR>
                      <a:noFill/>
                    </a:lnR>
                    <a:lnT>
                      <a:noFill/>
                    </a:lnT>
                    <a:lnB>
                      <a:noFill/>
                    </a:lnB>
                    <a:solidFill>
                      <a:srgbClr val="c0c0c0"/>
                    </a:solidFill>
                  </a:tcPr>
                </a:tc>
              </a:tr>
              <a:tr h="263880">
                <a:tc>
                  <a:txBody>
                    <a:bodyPr lIns="90000" rIns="90000" tIns="46800" bIns="46800" anchor="ctr">
                      <a:noAutofit/>
                    </a:bodyPr>
                    <a:p>
                      <a:pPr marL="343080" indent="-343080" algn="ct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Chin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44.534.62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43.978.294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3880">
                <a:tc>
                  <a:txBody>
                    <a:bodyPr lIns="90000" rIns="90000" tIns="46800" bIns="46800" anchor="ctr">
                      <a:noAutofit/>
                    </a:bodyPr>
                    <a:p>
                      <a:pPr marL="343080" indent="-343080" algn="ct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2</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United States of Americ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9.065.243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8.952.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3880">
                <a:tc>
                  <a:txBody>
                    <a:bodyPr lIns="90000" rIns="90000" tIns="46800" bIns="46800" anchor="ctr">
                      <a:noAutofit/>
                    </a:bodyPr>
                    <a:p>
                      <a:pPr marL="343080" indent="-343080" algn="ct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3</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Germany</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4.266.294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4.213.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3880">
                <a:tc>
                  <a:txBody>
                    <a:bodyPr lIns="90000" rIns="90000" tIns="46800" bIns="46800" anchor="ctr">
                      <a:noAutofit/>
                    </a:bodyPr>
                    <a:p>
                      <a:pPr marL="343080" indent="-343080" algn="ct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4</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Spain</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3.252.245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3.211.618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3880">
                <a:tc>
                  <a:txBody>
                    <a:bodyPr lIns="90000" rIns="90000" tIns="46800" bIns="46800" anchor="ctr">
                      <a:noAutofit/>
                    </a:bodyPr>
                    <a:p>
                      <a:pPr marL="343080" indent="-343080" algn="ct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5</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Canad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710.614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676.753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3880">
                <a:tc>
                  <a:txBody>
                    <a:bodyPr lIns="90000" rIns="90000" tIns="46800" bIns="46800" anchor="ctr">
                      <a:noAutofit/>
                    </a:bodyPr>
                    <a:p>
                      <a:pPr marL="343080" indent="-343080" algn="ct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6</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France</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285.551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257.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3880">
                <a:tc>
                  <a:txBody>
                    <a:bodyPr lIns="90000" rIns="90000" tIns="46800" bIns="46800" anchor="ctr">
                      <a:noAutofit/>
                    </a:bodyPr>
                    <a:p>
                      <a:pPr marL="343080" indent="-343080" algn="ct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7</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Viet Nam</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189.673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162.319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3880">
                <a:tc>
                  <a:txBody>
                    <a:bodyPr lIns="90000" rIns="90000" tIns="46800" bIns="46800" anchor="ctr">
                      <a:noAutofit/>
                    </a:bodyPr>
                    <a:p>
                      <a:pPr marL="343080" indent="-343080" algn="ct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8</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Brazil</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068.83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042.986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3880">
                <a:tc>
                  <a:txBody>
                    <a:bodyPr lIns="90000" rIns="90000" tIns="46800" bIns="46800" anchor="ctr">
                      <a:noAutofit/>
                    </a:bodyPr>
                    <a:p>
                      <a:pPr marL="343080" indent="-343080" algn="ct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9</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Poland</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939.225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915.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3880">
                <a:tc>
                  <a:txBody>
                    <a:bodyPr lIns="90000" rIns="90000" tIns="46800" bIns="46800" anchor="ctr">
                      <a:noAutofit/>
                    </a:bodyPr>
                    <a:p>
                      <a:pPr marL="343080" indent="-343080" algn="ct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0</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Denmark</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936.187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912.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3880">
                <a:tc>
                  <a:txBody>
                    <a:bodyPr lIns="90000" rIns="90000" tIns="46800" bIns="46800" anchor="ctr">
                      <a:noAutofit/>
                    </a:bodyPr>
                    <a:p>
                      <a:pPr marL="343080" indent="-343080" algn="ct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1</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Russian Federation</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864.432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841.141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3880">
                <a:tc>
                  <a:txBody>
                    <a:bodyPr lIns="90000" rIns="90000" tIns="46800" bIns="46800" anchor="ctr">
                      <a:noAutofit/>
                    </a:bodyPr>
                    <a:p>
                      <a:pPr marL="343080" indent="-343080" algn="ct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2</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Philippines</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637.879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617.418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3880">
                <a:tc>
                  <a:txBody>
                    <a:bodyPr lIns="90000" rIns="90000" tIns="46800" bIns="46800" anchor="ctr">
                      <a:noAutofit/>
                    </a:bodyPr>
                    <a:p>
                      <a:pPr marL="343080" indent="-343080" algn="ct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3</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Netherlands</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576.696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557.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3880">
                <a:tc>
                  <a:txBody>
                    <a:bodyPr lIns="90000" rIns="90000" tIns="46800" bIns="46800" anchor="ctr">
                      <a:noAutofit/>
                    </a:bodyPr>
                    <a:p>
                      <a:pPr marL="343080" indent="-343080" algn="ct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4</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Italy</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505.81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487.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3880">
                <a:tc>
                  <a:txBody>
                    <a:bodyPr lIns="90000" rIns="90000" tIns="46800" bIns="46800" anchor="ctr">
                      <a:noAutofit/>
                    </a:bodyPr>
                    <a:p>
                      <a:pPr marL="343080" indent="-343080" algn="ct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5</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Japan</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266.311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250.491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3880">
                <a:tc>
                  <a:txBody>
                    <a:bodyPr lIns="90000" rIns="90000" tIns="46800" bIns="46800" anchor="ctr">
                      <a:noAutofit/>
                    </a:bodyPr>
                    <a:p>
                      <a:pPr marL="343080" indent="-343080" algn="ct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6</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Mexico</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102.945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089.167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3880">
                <a:tc>
                  <a:txBody>
                    <a:bodyPr lIns="90000" rIns="90000" tIns="46800" bIns="46800" anchor="ctr">
                      <a:noAutofit/>
                    </a:bodyPr>
                    <a:p>
                      <a:pPr marL="343080" indent="-343080" algn="ct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7</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Korea, Republic of</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056.4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043.203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3880">
                <a:tc>
                  <a:txBody>
                    <a:bodyPr lIns="90000" rIns="90000" tIns="46800" bIns="46800" anchor="ctr">
                      <a:noAutofit/>
                    </a:bodyPr>
                    <a:p>
                      <a:pPr marL="343080" indent="-343080" algn="ct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8</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Thailand</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895.264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884.08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3880">
                <a:tc>
                  <a:txBody>
                    <a:bodyPr lIns="90000" rIns="90000" tIns="46800" bIns="46800" anchor="ctr">
                      <a:noAutofit/>
                    </a:bodyPr>
                    <a:p>
                      <a:pPr marL="343080" indent="-343080" algn="ct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9</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United Kingdom</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684.551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676.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3880">
                <a:tc>
                  <a:txBody>
                    <a:bodyPr lIns="90000" rIns="90000" tIns="46800" bIns="46800" anchor="ctr">
                      <a:noAutofit/>
                    </a:bodyPr>
                    <a:p>
                      <a:pPr marL="343080" indent="-343080" algn="ct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20</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Ukraine</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639.051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631.068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4920" y="115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incipais produtores de frango</a:t>
            </a:r>
            <a:endParaRPr b="0" lang="en-US" sz="4000" spc="-1" strike="noStrike">
              <a:solidFill>
                <a:srgbClr val="000000"/>
              </a:solidFill>
              <a:latin typeface="Arial"/>
            </a:endParaRPr>
          </a:p>
        </p:txBody>
      </p:sp>
      <p:pic>
        <p:nvPicPr>
          <p:cNvPr id="104" name="Picture 5" descr="ChartPic_000085"/>
          <p:cNvPicPr/>
          <p:nvPr/>
        </p:nvPicPr>
        <p:blipFill>
          <a:blip r:embed="rId1"/>
          <a:stretch/>
        </p:blipFill>
        <p:spPr>
          <a:xfrm>
            <a:off x="-36360" y="1133640"/>
            <a:ext cx="9216720" cy="5724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4920" y="115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incipais produtores de frango</a:t>
            </a:r>
            <a:br>
              <a:rPr sz="4000"/>
            </a:br>
            <a:endParaRPr b="0" lang="en-US" sz="4000" spc="-1" strike="noStrike">
              <a:solidFill>
                <a:srgbClr val="000000"/>
              </a:solidFill>
              <a:latin typeface="Arial"/>
            </a:endParaRPr>
          </a:p>
        </p:txBody>
      </p:sp>
      <p:graphicFrame>
        <p:nvGraphicFramePr>
          <p:cNvPr id="106" name=""/>
          <p:cNvGraphicFramePr/>
          <p:nvPr/>
        </p:nvGraphicFramePr>
        <p:xfrm>
          <a:off x="34920" y="907920"/>
          <a:ext cx="8950320" cy="5943600"/>
        </p:xfrm>
        <a:graphic>
          <a:graphicData uri="http://schemas.openxmlformats.org/drawingml/2006/table">
            <a:tbl>
              <a:tblPr/>
              <a:tblGrid>
                <a:gridCol w="1690560"/>
                <a:gridCol w="3378240"/>
                <a:gridCol w="1941480"/>
                <a:gridCol w="1940040"/>
              </a:tblGrid>
              <a:tr h="459000">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Rank</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Are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Production (US $1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Production (M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United States of Americ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8.512.250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5.871.000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Chin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2.460.400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0.682.602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Brazi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0.929.360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9.370.000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Mexic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836.722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431.990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Indi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615.197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242.071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Russian Federatio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160.586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852.322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Japa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591.896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364.770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Indonesi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552.070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330.627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United Kingdom</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533.842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315.000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Iran, Islamic Republic of</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453.219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245.879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Franc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358.879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165.000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Spai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237.065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060.565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Argentin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176.759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008.864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Canad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166.420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000.000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Malaysi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157.255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992.142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South Afric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135.942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973.870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Thailan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107.408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949.407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Polan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928.470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796.000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Colombi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891.704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764.480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2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Australi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887.002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760.448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73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incipais prod. de ovos de galinha</a:t>
            </a:r>
            <a:endParaRPr b="0" lang="en-US" sz="4000" spc="-1" strike="noStrike">
              <a:solidFill>
                <a:srgbClr val="000000"/>
              </a:solidFill>
              <a:latin typeface="Arial"/>
            </a:endParaRPr>
          </a:p>
        </p:txBody>
      </p:sp>
      <p:pic>
        <p:nvPicPr>
          <p:cNvPr id="108" name="Picture 5" descr="ChartPic_000260"/>
          <p:cNvPicPr/>
          <p:nvPr/>
        </p:nvPicPr>
        <p:blipFill>
          <a:blip r:embed="rId1"/>
          <a:stretch/>
        </p:blipFill>
        <p:spPr>
          <a:xfrm>
            <a:off x="-61920" y="1484280"/>
            <a:ext cx="9890280" cy="5467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4920" y="43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incipais produtores de ovos</a:t>
            </a:r>
            <a:endParaRPr b="0" lang="en-US" sz="4000" spc="-1" strike="noStrike">
              <a:solidFill>
                <a:srgbClr val="000000"/>
              </a:solidFill>
              <a:latin typeface="Arial"/>
            </a:endParaRPr>
          </a:p>
        </p:txBody>
      </p:sp>
      <p:graphicFrame>
        <p:nvGraphicFramePr>
          <p:cNvPr id="110" name=""/>
          <p:cNvGraphicFramePr/>
          <p:nvPr/>
        </p:nvGraphicFramePr>
        <p:xfrm>
          <a:off x="34920" y="907920"/>
          <a:ext cx="9074160" cy="5943600"/>
        </p:xfrm>
        <a:graphic>
          <a:graphicData uri="http://schemas.openxmlformats.org/drawingml/2006/table">
            <a:tbl>
              <a:tblPr/>
              <a:tblGrid>
                <a:gridCol w="1457280"/>
                <a:gridCol w="3781440"/>
                <a:gridCol w="2160720"/>
                <a:gridCol w="1674720"/>
              </a:tblGrid>
              <a:tr h="459000">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Rank</a:t>
                      </a:r>
                      <a:endParaRPr b="0" lang="en-US" sz="16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Area</a:t>
                      </a:r>
                      <a:endParaRPr b="0" lang="en-US" sz="16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Production (Int $1000)</a:t>
                      </a:r>
                      <a:endParaRPr b="0" lang="en-US" sz="16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Production (MT)</a:t>
                      </a:r>
                      <a:endParaRPr b="0" lang="en-US" sz="1600" spc="-1" strike="noStrike">
                        <a:solidFill>
                          <a:srgbClr val="000000"/>
                        </a:solidFill>
                        <a:latin typeface="Arial"/>
                      </a:endParaRPr>
                    </a:p>
                  </a:txBody>
                  <a:tcPr anchor="b" marL="90000" marR="90000">
                    <a:lnL>
                      <a:noFill/>
                    </a:lnL>
                    <a:lnR>
                      <a:noFill/>
                    </a:lnR>
                    <a:lnT>
                      <a:noFill/>
                    </a:lnT>
                    <a:lnB>
                      <a:noFill/>
                    </a:lnB>
                    <a:solidFill>
                      <a:srgbClr val="c0c0c0"/>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1</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Chin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18.540.6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21.833.3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2</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United States of Americ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3.991.918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5.308.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3</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Indi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2.176.778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2.670.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4</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Japan</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2.123.813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2.525.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5</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Mexico</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1.897.088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2.290.833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6</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Russian Federation</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1.746.104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2.103.3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7</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Brazil</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1.197.523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1.779.19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8</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Indonesi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931.317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1.174.6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9</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France</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704.175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878.4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10</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Turkey</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690.551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795.31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11</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Ukraine</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662.584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807.2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12</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Germany</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635.581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786.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13</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Italy</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578.274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700.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14</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Spain</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570.199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705.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15</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Iran, Islamic Republic of</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543.543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711.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16</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Netherlands</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495.787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621.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17</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Nigeri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467.959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552.8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18</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United Kingdom</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443.73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579.245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19</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Poland</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443.472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546.748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20</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Korea, Republic of</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434.14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545.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115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incipais produtores de soja</a:t>
            </a:r>
            <a:endParaRPr b="0" lang="en-US" sz="4400" spc="-1" strike="noStrike">
              <a:solidFill>
                <a:srgbClr val="000000"/>
              </a:solidFill>
              <a:latin typeface="Arial"/>
            </a:endParaRPr>
          </a:p>
        </p:txBody>
      </p:sp>
      <p:pic>
        <p:nvPicPr>
          <p:cNvPr id="112" name="Picture 5" descr="ChartPic_000154"/>
          <p:cNvPicPr/>
          <p:nvPr/>
        </p:nvPicPr>
        <p:blipFill>
          <a:blip r:embed="rId1"/>
          <a:stretch/>
        </p:blipFill>
        <p:spPr>
          <a:xfrm>
            <a:off x="11160" y="1490760"/>
            <a:ext cx="9889920" cy="5467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274680"/>
            <a:ext cx="8229600" cy="5851440"/>
          </a:xfrm>
          <a:prstGeom prst="rect">
            <a:avLst/>
          </a:prstGeom>
          <a:noFill/>
          <a:ln w="0">
            <a:noFill/>
          </a:ln>
        </p:spPr>
        <p:txBody>
          <a:bodyPr anchor="t">
            <a:normAutofit fontScale="98000"/>
          </a:bodyPr>
          <a:p>
            <a:pPr marL="335880" indent="-3358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s 241 municípios representados em tom pastel (48,59% do total) apresentaram perda populacional líquida entre 91 e 07. Estes municípios ocupam 36,53% da área do Estado. </a:t>
            </a:r>
            <a:endParaRPr b="0" lang="en-US" sz="2900" spc="-1" strike="noStrike">
              <a:solidFill>
                <a:srgbClr val="000000"/>
              </a:solidFill>
              <a:latin typeface="Arial"/>
            </a:endParaRPr>
          </a:p>
          <a:p>
            <a:pPr marL="335880" indent="-3358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s municípios representados em tom alaranjado apresentaram crescimento populacional positivo, mas inferior à média do Estado, de 0,953% ao ano. </a:t>
            </a:r>
            <a:endParaRPr b="0" lang="en-US" sz="2900" spc="-1" strike="noStrike">
              <a:solidFill>
                <a:srgbClr val="000000"/>
              </a:solidFill>
              <a:latin typeface="Arial"/>
            </a:endParaRPr>
          </a:p>
          <a:p>
            <a:pPr marL="335880" indent="-3358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74,6% dos municípios do Estado – que ocupam 82,84% de sua área - apresentaram performance demográfica negativa ou inferior à média estadual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8000" y="44280"/>
            <a:ext cx="8229600" cy="851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dutores de soja</a:t>
            </a:r>
            <a:endParaRPr b="0" lang="en-US" sz="4400" spc="-1" strike="noStrike">
              <a:solidFill>
                <a:srgbClr val="000000"/>
              </a:solidFill>
              <a:latin typeface="Arial"/>
            </a:endParaRPr>
          </a:p>
        </p:txBody>
      </p:sp>
      <p:graphicFrame>
        <p:nvGraphicFramePr>
          <p:cNvPr id="114" name=""/>
          <p:cNvGraphicFramePr/>
          <p:nvPr/>
        </p:nvGraphicFramePr>
        <p:xfrm>
          <a:off x="108000" y="981000"/>
          <a:ext cx="8048520" cy="5761080"/>
        </p:xfrm>
        <a:graphic>
          <a:graphicData uri="http://schemas.openxmlformats.org/drawingml/2006/table">
            <a:tbl>
              <a:tblPr/>
              <a:tblGrid>
                <a:gridCol w="555480"/>
                <a:gridCol w="3719520"/>
                <a:gridCol w="2125800"/>
                <a:gridCol w="1647720"/>
              </a:tblGrid>
              <a:tr h="2764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ea typeface="Arial"/>
                        </a:rPr>
                        <a:t>Rank</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ea typeface="Arial"/>
                        </a:rPr>
                        <a:t>Area</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ea typeface="Arial"/>
                        </a:rPr>
                        <a:t>Production (Int $1000)</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ea typeface="Arial"/>
                        </a:rPr>
                        <a:t>Production (MT)</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8080"/>
                          </a:solidFill>
                          <a:latin typeface="Arial"/>
                          <a:ea typeface="Arial"/>
                        </a:rPr>
                        <a:t>United States of America</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14.910.080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72.860.400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8080"/>
                          </a:solidFill>
                          <a:latin typeface="Arial"/>
                          <a:ea typeface="Arial"/>
                        </a:rPr>
                        <a:t>Brazil</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12.287.500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57.857.200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3</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8080"/>
                          </a:solidFill>
                          <a:latin typeface="Arial"/>
                          <a:ea typeface="Arial"/>
                        </a:rPr>
                        <a:t>Argentina</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10.147.140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47.482.784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4</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8080"/>
                          </a:solidFill>
                          <a:latin typeface="Arial"/>
                          <a:ea typeface="Arial"/>
                        </a:rPr>
                        <a:t>India</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2.264.313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10.968.000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5</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8080"/>
                          </a:solidFill>
                          <a:latin typeface="Arial"/>
                          <a:ea typeface="Arial"/>
                        </a:rPr>
                        <a:t>China</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2.231.204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13.800.147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6</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8080"/>
                          </a:solidFill>
                          <a:latin typeface="Arial"/>
                          <a:ea typeface="Arial"/>
                        </a:rPr>
                        <a:t>Paraguay</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1.211.682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5.856.000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7</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8080"/>
                          </a:solidFill>
                          <a:latin typeface="Arial"/>
                          <a:ea typeface="Arial"/>
                        </a:rPr>
                        <a:t>Canada</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494.571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2.695.700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8</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8080"/>
                          </a:solidFill>
                          <a:latin typeface="Arial"/>
                          <a:ea typeface="Arial"/>
                        </a:rPr>
                        <a:t>Bolivia</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217.760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1.595.947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9</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8080"/>
                          </a:solidFill>
                          <a:latin typeface="Arial"/>
                          <a:ea typeface="Arial"/>
                        </a:rPr>
                        <a:t>Uruguay</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160.572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779.920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10</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8080"/>
                          </a:solidFill>
                          <a:latin typeface="Arial"/>
                          <a:ea typeface="Arial"/>
                        </a:rPr>
                        <a:t>Indonesia</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119.106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592.634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11</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8080"/>
                          </a:solidFill>
                          <a:latin typeface="Arial"/>
                          <a:ea typeface="Arial"/>
                        </a:rPr>
                        <a:t>Nigeria</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114.225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604.000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12</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8080"/>
                          </a:solidFill>
                          <a:latin typeface="Arial"/>
                          <a:ea typeface="Arial"/>
                        </a:rPr>
                        <a:t>Russian Federation</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80.113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651.840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13</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8080"/>
                          </a:solidFill>
                          <a:latin typeface="Arial"/>
                          <a:ea typeface="Arial"/>
                        </a:rPr>
                        <a:t>Ukraine</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78.130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722.600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14</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8080"/>
                          </a:solidFill>
                          <a:latin typeface="Arial"/>
                          <a:ea typeface="Arial"/>
                        </a:rPr>
                        <a:t>Italy</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70.193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442.151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15</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8080"/>
                          </a:solidFill>
                          <a:latin typeface="Arial"/>
                          <a:ea typeface="Arial"/>
                        </a:rPr>
                        <a:t>Korea, Democratic People's Republic of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69.942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345.000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16</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8080"/>
                          </a:solidFill>
                          <a:latin typeface="Arial"/>
                          <a:ea typeface="Arial"/>
                        </a:rPr>
                        <a:t>Serbia</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62.578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303.950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17</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8080"/>
                          </a:solidFill>
                          <a:latin typeface="Arial"/>
                          <a:ea typeface="Arial"/>
                        </a:rPr>
                        <a:t>Viet Nam</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58.578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275.500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18</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8080"/>
                          </a:solidFill>
                          <a:latin typeface="Arial"/>
                          <a:ea typeface="Arial"/>
                        </a:rPr>
                        <a:t>Iran, Islamic Republic of</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54.973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260.000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19</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8080"/>
                          </a:solidFill>
                          <a:latin typeface="Arial"/>
                          <a:ea typeface="Arial"/>
                        </a:rPr>
                        <a:t>Thailand</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43.614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203.973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20</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8080"/>
                          </a:solidFill>
                          <a:latin typeface="Arial"/>
                          <a:ea typeface="Arial"/>
                        </a:rPr>
                        <a:t>South Africa</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41.432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205.000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4560" y="-27360"/>
            <a:ext cx="9217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Principais produtores de cana-de-açúcar</a:t>
            </a:r>
            <a:endParaRPr b="0" lang="en-US" sz="3600" spc="-1" strike="noStrike">
              <a:solidFill>
                <a:srgbClr val="000000"/>
              </a:solidFill>
              <a:latin typeface="Arial"/>
            </a:endParaRPr>
          </a:p>
        </p:txBody>
      </p:sp>
      <p:pic>
        <p:nvPicPr>
          <p:cNvPr id="116" name="Picture 5" descr="ChartPic_000274"/>
          <p:cNvPicPr/>
          <p:nvPr/>
        </p:nvPicPr>
        <p:blipFill>
          <a:blip r:embed="rId1"/>
          <a:stretch/>
        </p:blipFill>
        <p:spPr>
          <a:xfrm>
            <a:off x="-36360" y="963720"/>
            <a:ext cx="9937440" cy="6114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4920" y="43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dução de cana-de-açúcar</a:t>
            </a:r>
            <a:endParaRPr b="0" lang="en-US" sz="3600" spc="-1" strike="noStrike">
              <a:solidFill>
                <a:srgbClr val="000000"/>
              </a:solidFill>
              <a:latin typeface="Arial"/>
            </a:endParaRPr>
          </a:p>
        </p:txBody>
      </p:sp>
      <p:graphicFrame>
        <p:nvGraphicFramePr>
          <p:cNvPr id="118" name=""/>
          <p:cNvGraphicFramePr/>
          <p:nvPr/>
        </p:nvGraphicFramePr>
        <p:xfrm>
          <a:off x="34920" y="981000"/>
          <a:ext cx="9074160" cy="5943600"/>
        </p:xfrm>
        <a:graphic>
          <a:graphicData uri="http://schemas.openxmlformats.org/drawingml/2006/table">
            <a:tbl>
              <a:tblPr/>
              <a:tblGrid>
                <a:gridCol w="1612800"/>
                <a:gridCol w="3640320"/>
                <a:gridCol w="1852560"/>
                <a:gridCol w="1968480"/>
              </a:tblGrid>
              <a:tr h="459000">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Rank</a:t>
                      </a:r>
                      <a:endParaRPr b="0" lang="en-US" sz="16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Area</a:t>
                      </a:r>
                      <a:endParaRPr b="0" lang="en-US" sz="16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Production (Int $1000)</a:t>
                      </a:r>
                      <a:endParaRPr b="0" lang="en-US" sz="16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Production (MT)</a:t>
                      </a:r>
                      <a:endParaRPr b="0" lang="en-US" sz="1600" spc="-1" strike="noStrike">
                        <a:solidFill>
                          <a:srgbClr val="000000"/>
                        </a:solidFill>
                        <a:latin typeface="Arial"/>
                      </a:endParaRPr>
                    </a:p>
                  </a:txBody>
                  <a:tcPr anchor="b" marL="90000" marR="90000">
                    <a:lnL>
                      <a:noFill/>
                    </a:lnL>
                    <a:lnR>
                      <a:noFill/>
                    </a:lnR>
                    <a:lnT>
                      <a:noFill/>
                    </a:lnT>
                    <a:lnB>
                      <a:noFill/>
                    </a:lnB>
                    <a:solidFill>
                      <a:srgbClr val="c0c0c0"/>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Brazil</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1.375.88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549.707.328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2</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Indi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6.833.297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355.520.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3</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Chin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197.07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06.431.917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4</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Thailand</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336.871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64.365.482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5</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Mexico</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081.896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52.089.356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6</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Pakistan</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023.285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54.741.6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7</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Australi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755.965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36.397.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8</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Colombi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655.689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32.000.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9</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United States of Americ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541.008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7.750.6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0</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Guatemal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526.867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5.436.764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1</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Indonesi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525.481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5.300.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2</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Philippines</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423.469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2.235.297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3</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South Afric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421.631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0.300.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4</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Argentin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398.784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9.200.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5</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Viet Nam</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356.981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7.378.5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6</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Egypt</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304.903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6.200.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7</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Cub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45.023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1.900.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8</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Venezuel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01.277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9.690.791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9</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Ecuador</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71.144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8.360.001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20</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Peru</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70.908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8.228.623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539640" y="2852280"/>
            <a:ext cx="8499600" cy="3240360"/>
          </a:xfrm>
          <a:prstGeom prst="rect">
            <a:avLst/>
          </a:prstGeom>
          <a:noFill/>
          <a:ln w="0">
            <a:noFill/>
          </a:ln>
        </p:spPr>
        <p:txBody>
          <a:bodyPr anchor="t">
            <a:normAutofit fontScale="97000"/>
          </a:bodyPr>
          <a:p>
            <a:pPr marL="332640" indent="-3326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1) A política monetário-cambial em curso e prospectiva;</a:t>
            </a:r>
            <a:endParaRPr b="0" lang="en-US" sz="3200" spc="-1" strike="noStrike">
              <a:solidFill>
                <a:srgbClr val="000000"/>
              </a:solidFill>
              <a:latin typeface="Arial"/>
            </a:endParaRPr>
          </a:p>
          <a:p>
            <a:pPr marL="332640" indent="-3326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2) Vantagens competitivas estruturais;</a:t>
            </a:r>
            <a:endParaRPr b="0" lang="en-US" sz="3200" spc="-1" strike="noStrike">
              <a:solidFill>
                <a:srgbClr val="000000"/>
              </a:solidFill>
              <a:latin typeface="Arial"/>
            </a:endParaRPr>
          </a:p>
          <a:p>
            <a:pPr marL="332640" indent="-3326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3) As políticas agrícolas setoriais nacionais;</a:t>
            </a:r>
            <a:endParaRPr b="0" lang="en-US" sz="3200" spc="-1" strike="noStrike">
              <a:solidFill>
                <a:srgbClr val="000000"/>
              </a:solidFill>
              <a:latin typeface="Arial"/>
            </a:endParaRPr>
          </a:p>
          <a:p>
            <a:pPr marL="332640" indent="-3326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4) A estrutura e a dinâmica potencial do mercado interno.</a:t>
            </a:r>
            <a:endParaRPr b="0" lang="en-US" sz="3200" spc="-1" strike="noStrike">
              <a:solidFill>
                <a:srgbClr val="000000"/>
              </a:solidFill>
              <a:latin typeface="Arial"/>
            </a:endParaRPr>
          </a:p>
        </p:txBody>
      </p:sp>
      <p:sp>
        <p:nvSpPr>
          <p:cNvPr id="120" name="Text Box 5"/>
          <p:cNvSpPr/>
          <p:nvPr/>
        </p:nvSpPr>
        <p:spPr>
          <a:xfrm>
            <a:off x="108000" y="115920"/>
            <a:ext cx="8848800" cy="303948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Como definir os setores a serem privilegia-dos por uma nação ou região? </a:t>
            </a:r>
            <a:endParaRPr b="0" lang="en-US" sz="3200" spc="-1" strike="noStrike">
              <a:solidFill>
                <a:srgbClr val="000000"/>
              </a:solidFill>
              <a:latin typeface="Arial"/>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Quatro elementos centrais devem ser considerados:</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108000" y="1598760"/>
            <a:ext cx="8928000" cy="4527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No plano cambial, as perspectivas dificilmente poderiam ser piores. O Brasil se viciou na “âncora cambial”. Este vício tem fortes componentes anti-populares, pois implicam na depressão do poder de monopólio das empresas que operam internamente pela exposição à concorrência externa, por oposição à promoção competitiva das MPMEs nacionais. Mas esta é a realidade</a:t>
            </a:r>
            <a:endParaRPr b="0" lang="en-US" sz="3200" spc="-1" strike="noStrike">
              <a:solidFill>
                <a:srgbClr val="000000"/>
              </a:solidFill>
              <a:latin typeface="Arial"/>
            </a:endParaRPr>
          </a:p>
        </p:txBody>
      </p:sp>
      <p:sp>
        <p:nvSpPr>
          <p:cNvPr id="122" name="Text Box 5"/>
          <p:cNvSpPr/>
          <p:nvPr/>
        </p:nvSpPr>
        <p:spPr>
          <a:xfrm>
            <a:off x="108000" y="115920"/>
            <a:ext cx="8848800" cy="10688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Como definir os setores a serem privilegia-dos por uma nação ou regiã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3" name=""/>
          <p:cNvGraphicFramePr/>
          <p:nvPr/>
        </p:nvGraphicFramePr>
        <p:xfrm>
          <a:off x="539640" y="1052640"/>
          <a:ext cx="8064720" cy="5438520"/>
        </p:xfrm>
        <a:graphic>
          <a:graphicData uri="http://schemas.openxmlformats.org/drawingml/2006/table">
            <a:tbl>
              <a:tblPr/>
              <a:tblGrid>
                <a:gridCol w="2955960"/>
                <a:gridCol w="1058760"/>
                <a:gridCol w="1059120"/>
                <a:gridCol w="1058760"/>
                <a:gridCol w="1058760"/>
                <a:gridCol w="873360"/>
              </a:tblGrid>
              <a:tr h="647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 </a:t>
                      </a:r>
                      <a:r>
                        <a:rPr b="1" lang="pt-BR" sz="1000" spc="-1" strike="noStrike">
                          <a:solidFill>
                            <a:srgbClr val="000000"/>
                          </a:solidFill>
                          <a:latin typeface="Arial"/>
                        </a:rPr>
                        <a:t>Discriminação</a:t>
                      </a:r>
                      <a:endParaRPr b="0" lang="en-US" sz="1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Média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79-83</a:t>
                      </a:r>
                      <a:endParaRPr b="0" lang="en-US" sz="1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Média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84-94</a:t>
                      </a:r>
                      <a:endParaRPr b="0" lang="en-US" sz="1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Médi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95-02</a:t>
                      </a:r>
                      <a:endParaRPr b="0" lang="en-US" sz="1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Médi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03-07</a:t>
                      </a:r>
                      <a:endParaRPr b="0" lang="en-US" sz="1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Corre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 </a:t>
                      </a:r>
                      <a:r>
                        <a:rPr b="1" lang="pt-BR" sz="1000" spc="-1" strike="noStrike">
                          <a:solidFill>
                            <a:srgbClr val="000000"/>
                          </a:solidFill>
                          <a:latin typeface="Arial"/>
                          <a:ea typeface="Arial"/>
                        </a:rPr>
                        <a:t>até 2007</a:t>
                      </a:r>
                      <a:endParaRPr b="0" lang="en-US" sz="1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Balança comercial (FOB)</a:t>
                      </a:r>
                      <a:endParaRPr b="0" lang="en-US" sz="10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558.13</a:t>
                      </a:r>
                      <a:endParaRPr b="0" lang="en-US" sz="10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12.790.20</a:t>
                      </a:r>
                      <a:endParaRPr b="0" lang="en-US" sz="10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1.216.70</a:t>
                      </a:r>
                      <a:endParaRPr b="0" lang="en-US" sz="10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37.925.12</a:t>
                      </a:r>
                      <a:endParaRPr b="0" lang="en-US" sz="10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0.5069</a:t>
                      </a:r>
                      <a:endParaRPr b="0" lang="en-US" sz="1000" spc="-1" strike="noStrike">
                        <a:solidFill>
                          <a:srgbClr val="000000"/>
                        </a:solidFill>
                        <a:latin typeface="Arial"/>
                      </a:endParaRPr>
                    </a:p>
                  </a:txBody>
                  <a:tcPr anchor="ctr" marL="90000" marR="90000">
                    <a:lnL>
                      <a:noFill/>
                    </a:lnL>
                    <a:lnR>
                      <a:noFill/>
                    </a:lnR>
                    <a:lnT w="5760">
                      <a:solidFill>
                        <a:srgbClr val="000000"/>
                      </a:solid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Serviços e rendas (líquido)</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12.285.19</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13.942.10</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27.747.87</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32.517.42</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0.8765</a:t>
                      </a:r>
                      <a:endParaRPr b="0" lang="en-US" sz="1000" spc="-1" strike="noStrike">
                        <a:solidFill>
                          <a:srgbClr val="000000"/>
                        </a:solidFill>
                        <a:latin typeface="Arial"/>
                      </a:endParaRPr>
                    </a:p>
                  </a:txBody>
                  <a:tcPr anchor="ctr" marL="90000" marR="90000">
                    <a:lnL>
                      <a:noFill/>
                    </a:lnL>
                    <a:lnR>
                      <a:noFill/>
                    </a:lnR>
                    <a:lnT>
                      <a:noFill/>
                    </a:lnT>
                    <a:lnB>
                      <a:noFill/>
                    </a:lnB>
                    <a:noFill/>
                  </a:tcPr>
                </a:tc>
              </a:tr>
              <a:tr h="36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Transferências unilaterais correntes</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87.16</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854.41</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2.369.66</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3.599.21</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0.8809</a:t>
                      </a:r>
                      <a:endParaRPr b="0" lang="en-US" sz="10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TRANSAÇÕES CORRENTES</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11.639.90</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297.49</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26.594.92</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9.006.90</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0.0957</a:t>
                      </a:r>
                      <a:endParaRPr b="0" lang="en-US" sz="1000" spc="-1" strike="noStrike">
                        <a:solidFill>
                          <a:srgbClr val="000000"/>
                        </a:solidFill>
                        <a:latin typeface="Arial"/>
                      </a:endParaRPr>
                    </a:p>
                  </a:txBody>
                  <a:tcPr anchor="ctr" marL="90000" marR="90000">
                    <a:lnL>
                      <a:noFill/>
                    </a:lnL>
                    <a:lnR>
                      <a:noFill/>
                    </a:lnR>
                    <a:lnT>
                      <a:noFill/>
                    </a:lnT>
                    <a:lnB>
                      <a:noFill/>
                    </a:lnB>
                    <a:noFill/>
                  </a:tcPr>
                </a:tc>
              </a:tr>
              <a:tr h="368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CONTA CAPITAL E FINANCEIRA</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9.899.78</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3.985.18</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27.181.02</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18.701.69</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0.3587</a:t>
                      </a:r>
                      <a:endParaRPr b="0" lang="en-US" sz="10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Conta capital</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9.60</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29.33</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360.82</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631.51</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0.8229</a:t>
                      </a:r>
                      <a:endParaRPr b="0" lang="en-US" sz="10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Conta financeira</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9.890.17</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3.955.85</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26.820.20</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18.070.18</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0.3491</a:t>
                      </a:r>
                      <a:endParaRPr b="0" lang="en-US" sz="10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Investimento direto</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1.989.18</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1.079.22</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22.093.99</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9.784.13</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0.5530</a:t>
                      </a:r>
                      <a:endParaRPr b="0" lang="en-US" sz="10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Investimentos em carteira</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139.80</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7.217.08</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9.613.03</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12.582.70</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0.3551</a:t>
                      </a:r>
                      <a:endParaRPr b="0" lang="en-US" sz="1000" spc="-1" strike="noStrike">
                        <a:solidFill>
                          <a:srgbClr val="000000"/>
                        </a:solidFill>
                        <a:latin typeface="Arial"/>
                      </a:endParaRPr>
                    </a:p>
                  </a:txBody>
                  <a:tcPr anchor="ctr" marL="90000" marR="90000">
                    <a:lnL>
                      <a:noFill/>
                    </a:lnL>
                    <a:lnR>
                      <a:noFill/>
                    </a:lnR>
                    <a:lnT>
                      <a:noFill/>
                    </a:lnT>
                    <a:lnB>
                      <a:noFill/>
                    </a:lnB>
                    <a:noFill/>
                  </a:tcPr>
                </a:tc>
              </a:tr>
              <a:tr h="36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Derivativos</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31.42</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5.45</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263.73</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307.57</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0.6506</a:t>
                      </a:r>
                      <a:endParaRPr b="0" lang="en-US" sz="10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Outros investimentos</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7.729.77</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4.345.90</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4.623.10</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3.989.09</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0.3150</a:t>
                      </a:r>
                      <a:endParaRPr b="0" lang="en-US" sz="10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ERROS E OMISSÕES</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385.39</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361.33</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695.73</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1.086.09</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0.1574</a:t>
                      </a:r>
                      <a:endParaRPr b="0" lang="en-US" sz="10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RESULTADO DO BALANÇO</a:t>
                      </a:r>
                      <a:endParaRPr b="0" lang="en-US" sz="10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2.125.52</a:t>
                      </a:r>
                      <a:endParaRPr b="0" lang="en-US" sz="10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3.326.35</a:t>
                      </a:r>
                      <a:endParaRPr b="0" lang="en-US" sz="10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109.62</a:t>
                      </a:r>
                      <a:endParaRPr b="0" lang="en-US" sz="10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26.622.50</a:t>
                      </a:r>
                      <a:endParaRPr b="0" lang="en-US" sz="10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0.4294</a:t>
                      </a:r>
                      <a:endParaRPr b="0" lang="en-US" sz="1000" spc="-1" strike="noStrike">
                        <a:solidFill>
                          <a:srgbClr val="000000"/>
                        </a:solidFill>
                        <a:latin typeface="Arial"/>
                      </a:endParaRPr>
                    </a:p>
                  </a:txBody>
                  <a:tcPr anchor="ctr" marL="90000" marR="90000">
                    <a:lnL>
                      <a:noFill/>
                    </a:lnL>
                    <a:lnR>
                      <a:noFill/>
                    </a:lnR>
                    <a:lnT>
                      <a:noFill/>
                    </a:lnT>
                    <a:lnB w="5760">
                      <a:solidFill>
                        <a:srgbClr val="000000"/>
                      </a:solidFill>
                    </a:lnB>
                    <a:noFill/>
                  </a:tcPr>
                </a:tc>
              </a:tr>
            </a:tbl>
          </a:graphicData>
        </a:graphic>
      </p:graphicFrame>
      <p:graphicFrame>
        <p:nvGraphicFramePr>
          <p:cNvPr id="124" name=""/>
          <p:cNvGraphicFramePr/>
          <p:nvPr/>
        </p:nvGraphicFramePr>
        <p:xfrm>
          <a:off x="52560" y="146160"/>
          <a:ext cx="8912160" cy="822240"/>
        </p:xfrm>
        <a:graphic>
          <a:graphicData uri="http://schemas.openxmlformats.org/drawingml/2006/table">
            <a:tbl>
              <a:tblPr/>
              <a:tblGrid>
                <a:gridCol w="8912160"/>
              </a:tblGrid>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Arial"/>
                        </a:rPr>
                        <a:t>Balanço de pagamentos</a:t>
                      </a:r>
                      <a:endParaRPr b="0" lang="en-US" sz="24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ea typeface="Arial"/>
                        </a:rPr>
                        <a:t>US$ milhões</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 name=""/>
          <p:cNvGraphicFramePr/>
          <p:nvPr/>
        </p:nvGraphicFramePr>
        <p:xfrm>
          <a:off x="52560" y="146160"/>
          <a:ext cx="8912160" cy="1218960"/>
        </p:xfrm>
        <a:graphic>
          <a:graphicData uri="http://schemas.openxmlformats.org/drawingml/2006/table">
            <a:tbl>
              <a:tblPr/>
              <a:tblGrid>
                <a:gridCol w="8912160"/>
              </a:tblGrid>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Arial"/>
                        </a:rPr>
                        <a:t>Balanço de pagamentos</a:t>
                      </a:r>
                      <a:endParaRPr b="0" lang="en-US" sz="2400" spc="-1" strike="noStrike">
                        <a:solidFill>
                          <a:srgbClr val="000000"/>
                        </a:solidFill>
                        <a:latin typeface="Arial"/>
                      </a:endParaRPr>
                    </a:p>
                  </a:txBody>
                  <a:tcPr anchor="ctr" marL="90000" marR="90000">
                    <a:lnL>
                      <a:noFill/>
                    </a:lnL>
                    <a:lnR>
                      <a:noFill/>
                    </a:lnR>
                    <a:lnT>
                      <a:noFill/>
                    </a:lnT>
                    <a:lnB>
                      <a:noFill/>
                    </a:lnB>
                    <a:noFill/>
                  </a:tcPr>
                </a:tc>
              </a:tr>
              <a:tr h="764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126" name="Object 115"/>
          <p:cNvGraphicFramePr/>
          <p:nvPr/>
        </p:nvGraphicFramePr>
        <p:xfrm>
          <a:off x="52560" y="1941480"/>
          <a:ext cx="9038880" cy="2975040"/>
        </p:xfrm>
        <a:graphic>
          <a:graphicData uri="http://schemas.openxmlformats.org/presentationml/2006/ole">
            <p:oleObj progId="Excel.Sheet.12" r:id="rId1" spid="">
              <p:embed/>
              <p:pic>
                <p:nvPicPr>
                  <p:cNvPr id="127" name="Object 115" descr=""/>
                  <p:cNvPicPr/>
                  <p:nvPr/>
                </p:nvPicPr>
                <p:blipFill>
                  <a:blip r:embed="rId2"/>
                  <a:stretch/>
                </p:blipFill>
                <p:spPr>
                  <a:xfrm>
                    <a:off x="52560" y="1941480"/>
                    <a:ext cx="9038880" cy="2975040"/>
                  </a:xfrm>
                  <a:prstGeom prst="rect">
                    <a:avLst/>
                  </a:prstGeom>
                  <a:ln w="0">
                    <a:noFill/>
                  </a:ln>
                </p:spPr>
              </p:pic>
            </p:oleObj>
          </a:graphicData>
        </a:graphic>
      </p:graphicFrame>
      <p:sp>
        <p:nvSpPr>
          <p:cNvPr id="128" name="Line 117"/>
          <p:cNvSpPr/>
          <p:nvPr/>
        </p:nvSpPr>
        <p:spPr>
          <a:xfrm>
            <a:off x="52560" y="1916280"/>
            <a:ext cx="9038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Vantagens competitivas estruturais</a:t>
            </a:r>
            <a:endParaRPr b="0" lang="en-US" sz="4400" spc="-1" strike="noStrike">
              <a:solidFill>
                <a:srgbClr val="000000"/>
              </a:solidFill>
              <a:latin typeface="Arial"/>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No plano das vantagens competitivas estruturais, o Brasil é rico em recursos naturais, tem a maior fronteira agrícola aberta do mundo, com pelo menos mais 100 milhões de ha agricultáveis e úmidos. O que nos coloca na esteira do “projeto chinês” de especialização em leguminosas. Isto não interessa à regiã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Políticas Setoriais</a:t>
            </a:r>
            <a:endParaRPr b="0" lang="en-US" sz="4400" spc="-1" strike="noStrike">
              <a:solidFill>
                <a:srgbClr val="000000"/>
              </a:solidFill>
              <a:latin typeface="Arial"/>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As políticas setorias são determinadas, essencialmente, pelo jogo de interesses internos na produção agropecuária</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Ao longo dos últimos anos, o padrão de especialização produtiva agropecuária do Brasil vem se alterando significativamente. </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Os gráficos abaixo revelam este quad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dities by country Selected area: Sort b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34" name=""/>
          <p:cNvGraphicFramePr/>
          <p:nvPr/>
        </p:nvGraphicFramePr>
        <p:xfrm>
          <a:off x="1523880" y="1692360"/>
          <a:ext cx="6096240" cy="3475080"/>
        </p:xfrm>
        <a:graphic>
          <a:graphicData uri="http://schemas.openxmlformats.org/drawingml/2006/table">
            <a:tbl>
              <a:tblPr/>
              <a:tblGrid>
                <a:gridCol w="1524240"/>
                <a:gridCol w="1523880"/>
                <a:gridCol w="1523880"/>
                <a:gridCol w="1524240"/>
              </a:tblGrid>
              <a:tr h="36828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Commodities by country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Selected area: </a:t>
                      </a:r>
                      <a:endParaRPr b="0" lang="en-US" sz="1800" spc="-1" strike="noStrike">
                        <a:solidFill>
                          <a:srgbClr val="000000"/>
                        </a:solidFill>
                        <a:latin typeface="Arial"/>
                      </a:endParaRPr>
                    </a:p>
                  </a:txBody>
                  <a:tcPr anchor="ctr" marL="90000" marR="90000">
                    <a:lnL>
                      <a:noFill/>
                    </a:lnL>
                    <a:lnR>
                      <a:noFill/>
                    </a:lnR>
                    <a:lnT>
                      <a:noFill/>
                    </a:lnT>
                    <a:lnB>
                      <a:noFill/>
                    </a:lnB>
                    <a:noFill/>
                  </a:tcPr>
                </a:tc>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a:noFill/>
                    </a:lnL>
                    <a:lnR>
                      <a:noFill/>
                    </a:lnR>
                    <a:lnT w="5760">
                      <a:solidFill>
                        <a:srgbClr val="000000"/>
                      </a:solidFill>
                    </a:lnT>
                    <a:lnB>
                      <a:no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Sort by: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bl>
          </a:graphicData>
        </a:graphic>
      </p:graphicFrame>
      <p:pic>
        <p:nvPicPr>
          <p:cNvPr id="135" name="Picture 4" descr="http://faostat.fao.org/DesktopModules/Faostat/Images/T20/ChartPic_000125.png?dcf270c0-5cc5-4976-91b2-8f37898198f0"/>
          <p:cNvPicPr/>
          <p:nvPr/>
        </p:nvPicPr>
        <p:blipFill>
          <a:blip r:embed="rId1"/>
          <a:stretch/>
        </p:blipFill>
        <p:spPr>
          <a:xfrm>
            <a:off x="457200" y="857160"/>
            <a:ext cx="8516880" cy="5268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274680"/>
            <a:ext cx="8229600" cy="5851440"/>
          </a:xfrm>
          <a:prstGeom prst="rect">
            <a:avLst/>
          </a:prstGeom>
          <a:noFill/>
          <a:ln w="0">
            <a:noFill/>
          </a:ln>
        </p:spPr>
        <p:txBody>
          <a:bodyPr anchor="t">
            <a:normAutofit fontScale="97000"/>
          </a:bodyPr>
          <a:p>
            <a:pPr marL="332640" indent="-3326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O que este mapa traduz é a baixa capacidade de incorporação de mão-de-obra local de parcela expressiva das cadeias produtivas de base agrícola no território gaúcho.</a:t>
            </a:r>
            <a:endParaRPr b="0" lang="en-US" sz="2600" spc="-1" strike="noStrike">
              <a:solidFill>
                <a:srgbClr val="000000"/>
              </a:solidFill>
              <a:latin typeface="Arial"/>
            </a:endParaRPr>
          </a:p>
          <a:p>
            <a:pPr marL="332640" indent="-3326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De forma particular, a coloração pastel da maior parte da região noroeste revela o esgotamento da opção soji-triticola da região noroeste. E isto não é gratuito.</a:t>
            </a:r>
            <a:endParaRPr b="0" lang="en-US" sz="2600" spc="-1" strike="noStrike">
              <a:solidFill>
                <a:srgbClr val="000000"/>
              </a:solidFill>
              <a:latin typeface="Arial"/>
            </a:endParaRPr>
          </a:p>
          <a:p>
            <a:pPr marL="332640" indent="-3326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A margem de rentabilidade por ha da produção de cereais e leguminosas é relativamente baixo. O que implica dizer, que esta é uma opção de especialização produtiva incompatível com a sustentação da renda e da dinâmica rural e urbana de uma região caracterizada pela pequena propriedade fundiária.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37" name=""/>
          <p:cNvGraphicFramePr/>
          <p:nvPr/>
        </p:nvGraphicFramePr>
        <p:xfrm>
          <a:off x="457200" y="274680"/>
          <a:ext cx="8229600" cy="6083280"/>
        </p:xfrm>
        <a:graphic>
          <a:graphicData uri="http://schemas.openxmlformats.org/drawingml/2006/table">
            <a:tbl>
              <a:tblPr/>
              <a:tblGrid>
                <a:gridCol w="1295280"/>
                <a:gridCol w="3533760"/>
                <a:gridCol w="1808280"/>
                <a:gridCol w="1592280"/>
              </a:tblGrid>
              <a:tr h="438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Arial"/>
                        </a:rPr>
                        <a:t>Rank</a:t>
                      </a:r>
                      <a:endParaRPr b="0" lang="en-US" sz="1100" spc="-1" strike="noStrike">
                        <a:solidFill>
                          <a:srgbClr val="000000"/>
                        </a:solidFill>
                        <a:latin typeface="Arial"/>
                      </a:endParaRPr>
                    </a:p>
                  </a:txBody>
                  <a:tcPr anchor="b" marL="9360" marR="9360">
                    <a:lnL>
                      <a:noFill/>
                    </a:lnL>
                    <a:lnR>
                      <a:noFill/>
                    </a:lnR>
                    <a:lnT>
                      <a:noFill/>
                    </a:lnT>
                    <a:lnB>
                      <a:noFill/>
                    </a:lnB>
                    <a:solidFill>
                      <a:srgbClr val="bcd1d8"/>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Arial"/>
                        </a:rPr>
                        <a:t>Commodity</a:t>
                      </a:r>
                      <a:endParaRPr b="0" lang="en-US" sz="1100" spc="-1" strike="noStrike">
                        <a:solidFill>
                          <a:srgbClr val="000000"/>
                        </a:solidFill>
                        <a:latin typeface="Arial"/>
                      </a:endParaRPr>
                    </a:p>
                  </a:txBody>
                  <a:tcPr anchor="b" marL="9360" marR="9360">
                    <a:lnL>
                      <a:noFill/>
                    </a:lnL>
                    <a:lnR>
                      <a:noFill/>
                    </a:lnR>
                    <a:lnT>
                      <a:noFill/>
                    </a:lnT>
                    <a:lnB>
                      <a:noFill/>
                    </a:lnB>
                    <a:solidFill>
                      <a:srgbClr val="bcd1d8"/>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Arial"/>
                        </a:rPr>
                        <a:t>Production (Int $1000)</a:t>
                      </a:r>
                      <a:endParaRPr b="0" lang="en-US" sz="1100" spc="-1" strike="noStrike">
                        <a:solidFill>
                          <a:srgbClr val="000000"/>
                        </a:solidFill>
                        <a:latin typeface="Arial"/>
                      </a:endParaRPr>
                    </a:p>
                  </a:txBody>
                  <a:tcPr anchor="b" marL="9360" marR="9360">
                    <a:lnL>
                      <a:noFill/>
                    </a:lnL>
                    <a:lnR>
                      <a:noFill/>
                    </a:lnR>
                    <a:lnT>
                      <a:noFill/>
                    </a:lnT>
                    <a:lnB>
                      <a:noFill/>
                    </a:lnB>
                    <a:solidFill>
                      <a:srgbClr val="bcd1d8"/>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Arial"/>
                        </a:rPr>
                        <a:t>Production (MT)</a:t>
                      </a:r>
                      <a:endParaRPr b="0" lang="en-US" sz="1100" spc="-1" strike="noStrike">
                        <a:solidFill>
                          <a:srgbClr val="000000"/>
                        </a:solidFill>
                        <a:latin typeface="Arial"/>
                      </a:endParaRPr>
                    </a:p>
                  </a:txBody>
                  <a:tcPr anchor="b" marL="9360" marR="9360">
                    <a:lnL>
                      <a:noFill/>
                    </a:lnL>
                    <a:lnR>
                      <a:noFill/>
                    </a:lnR>
                    <a:lnT>
                      <a:noFill/>
                    </a:lnT>
                    <a:lnB>
                      <a:noFill/>
                    </a:lnB>
                    <a:solidFill>
                      <a:srgbClr val="bcd1d8"/>
                    </a:solidFill>
                  </a:tcPr>
                </a:tc>
              </a:tr>
              <a:tr h="2808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1</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6699"/>
                          </a:solidFill>
                          <a:latin typeface="Arial"/>
                        </a:rPr>
                        <a:t>Indigenous Cattle Meat</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13.867.900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6.705.041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r>
              <a:tr h="282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2</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6699"/>
                          </a:solidFill>
                          <a:latin typeface="Arial"/>
                        </a:rPr>
                        <a:t>Soybeans</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12.287.500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57.857.200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r>
              <a:tr h="282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3</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6699"/>
                          </a:solidFill>
                          <a:latin typeface="Arial"/>
                        </a:rPr>
                        <a:t>Sugar cane</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11.375.880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549.707.328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r>
              <a:tr h="282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4</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6699"/>
                          </a:solidFill>
                          <a:latin typeface="Arial"/>
                        </a:rPr>
                        <a:t>Indigenous Chicken Meat</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10.929.360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9.370.000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r>
              <a:tr h="282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5</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6699"/>
                          </a:solidFill>
                          <a:latin typeface="Arial"/>
                        </a:rPr>
                        <a:t>Cow milk, whole, fresh</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7.093.812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26.944.064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r>
              <a:tr h="282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6</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6699"/>
                          </a:solidFill>
                          <a:latin typeface="Arial"/>
                        </a:rPr>
                        <a:t>Oranges</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3.283.702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18.685.000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r>
              <a:tr h="281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7</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6699"/>
                          </a:solidFill>
                          <a:latin typeface="Arial"/>
                        </a:rPr>
                        <a:t>Rice, paddy</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2.309.714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11.060.700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r>
              <a:tr h="282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8</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6699"/>
                          </a:solidFill>
                          <a:latin typeface="Arial"/>
                        </a:rPr>
                        <a:t>Indigenous Pigmeat</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2.068.830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2.042.986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r>
              <a:tr h="282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9</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6699"/>
                          </a:solidFill>
                          <a:latin typeface="Arial"/>
                        </a:rPr>
                        <a:t>Cotton lint</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2.013.801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1.356.570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r>
              <a:tr h="2822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10</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6699"/>
                          </a:solidFill>
                          <a:latin typeface="Arial"/>
                        </a:rPr>
                        <a:t>Coffee, green</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1.838.701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2.249.010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r>
              <a:tr h="282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11</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6699"/>
                          </a:solidFill>
                          <a:latin typeface="Arial"/>
                        </a:rPr>
                        <a:t>Tobacco, unmanufactured</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1.656.722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908.679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r>
              <a:tr h="281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12</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6699"/>
                          </a:solidFill>
                          <a:latin typeface="Arial"/>
                        </a:rPr>
                        <a:t>Maize</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1.510.189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52.112.200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r>
              <a:tr h="282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13</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6699"/>
                          </a:solidFill>
                          <a:latin typeface="Arial"/>
                        </a:rPr>
                        <a:t>Beans, dry</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1.314.878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3.169.360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r>
              <a:tr h="282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14</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6699"/>
                          </a:solidFill>
                          <a:latin typeface="Arial"/>
                        </a:rPr>
                        <a:t>Hen eggs, in shell</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1.197.523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1.779.190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r>
              <a:tr h="282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15</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6699"/>
                          </a:solidFill>
                          <a:latin typeface="Arial"/>
                        </a:rPr>
                        <a:t>Bananas</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1.011.586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7.098.350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r>
              <a:tr h="282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16</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6699"/>
                          </a:solidFill>
                          <a:latin typeface="Arial"/>
                        </a:rPr>
                        <a:t>Cassava</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956.279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26.541.200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r>
              <a:tr h="282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17</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6699"/>
                          </a:solidFill>
                          <a:latin typeface="Arial"/>
                        </a:rPr>
                        <a:t>Tomatoes</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812.961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3.431.230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r>
              <a:tr h="2808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18</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6699"/>
                          </a:solidFill>
                          <a:latin typeface="Arial"/>
                        </a:rPr>
                        <a:t>Grapes</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636.266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1.371.560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r>
              <a:tr h="282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19</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6699"/>
                          </a:solidFill>
                          <a:latin typeface="Arial"/>
                        </a:rPr>
                        <a:t>Wheat</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594.643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4.114.060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r>
              <a:tr h="282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20</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6699"/>
                          </a:solidFill>
                          <a:latin typeface="Arial"/>
                        </a:rPr>
                        <a:t>Pineapples</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517.592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2.676.417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274680"/>
            <a:ext cx="8229600" cy="58514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O primeiro a observar é a expressiva concentração da produção agropecuária nacional em alguns poucos produtos. </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Mas, de forma especial vale observar a importância relativa do setor de carnes.</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Esta importância é salientada pelo relatório da OCDE-FAO supracitado, segundo o qual “até 2018 espera-se que o Brasil venha a se tornar responsável por 1/3 das vendas internacionais de carnes</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OCDE-FAO, p.2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274680"/>
            <a:ext cx="8229600" cy="58514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Por oposição, a maior parte da expansão da produção de lácteos no mundo deve ser divida entre Índia e China (que já ocupam, hoje, o segundo e o terceiro lugar na produção mundial) e o Paquistão.</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Este prognóstico não nega espaço para o crescimento da produção de lácteos no Mercosul. Pelo contrário. Mas, segundo o relatório já referido, parcela expressiva desta produção ampliada deve se destina ao mercado intern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7200" y="274680"/>
            <a:ext cx="8229600" cy="58514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E aqui chegamos ao quarto fator que deve ser levado em consideração na determinação de uma estratégia de reconversão produtiva: a dinâmica esperada do mercado interno. </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O mercado interno brasileiro para o leite promete ser bastante dinâmico. O déficit alimentar da população é expressivo, e as políticas redistributivas e assistencialistas em curso devem ser mantidas nos próximos an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7200" y="274680"/>
            <a:ext cx="8229600" cy="58514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Porém, tendo em vista uma situação cambial que se projeta desfavorável e a amplitude do território nacional apto à produção leiteira, é preciso estar preparado para a adoção de políticas agressivas e concertadas de elevação da produtividade e da competitividade dos fornecedores regionais e das indústrias beneficiador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274680"/>
            <a:ext cx="8229600" cy="5851440"/>
          </a:xfrm>
          <a:prstGeom prst="rect">
            <a:avLst/>
          </a:prstGeom>
          <a:noFill/>
          <a:ln w="0">
            <a:noFill/>
          </a:ln>
        </p:spPr>
        <p:txBody>
          <a:bodyPr anchor="t">
            <a:normAutofit fontScale="91000"/>
          </a:bodyPr>
          <a:p>
            <a:pPr marL="312120" indent="-31212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Por fim, e com vistas a avaliar a consistência de um projeto de reconversão produtiva regional assentada na adoção da produção de carne de porco e de lácteos em substituição ao binômio trigo-soja, apresentamos a balança comercial dos principais traders mundiais no mercado de alimentos. </a:t>
            </a:r>
            <a:endParaRPr b="0" lang="en-US" sz="3200" spc="-1" strike="noStrike">
              <a:solidFill>
                <a:srgbClr val="000000"/>
              </a:solidFill>
              <a:latin typeface="Arial"/>
            </a:endParaRPr>
          </a:p>
          <a:p>
            <a:pPr marL="312120" indent="-31212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Vale observar que a situação deficitária na conta “carne de porco” é estrutural, envolvendo inclusive países que apresentam elevadíssima produtividade agropecuária como a Argentina e Austrál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3" name=""/>
          <p:cNvGraphicFramePr/>
          <p:nvPr/>
        </p:nvGraphicFramePr>
        <p:xfrm>
          <a:off x="179280" y="817560"/>
          <a:ext cx="8785440" cy="5776920"/>
        </p:xfrm>
        <a:graphic>
          <a:graphicData uri="http://schemas.openxmlformats.org/drawingml/2006/table">
            <a:tbl>
              <a:tblPr/>
              <a:tblGrid>
                <a:gridCol w="2014560"/>
                <a:gridCol w="1074960"/>
                <a:gridCol w="1155600"/>
                <a:gridCol w="1155600"/>
                <a:gridCol w="1074960"/>
                <a:gridCol w="1153800"/>
                <a:gridCol w="1155960"/>
              </a:tblGrid>
              <a:tr h="390600">
                <a:tc rowSpan="2">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items</a:t>
                      </a:r>
                      <a:endParaRPr b="0" lang="en-US" sz="11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gridSpan="3">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Argentina</a:t>
                      </a:r>
                      <a:endParaRPr b="0" lang="en-US" sz="11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Brazil</a:t>
                      </a:r>
                      <a:endParaRPr b="0" lang="en-US" sz="11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8880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Import</a:t>
                      </a:r>
                      <a:endParaRPr b="0" lang="en-US" sz="11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Export</a:t>
                      </a:r>
                      <a:endParaRPr b="0" lang="en-US" sz="11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Saldo</a:t>
                      </a:r>
                      <a:endParaRPr b="0" lang="en-US" sz="11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Import</a:t>
                      </a:r>
                      <a:endParaRPr b="0" lang="en-US" sz="11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Export</a:t>
                      </a:r>
                      <a:endParaRPr b="0" lang="en-US" sz="11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Saldo</a:t>
                      </a:r>
                      <a:endParaRPr b="0" lang="en-US" sz="11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390600">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Produtos Agrícolas em geral</a:t>
                      </a:r>
                      <a:endParaRPr b="0" lang="en-US" sz="11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1.178.448,75 </a:t>
                      </a:r>
                      <a:endParaRPr b="0" lang="en-US" sz="11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20.171.671,75 </a:t>
                      </a:r>
                      <a:endParaRPr b="0" lang="en-US" sz="11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18.993.223,00 </a:t>
                      </a:r>
                      <a:endParaRPr b="0" lang="en-US" sz="11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4.380.259,00 </a:t>
                      </a:r>
                      <a:endParaRPr b="0" lang="en-US" sz="11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33.879.105,75 </a:t>
                      </a:r>
                      <a:endParaRPr b="0" lang="en-US" sz="11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29.498.846,75 </a:t>
                      </a:r>
                      <a:endParaRPr b="0" lang="en-US" sz="11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90600">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Manteiga</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89,25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26.341,25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26.252,0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2.271,25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4.412,75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2.141,50 </a:t>
                      </a:r>
                      <a:endParaRPr b="0" lang="en-US" sz="11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Leite Cond, em pó e fresco</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8.202,0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469.281,75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461.079,75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110.682,0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132.396,75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21.714,75 </a:t>
                      </a:r>
                      <a:endParaRPr b="0" lang="en-US" sz="1100" spc="-1" strike="noStrike">
                        <a:solidFill>
                          <a:srgbClr val="000000"/>
                        </a:solidFill>
                        <a:latin typeface="Arial"/>
                      </a:endParaRPr>
                    </a:p>
                  </a:txBody>
                  <a:tcPr anchor="b" marL="90000" marR="90000">
                    <a:lnL>
                      <a:noFill/>
                    </a:lnL>
                    <a:lnR>
                      <a:noFill/>
                    </a:lnR>
                    <a:lnT>
                      <a:noFill/>
                    </a:lnT>
                    <a:lnB>
                      <a:noFill/>
                    </a:lnB>
                    <a:noFill/>
                  </a:tcPr>
                </a:tc>
              </a:tr>
              <a:tr h="388800">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Laticínios e Ovos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15.581,75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641.850,25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626.268,5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146.304,0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190.873,5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44.569,50 </a:t>
                      </a:r>
                      <a:endParaRPr b="0" lang="en-US" sz="11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Queijos e Coalhadas</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7.062,5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135.180,0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128.117,5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16.392,75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22.505,5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6.112,75 </a:t>
                      </a:r>
                      <a:endParaRPr b="0" lang="en-US" sz="11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Carnes em Geral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62.606,5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1.578.158,0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1.515.551,5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98.234,0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8.467.010,75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8.368.776,75 </a:t>
                      </a:r>
                      <a:endParaRPr b="0" lang="en-US" sz="1100" spc="-1" strike="noStrike">
                        <a:solidFill>
                          <a:srgbClr val="000000"/>
                        </a:solidFill>
                        <a:latin typeface="Arial"/>
                      </a:endParaRPr>
                    </a:p>
                  </a:txBody>
                  <a:tcPr anchor="b" marL="90000" marR="90000">
                    <a:lnL>
                      <a:noFill/>
                    </a:lnL>
                    <a:lnR>
                      <a:noFill/>
                    </a:lnR>
                    <a:lnT>
                      <a:noFill/>
                    </a:lnT>
                    <a:lnB>
                      <a:noFill/>
                    </a:lnB>
                    <a:noFill/>
                  </a:tcPr>
                </a:tc>
              </a:tr>
              <a:tr h="390240">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Carne Bovina em geral</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5.168,75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1.264.126,75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1.258.958,0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78.843,0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3.368.511,5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3.289.668,50 </a:t>
                      </a:r>
                      <a:endParaRPr b="0" lang="en-US" sz="1100" spc="-1" strike="noStrike">
                        <a:solidFill>
                          <a:srgbClr val="000000"/>
                        </a:solidFill>
                        <a:latin typeface="Arial"/>
                      </a:endParaRPr>
                    </a:p>
                  </a:txBody>
                  <a:tcPr anchor="b" marL="90000" marR="90000">
                    <a:lnL>
                      <a:noFill/>
                    </a:lnL>
                    <a:lnR>
                      <a:noFill/>
                    </a:lnR>
                    <a:lnT>
                      <a:noFill/>
                    </a:lnT>
                    <a:lnB>
                      <a:noFill/>
                    </a:lnB>
                    <a:noFill/>
                  </a:tcPr>
                </a:tc>
              </a:tr>
              <a:tr h="314280">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Carne Suína</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43.204,5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41,5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0000"/>
                          </a:solidFill>
                          <a:latin typeface="Calibri"/>
                        </a:rPr>
                        <a:t>(43.163,00)</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84,75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1.004.897,75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1.004.813,00 </a:t>
                      </a:r>
                      <a:endParaRPr b="0" lang="en-US" sz="11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Carne de Frango (Fresh)</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4.491,5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115.926,5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111.435,0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750,25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3.400.698,0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3.399.947,75 </a:t>
                      </a:r>
                      <a:endParaRPr b="0" lang="en-US" sz="11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Soja</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276.894,5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2.312.488,75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2.035.594,25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45.477,5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5.778.189,75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5.732.712,25 </a:t>
                      </a:r>
                      <a:endParaRPr b="0" lang="en-US" sz="11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Cereais (Arroz, Trigo, etc)</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14.416,75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3.354.949,75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3.340.533,0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1.394.747,75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919.461,0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0000"/>
                          </a:solidFill>
                          <a:latin typeface="Calibri"/>
                        </a:rPr>
                        <a:t>(475.286,75)</a:t>
                      </a:r>
                      <a:endParaRPr b="0" lang="en-US" sz="1100" spc="-1" strike="noStrike">
                        <a:solidFill>
                          <a:srgbClr val="000000"/>
                        </a:solidFill>
                        <a:latin typeface="Arial"/>
                      </a:endParaRPr>
                    </a:p>
                  </a:txBody>
                  <a:tcPr anchor="b" marL="90000" marR="90000">
                    <a:lnL>
                      <a:noFill/>
                    </a:lnL>
                    <a:lnR>
                      <a:noFill/>
                    </a:lnR>
                    <a:lnT>
                      <a:noFill/>
                    </a:lnT>
                    <a:lnB>
                      <a:noFill/>
                    </a:lnB>
                    <a:noFill/>
                  </a:tcPr>
                </a:tc>
              </a:tr>
              <a:tr h="388800">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Frutas e Vegetais</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152.164,0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1.730.160,75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1.577.996,75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660.820,5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2.378.245,25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1.717.424,75 </a:t>
                      </a:r>
                      <a:endParaRPr b="0" lang="en-US" sz="11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Laranjas e frutas cítricas</a:t>
                      </a:r>
                      <a:endParaRPr b="0" lang="en-US" sz="11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258,00 </a:t>
                      </a:r>
                      <a:endParaRPr b="0" lang="en-US" sz="11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101.375,75 </a:t>
                      </a:r>
                      <a:endParaRPr b="0" lang="en-US" sz="11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101.117,75 </a:t>
                      </a:r>
                      <a:endParaRPr b="0" lang="en-US" sz="11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1.209,25 </a:t>
                      </a:r>
                      <a:endParaRPr b="0" lang="en-US" sz="11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22.501,25 </a:t>
                      </a:r>
                      <a:endParaRPr b="0" lang="en-US" sz="11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21.292,00 </a:t>
                      </a:r>
                      <a:endParaRPr b="0" lang="en-US" sz="1100" spc="-1" strike="noStrike">
                        <a:solidFill>
                          <a:srgbClr val="000000"/>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144" name="Rectangle 244"/>
          <p:cNvSpPr/>
          <p:nvPr/>
        </p:nvSpPr>
        <p:spPr>
          <a:xfrm>
            <a:off x="-36360" y="-243000"/>
            <a:ext cx="96501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íses selecionados: Argentina e Bras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09"/>
          <p:cNvSpPr/>
          <p:nvPr/>
        </p:nvSpPr>
        <p:spPr>
          <a:xfrm>
            <a:off x="-36360" y="-243000"/>
            <a:ext cx="96501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íses selecionados: </a:t>
            </a:r>
            <a:r>
              <a:rPr b="1" lang="pt-BR" sz="3200" spc="-1" strike="noStrike">
                <a:solidFill>
                  <a:srgbClr val="000000"/>
                </a:solidFill>
                <a:latin typeface="Arial"/>
              </a:rPr>
              <a:t>EUA, França e Alemanha</a:t>
            </a:r>
            <a:endParaRPr b="0" lang="en-US" sz="3200" spc="-1" strike="noStrike">
              <a:solidFill>
                <a:srgbClr val="000000"/>
              </a:solidFill>
              <a:latin typeface="Arial"/>
            </a:endParaRPr>
          </a:p>
        </p:txBody>
      </p:sp>
      <p:graphicFrame>
        <p:nvGraphicFramePr>
          <p:cNvPr id="146" name=""/>
          <p:cNvGraphicFramePr/>
          <p:nvPr/>
        </p:nvGraphicFramePr>
        <p:xfrm>
          <a:off x="0" y="673200"/>
          <a:ext cx="9144000" cy="5851440"/>
        </p:xfrm>
        <a:graphic>
          <a:graphicData uri="http://schemas.openxmlformats.org/drawingml/2006/table">
            <a:tbl>
              <a:tblPr/>
              <a:tblGrid>
                <a:gridCol w="1379520"/>
                <a:gridCol w="857160"/>
                <a:gridCol w="858960"/>
                <a:gridCol w="857160"/>
                <a:gridCol w="857160"/>
                <a:gridCol w="857520"/>
                <a:gridCol w="857160"/>
                <a:gridCol w="857160"/>
                <a:gridCol w="857160"/>
                <a:gridCol w="905040"/>
              </a:tblGrid>
              <a:tr h="390600">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items</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United States of America</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France</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Germany</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8880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Im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Ex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Saldo</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Im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Ex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Saldo</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Im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Ex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Saldo</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390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Prod. Agr. em geral</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5.689.918,75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3.324.897,50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634.978,75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7.947.245,50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0.760.418,50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2.813.173,00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7.845.235,75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6.644.222,25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ff0000"/>
                          </a:solidFill>
                          <a:latin typeface="Times New Roman"/>
                          <a:ea typeface="Times New Roman"/>
                        </a:rPr>
                        <a:t>(11.201.013,50)</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90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Manteiga</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01.359,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5.358,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56.001,0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40.175,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64.732,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275.442,2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01.881,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01.834,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300.047,25)</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Leite Cond, pó e fresco</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98.212,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083.895,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85.683,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044.055,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173.675,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129.620,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502.316,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512.242,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009.926,50 </a:t>
                      </a:r>
                      <a:endParaRPr b="0" lang="en-US" sz="900" spc="-1" strike="noStrike">
                        <a:solidFill>
                          <a:srgbClr val="000000"/>
                        </a:solidFill>
                        <a:latin typeface="Arial"/>
                      </a:endParaRPr>
                    </a:p>
                  </a:txBody>
                  <a:tcPr anchor="b" marL="90000" marR="90000">
                    <a:lnL>
                      <a:noFill/>
                    </a:lnL>
                    <a:lnR>
                      <a:noFill/>
                    </a:lnR>
                    <a:lnT>
                      <a:noFill/>
                    </a:lnT>
                    <a:lnB>
                      <a:noFill/>
                    </a:lnB>
                    <a:noFill/>
                  </a:tcPr>
                </a:tc>
              </a:tr>
              <a:tr h="389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Laticínios e Ovos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467.735,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617.921,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50.186,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716.680,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552.322,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835.642,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335.759,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879.065,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543.305,75 </a:t>
                      </a:r>
                      <a:endParaRPr b="0" lang="en-US" sz="900" spc="-1" strike="noStrike">
                        <a:solidFill>
                          <a:srgbClr val="000000"/>
                        </a:solidFill>
                        <a:latin typeface="Arial"/>
                      </a:endParaRPr>
                    </a:p>
                  </a:txBody>
                  <a:tcPr anchor="b" marL="90000" marR="90000">
                    <a:lnL>
                      <a:noFill/>
                    </a:lnL>
                    <a:lnR>
                      <a:noFill/>
                    </a:lnR>
                    <a:lnT>
                      <a:noFill/>
                    </a:lnT>
                    <a:lnB>
                      <a:noFill/>
                    </a:lnB>
                    <a:noFill/>
                  </a:tcPr>
                </a:tc>
              </a:tr>
              <a:tr h="390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Queijos e Coalhadas</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044.242,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61.455,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782.786,5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012.505,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912.884,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900.378,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734.510,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895.291,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60.780,25 </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Carnes em Geral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555.564,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097.249,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541.685,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582.166,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213.229,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368.937,0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779.058,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050.926,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71.868,75 </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Carne Bovina em geral</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499.275,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274.036,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ff0000"/>
                          </a:solidFill>
                          <a:latin typeface="Times New Roman"/>
                          <a:ea typeface="Times New Roman"/>
                        </a:rPr>
                        <a:t>(2.225.239,0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433.347,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131.578,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301.768,5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120.749,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594.883,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74.134,25 </a:t>
                      </a:r>
                      <a:endParaRPr b="0" lang="en-US" sz="900" spc="-1" strike="noStrike">
                        <a:solidFill>
                          <a:srgbClr val="000000"/>
                        </a:solidFill>
                        <a:latin typeface="Arial"/>
                      </a:endParaRPr>
                    </a:p>
                  </a:txBody>
                  <a:tcPr anchor="b" marL="90000" marR="90000">
                    <a:lnL>
                      <a:noFill/>
                    </a:lnL>
                    <a:lnR>
                      <a:noFill/>
                    </a:lnR>
                    <a:lnT>
                      <a:noFill/>
                    </a:lnT>
                    <a:lnB>
                      <a:noFill/>
                    </a:lnB>
                    <a:noFill/>
                  </a:tcPr>
                </a:tc>
              </a:tr>
              <a:tr h="388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Carne Suína</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907.180,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2.111.598,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1.204.417,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805.282,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989.465,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184.182,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1.927.825,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2.100.924,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173.098,75 </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Carne de Frango (Fresh)</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84.608,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499.437,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414.829,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64.099,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037.597,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73.497,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954.199,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60.070,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394.128,50)</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Soja</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9.356,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488.801,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419.445,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46.753,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1.166,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35.587,7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083.041,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9.182,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073.859,00)</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imes New Roman"/>
                          <a:ea typeface="Times New Roman"/>
                        </a:rPr>
                        <a:t>Cereais (Arroz, Trigo, etc)</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189.732,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4.865.405,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3.675.672,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87.031,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469.396,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782.365,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263.880,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886.449,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22.569,00 </a:t>
                      </a:r>
                      <a:endParaRPr b="0" lang="en-US" sz="900" spc="-1" strike="noStrike">
                        <a:solidFill>
                          <a:srgbClr val="000000"/>
                        </a:solidFill>
                        <a:latin typeface="Arial"/>
                      </a:endParaRPr>
                    </a:p>
                  </a:txBody>
                  <a:tcPr anchor="b" marL="90000" marR="90000">
                    <a:lnL>
                      <a:noFill/>
                    </a:lnL>
                    <a:lnR>
                      <a:noFill/>
                    </a:lnR>
                    <a:lnT>
                      <a:noFill/>
                    </a:lnT>
                    <a:lnB>
                      <a:noFill/>
                    </a:lnB>
                    <a:noFill/>
                  </a:tcPr>
                </a:tc>
              </a:tr>
              <a:tr h="388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Frutas e Vegetais</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5.381.353,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1.239.346,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ff0000"/>
                          </a:solidFill>
                          <a:latin typeface="Times New Roman"/>
                          <a:ea typeface="Times New Roman"/>
                        </a:rPr>
                        <a:t>(4.142.007,25)</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9.131.666,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184.861,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ff0000"/>
                          </a:solidFill>
                          <a:latin typeface="Times New Roman"/>
                          <a:ea typeface="Times New Roman"/>
                        </a:rPr>
                        <a:t>(3.946.805,5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4.823.007,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244.884,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ff0000"/>
                          </a:solidFill>
                          <a:latin typeface="Times New Roman"/>
                          <a:ea typeface="Times New Roman"/>
                        </a:rPr>
                        <a:t>(10.578.122,25)</a:t>
                      </a:r>
                      <a:endParaRPr b="0" lang="en-US" sz="8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Laranjas e frutas cítricas</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35.092,00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72.445,25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37.353,25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92.061,25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7.409,75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634.651,50)</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36.627,00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3.481,25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603.145,75)</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34920" y="-243000"/>
            <a:ext cx="9109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íses selecionados: China, índia e Japão</a:t>
            </a:r>
            <a:endParaRPr b="0" lang="en-US" sz="3200" spc="-1" strike="noStrike">
              <a:solidFill>
                <a:srgbClr val="000000"/>
              </a:solidFill>
              <a:latin typeface="Arial"/>
            </a:endParaRPr>
          </a:p>
        </p:txBody>
      </p:sp>
      <p:graphicFrame>
        <p:nvGraphicFramePr>
          <p:cNvPr id="148" name=""/>
          <p:cNvGraphicFramePr/>
          <p:nvPr/>
        </p:nvGraphicFramePr>
        <p:xfrm>
          <a:off x="34920" y="673200"/>
          <a:ext cx="9074160" cy="5851440"/>
        </p:xfrm>
        <a:graphic>
          <a:graphicData uri="http://schemas.openxmlformats.org/drawingml/2006/table">
            <a:tbl>
              <a:tblPr/>
              <a:tblGrid>
                <a:gridCol w="1387440"/>
                <a:gridCol w="863640"/>
                <a:gridCol w="861840"/>
                <a:gridCol w="909720"/>
                <a:gridCol w="804960"/>
                <a:gridCol w="863640"/>
                <a:gridCol w="804960"/>
                <a:gridCol w="861840"/>
                <a:gridCol w="806400"/>
                <a:gridCol w="909720"/>
              </a:tblGrid>
              <a:tr h="390600">
                <a:tc row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items</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China</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India</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Japan</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8880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Im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Ex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Saldo</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Im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Ex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Saldo</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Im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Ex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Saldo</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3906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Prod. Agr. em geral</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8.040.133,75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2.010.320,25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a:t>
                      </a:r>
                      <a:r>
                        <a:rPr b="0" lang="pt-BR" sz="800" spc="-1" strike="noStrike">
                          <a:solidFill>
                            <a:srgbClr val="ff0000"/>
                          </a:solidFill>
                          <a:latin typeface="Times New Roman"/>
                          <a:ea typeface="Times New Roman"/>
                        </a:rPr>
                        <a:t>16.029.813,50)</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331.301,25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1.020.840,75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689.539,50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3.100.614,75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032.212,75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a:t>
                      </a:r>
                      <a:r>
                        <a:rPr b="0" lang="pt-BR" sz="800" spc="-1" strike="noStrike">
                          <a:solidFill>
                            <a:srgbClr val="ff0000"/>
                          </a:solidFill>
                          <a:latin typeface="Times New Roman"/>
                          <a:ea typeface="Times New Roman"/>
                        </a:rPr>
                        <a:t>41.068.402,00)</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90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Manteiga</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4.108,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847,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70.261,2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167,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7.537,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1.370,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3.691,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42,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23.549,25)</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Leite Cond, pó e fresco</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65.988,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14.664,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551.324,2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863,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13.649,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08.785,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83.238,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948,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75.289,50)</a:t>
                      </a:r>
                      <a:endParaRPr b="0" lang="en-US" sz="900" spc="-1" strike="noStrike">
                        <a:solidFill>
                          <a:srgbClr val="000000"/>
                        </a:solidFill>
                        <a:latin typeface="Arial"/>
                      </a:endParaRPr>
                    </a:p>
                  </a:txBody>
                  <a:tcPr anchor="b" marL="90000" marR="90000">
                    <a:lnL>
                      <a:noFill/>
                    </a:lnL>
                    <a:lnR>
                      <a:noFill/>
                    </a:lnR>
                    <a:lnT>
                      <a:noFill/>
                    </a:lnT>
                    <a:lnB>
                      <a:noFill/>
                    </a:lnB>
                    <a:noFill/>
                  </a:tcPr>
                </a:tc>
              </a:tr>
              <a:tr h="3891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Laticínios e Ovos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836.510,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99.754,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636.756,0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4.848,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09.325,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94.477,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019.711,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2.278,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007.432,75)</a:t>
                      </a:r>
                      <a:endParaRPr b="0" lang="en-US" sz="900" spc="-1" strike="noStrike">
                        <a:solidFill>
                          <a:srgbClr val="000000"/>
                        </a:solidFill>
                        <a:latin typeface="Arial"/>
                      </a:endParaRPr>
                    </a:p>
                  </a:txBody>
                  <a:tcPr anchor="b" marL="90000" marR="90000">
                    <a:lnL>
                      <a:noFill/>
                    </a:lnL>
                    <a:lnR>
                      <a:noFill/>
                    </a:lnR>
                    <a:lnT>
                      <a:noFill/>
                    </a:lnT>
                    <a:lnB>
                      <a:noFill/>
                    </a:lnB>
                    <a:noFill/>
                  </a:tcPr>
                </a:tc>
              </a:tr>
              <a:tr h="390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Queijos e Coalhadas</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94.840,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750,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93.089,7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072,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193,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20,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49.629,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772,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746.857,50)</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Carnes em Geral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386.408,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937.625,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51.217,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308,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59.793,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58.485,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9.002.688,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7.273,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8.985.415,25)</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Carne Bovina em geral</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09.838,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47.153,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62.685,0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11,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32.668,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32.556,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050.580,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1.285,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2.039.294,75)</a:t>
                      </a:r>
                      <a:endParaRPr b="0" lang="en-US" sz="900" spc="-1" strike="noStrike">
                        <a:solidFill>
                          <a:srgbClr val="000000"/>
                        </a:solidFill>
                        <a:latin typeface="Arial"/>
                      </a:endParaRPr>
                    </a:p>
                  </a:txBody>
                  <a:tcPr anchor="b" marL="90000" marR="90000">
                    <a:lnL>
                      <a:noFill/>
                    </a:lnL>
                    <a:lnR>
                      <a:noFill/>
                    </a:lnR>
                    <a:lnT>
                      <a:noFill/>
                    </a:lnT>
                    <a:lnB>
                      <a:noFill/>
                    </a:lnB>
                    <a:noFill/>
                  </a:tcPr>
                </a:tc>
              </a:tr>
              <a:tr h="3888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Carne Suína</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97.403,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387.812,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290.409,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163,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995,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832,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3.961.261,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569,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ff0000"/>
                          </a:solidFill>
                          <a:latin typeface="Times New Roman"/>
                          <a:ea typeface="Times New Roman"/>
                        </a:rPr>
                        <a:t>(3.960.691,25)</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Carne de Frango (Fresh)</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65.931,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11.173,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354.757,5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1,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572,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541,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76.759,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212,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773.547,50)</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Soja</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9.160.389,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64.427,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8.995.961,2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7,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763,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736,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536.792,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274,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535.517,75)</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imes New Roman"/>
                          <a:ea typeface="Times New Roman"/>
                        </a:rPr>
                        <a:t>Cereais (Arroz, Trigo, etc)</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424.687,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411.229,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013.458,2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94.638,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236.865,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742.227,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309.773,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81.090,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5.228.683,00)</a:t>
                      </a:r>
                      <a:endParaRPr b="0" lang="en-US" sz="900" spc="-1" strike="noStrike">
                        <a:solidFill>
                          <a:srgbClr val="000000"/>
                        </a:solidFill>
                        <a:latin typeface="Arial"/>
                      </a:endParaRPr>
                    </a:p>
                  </a:txBody>
                  <a:tcPr anchor="b" marL="90000" marR="90000">
                    <a:lnL>
                      <a:noFill/>
                    </a:lnL>
                    <a:lnR>
                      <a:noFill/>
                    </a:lnR>
                    <a:lnT>
                      <a:noFill/>
                    </a:lnT>
                    <a:lnB>
                      <a:noFill/>
                    </a:lnB>
                    <a:noFill/>
                  </a:tcPr>
                </a:tc>
              </a:tr>
              <a:tr h="3888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Frutas e Vegetais</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286.839,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8.664.769,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377.929,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673.072,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551.144,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21.927,5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735.510,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46.849,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6.588.661,00)</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Laranjas e frutas cítricas</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1.551,00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43.726,00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92.175,00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389,75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088,00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698,25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19.563,25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419,00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15.144,25)</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0" y="-162000"/>
            <a:ext cx="10117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íses selecionados: </a:t>
            </a:r>
            <a:r>
              <a:rPr b="1" lang="pt-BR" sz="2800" spc="-1" strike="noStrike">
                <a:solidFill>
                  <a:srgbClr val="000000"/>
                </a:solidFill>
                <a:latin typeface="Arial"/>
              </a:rPr>
              <a:t>Reino Unido, Japão e Rússia</a:t>
            </a:r>
            <a:endParaRPr b="0" lang="en-US" sz="2800" spc="-1" strike="noStrike">
              <a:solidFill>
                <a:srgbClr val="000000"/>
              </a:solidFill>
              <a:latin typeface="Arial"/>
            </a:endParaRPr>
          </a:p>
        </p:txBody>
      </p:sp>
      <p:graphicFrame>
        <p:nvGraphicFramePr>
          <p:cNvPr id="150" name=""/>
          <p:cNvGraphicFramePr/>
          <p:nvPr/>
        </p:nvGraphicFramePr>
        <p:xfrm>
          <a:off x="0" y="746280"/>
          <a:ext cx="9144000" cy="5851440"/>
        </p:xfrm>
        <a:graphic>
          <a:graphicData uri="http://schemas.openxmlformats.org/drawingml/2006/table">
            <a:tbl>
              <a:tblPr/>
              <a:tblGrid>
                <a:gridCol w="1382760"/>
                <a:gridCol w="858960"/>
                <a:gridCol w="860400"/>
                <a:gridCol w="904680"/>
                <a:gridCol w="860400"/>
                <a:gridCol w="801720"/>
                <a:gridCol w="906480"/>
                <a:gridCol w="858960"/>
                <a:gridCol w="803160"/>
                <a:gridCol w="906480"/>
              </a:tblGrid>
              <a:tr h="390240">
                <a:tc row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items</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United Kingdom</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Japan</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Russian Federation</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8916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Im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Ex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Saldo</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Im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Ex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Saldo</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Im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Ex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Saldo</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3906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Prod. Agr. em geral</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5.930.664,75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1.305.944,25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ff0000"/>
                          </a:solidFill>
                          <a:latin typeface="Times New Roman"/>
                          <a:ea typeface="Times New Roman"/>
                        </a:rPr>
                        <a:t>(24.624.720,50)</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3.100.614,75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032.212,75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ff0000"/>
                          </a:solidFill>
                          <a:latin typeface="Times New Roman"/>
                          <a:ea typeface="Times New Roman"/>
                        </a:rPr>
                        <a:t>(41.068.402,00)</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7.915.948,25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437.656,50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ff0000"/>
                          </a:solidFill>
                          <a:latin typeface="Times New Roman"/>
                          <a:ea typeface="Times New Roman"/>
                        </a:rPr>
                        <a:t>(13.478.291,75)</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90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Manteiga</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36.010,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20.920,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415.090,7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3.691,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42,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23.549,2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71.402,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641,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65.761,00)</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Leite Cond, pó e fresco</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46.796,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40.259,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6.537,7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83.238,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948,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75.289,5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20.904,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16.210,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4.693,75)</a:t>
                      </a:r>
                      <a:endParaRPr b="0" lang="en-US" sz="900" spc="-1" strike="noStrike">
                        <a:solidFill>
                          <a:srgbClr val="000000"/>
                        </a:solidFill>
                        <a:latin typeface="Arial"/>
                      </a:endParaRPr>
                    </a:p>
                  </a:txBody>
                  <a:tcPr anchor="b" marL="90000" marR="90000">
                    <a:lnL>
                      <a:noFill/>
                    </a:lnL>
                    <a:lnR>
                      <a:noFill/>
                    </a:lnR>
                    <a:lnT>
                      <a:noFill/>
                    </a:lnT>
                    <a:lnB>
                      <a:noFill/>
                    </a:lnB>
                    <a:noFill/>
                  </a:tcPr>
                </a:tc>
              </a:tr>
              <a:tr h="3891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Laticínios e Ovos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056.528,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327.881,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728.647,2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019.711,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2.278,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007.432,7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974.158,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62.575,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811.583,50)</a:t>
                      </a:r>
                      <a:endParaRPr b="0" lang="en-US" sz="900" spc="-1" strike="noStrike">
                        <a:solidFill>
                          <a:srgbClr val="000000"/>
                        </a:solidFill>
                        <a:latin typeface="Arial"/>
                      </a:endParaRPr>
                    </a:p>
                  </a:txBody>
                  <a:tcPr anchor="b" marL="90000" marR="90000">
                    <a:lnL>
                      <a:noFill/>
                    </a:lnL>
                    <a:lnR>
                      <a:noFill/>
                    </a:lnR>
                    <a:lnT>
                      <a:noFill/>
                    </a:lnT>
                    <a:lnB>
                      <a:noFill/>
                    </a:lnB>
                    <a:noFill/>
                  </a:tcPr>
                </a:tc>
              </a:tr>
              <a:tr h="390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Queijos e Coalhadas</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632.956,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17.314,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215.642,0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49.629,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772,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746.857,5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40.282,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0.070,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610.211,50)</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Carnes em Geral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132.909,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396.995,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5.735.913,2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9.002.688,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7.273,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8.985.415,2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651.563,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5.995,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3.595.568,50)</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Carne Bovina em geral</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500.880,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48.561,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352.318,2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050.580,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1.285,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2.039.294,7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256.581,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0.197,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246.383,75)</a:t>
                      </a:r>
                      <a:endParaRPr b="0" lang="en-US" sz="900" spc="-1" strike="noStrike">
                        <a:solidFill>
                          <a:srgbClr val="000000"/>
                        </a:solidFill>
                        <a:latin typeface="Arial"/>
                      </a:endParaRPr>
                    </a:p>
                  </a:txBody>
                  <a:tcPr anchor="b" marL="90000" marR="90000">
                    <a:lnL>
                      <a:noFill/>
                    </a:lnL>
                    <a:lnR>
                      <a:noFill/>
                    </a:lnR>
                    <a:lnT>
                      <a:noFill/>
                    </a:lnT>
                    <a:lnB>
                      <a:noFill/>
                    </a:lnB>
                    <a:noFill/>
                  </a:tcPr>
                </a:tc>
              </a:tr>
              <a:tr h="3888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Carne Suína</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1.135.578,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178.888,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ff0000"/>
                          </a:solidFill>
                          <a:latin typeface="Times New Roman"/>
                          <a:ea typeface="Times New Roman"/>
                        </a:rPr>
                        <a:t>(956.690,0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3.961.261,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569,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ff0000"/>
                          </a:solidFill>
                          <a:latin typeface="Times New Roman"/>
                          <a:ea typeface="Times New Roman"/>
                        </a:rPr>
                        <a:t>(3.960.691,2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1.120.028,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127,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ff0000"/>
                          </a:solidFill>
                          <a:latin typeface="Times New Roman"/>
                          <a:ea typeface="Times New Roman"/>
                        </a:rPr>
                        <a:t>(1.119.900,50)</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Carne de Frango (Fresh)</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366.457,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35.508,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030.949,0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76.759,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212,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773.547,5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867.012,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94,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866.518,25)</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Soja</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48.128,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037,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244.090,7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536.792,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274,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535.517,7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6.189,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290,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3.899,25)</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imes New Roman"/>
                          <a:ea typeface="Times New Roman"/>
                        </a:rPr>
                        <a:t>Cereais (Arroz, Trigo, etc)</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990.979,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29.451,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361.528,7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309.773,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81.090,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5.228.683,0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55.741,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962.246,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606.505,25 </a:t>
                      </a:r>
                      <a:endParaRPr b="0" lang="en-US" sz="900" spc="-1" strike="noStrike">
                        <a:solidFill>
                          <a:srgbClr val="000000"/>
                        </a:solidFill>
                        <a:latin typeface="Arial"/>
                      </a:endParaRPr>
                    </a:p>
                  </a:txBody>
                  <a:tcPr anchor="b" marL="90000" marR="90000">
                    <a:lnL>
                      <a:noFill/>
                    </a:lnL>
                    <a:lnR>
                      <a:noFill/>
                    </a:lnR>
                    <a:lnT>
                      <a:noFill/>
                    </a:lnT>
                    <a:lnB>
                      <a:noFill/>
                    </a:lnB>
                    <a:noFill/>
                  </a:tcPr>
                </a:tc>
              </a:tr>
              <a:tr h="3888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Frutas e Vegetais</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0.717.867,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021.887,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9.695.980,0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735.510,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46.849,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6.588.661,0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351.193,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04.164,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4.147.029,00)</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Laranjas e frutas cítricas</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04.328,50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9.583,25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474.745,25)</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19.563,25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419,00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15.144,25)</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55.570,50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746,25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448.824,25)</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0" y="274680"/>
            <a:ext cx="9144000" cy="585144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O que se pode fazer para contornar esta crise?</a:t>
            </a:r>
            <a:endParaRPr b="0" lang="en-US" sz="2600" spc="-1" strike="noStrike">
              <a:solidFill>
                <a:srgbClr val="000000"/>
              </a:solidFill>
              <a:latin typeface="Arial"/>
            </a:endParaRPr>
          </a:p>
          <a:p>
            <a:pPr marL="343080" indent="-343080" algn="just">
              <a:lnSpc>
                <a:spcPct val="85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Se pretendemos enfrentá-la a partir de recursos endógenos – a partir do que temos aqui – será preciso partir de uma reconversão produtiva agropecuária.</a:t>
            </a:r>
            <a:endParaRPr b="0" lang="en-US" sz="2600" spc="-1" strike="noStrike">
              <a:solidFill>
                <a:srgbClr val="000000"/>
              </a:solidFill>
              <a:latin typeface="Arial"/>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E é este o olhar que temos de dirigir ao mundo agora: para além da explosão da bolha financeira norte-americana, para onde vai o mundo?</a:t>
            </a:r>
            <a:endParaRPr b="0" lang="en-US" sz="2600" spc="-1" strike="noStrike">
              <a:solidFill>
                <a:srgbClr val="000000"/>
              </a:solidFill>
              <a:latin typeface="Arial"/>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Em particular: para onde vai a produção e o mercado nacional e mundial de alimentos? </a:t>
            </a:r>
            <a:endParaRPr b="0" lang="en-US" sz="2600" spc="-1" strike="noStrike">
              <a:solidFill>
                <a:srgbClr val="000000"/>
              </a:solidFill>
              <a:latin typeface="Arial"/>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Como podemos nos (re)inserir dinamicamente no mundo em transformação? ....</a:t>
            </a:r>
            <a:endParaRPr b="0" lang="en-US" sz="2600" spc="-1" strike="noStrike">
              <a:solidFill>
                <a:srgbClr val="000000"/>
              </a:solidFill>
              <a:latin typeface="Arial"/>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Responder a estas e outras perguntas passa por aprender com o passad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34920" y="-243000"/>
            <a:ext cx="9109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íses selecionados: </a:t>
            </a:r>
            <a:r>
              <a:rPr b="1" lang="pt-BR" sz="2800" spc="-1" strike="noStrike">
                <a:solidFill>
                  <a:srgbClr val="000000"/>
                </a:solidFill>
                <a:latin typeface="Arial"/>
              </a:rPr>
              <a:t>México, Africa do Sul e Coréia</a:t>
            </a:r>
            <a:endParaRPr b="0" lang="en-US" sz="2800" spc="-1" strike="noStrike">
              <a:solidFill>
                <a:srgbClr val="000000"/>
              </a:solidFill>
              <a:latin typeface="Arial"/>
            </a:endParaRPr>
          </a:p>
        </p:txBody>
      </p:sp>
      <p:graphicFrame>
        <p:nvGraphicFramePr>
          <p:cNvPr id="152" name=""/>
          <p:cNvGraphicFramePr/>
          <p:nvPr/>
        </p:nvGraphicFramePr>
        <p:xfrm>
          <a:off x="34920" y="673200"/>
          <a:ext cx="9074160" cy="5851440"/>
        </p:xfrm>
        <a:graphic>
          <a:graphicData uri="http://schemas.openxmlformats.org/drawingml/2006/table">
            <a:tbl>
              <a:tblPr/>
              <a:tblGrid>
                <a:gridCol w="1414440"/>
                <a:gridCol w="879480"/>
                <a:gridCol w="878040"/>
                <a:gridCol w="869760"/>
                <a:gridCol w="820800"/>
                <a:gridCol w="820800"/>
                <a:gridCol w="822240"/>
                <a:gridCol w="878040"/>
                <a:gridCol w="820440"/>
                <a:gridCol w="870120"/>
              </a:tblGrid>
              <a:tr h="390600">
                <a:tc rowSpan="2">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items</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gridSpan="3">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Mexico</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South Africa</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Korea, Republic of</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8880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Im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Ex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Saldo</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Im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Ex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Saldo</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Im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Ex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Saldo</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390600">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Prod. Agr. em geral</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5.646.621,25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2.115.455,00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3.531.166,25)</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219.160,50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798.220,50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79.060,00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2.259.611,00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340.518,50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9.919.092,50)</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90240">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Manteiga</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37.567,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629,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34.938,0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695,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193,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4.502,2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0.306,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7,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0.289,25)</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Leite Cond, pó e fresco</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35.823,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4.782,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681.040,2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5.487,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4.668,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20.819,2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24.751,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8.489,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16.262,25)</a:t>
                      </a:r>
                      <a:endParaRPr b="0" lang="en-US" sz="900" spc="-1" strike="noStrike">
                        <a:solidFill>
                          <a:srgbClr val="000000"/>
                        </a:solidFill>
                        <a:latin typeface="Arial"/>
                      </a:endParaRPr>
                    </a:p>
                  </a:txBody>
                  <a:tcPr anchor="b" marL="90000" marR="90000">
                    <a:lnL>
                      <a:noFill/>
                    </a:lnL>
                    <a:lnR>
                      <a:noFill/>
                    </a:lnR>
                    <a:lnT>
                      <a:noFill/>
                    </a:lnT>
                    <a:lnB>
                      <a:noFill/>
                    </a:lnB>
                    <a:noFill/>
                  </a:tcPr>
                </a:tc>
              </a:tr>
              <a:tr h="389160">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Laticínios e Ovos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174.497,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8.683,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105.814,5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3.017,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3.898,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39.119,0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88.408,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9.650,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278.757,75)</a:t>
                      </a:r>
                      <a:endParaRPr b="0" lang="en-US" sz="900" spc="-1" strike="noStrike">
                        <a:solidFill>
                          <a:srgbClr val="000000"/>
                        </a:solidFill>
                        <a:latin typeface="Arial"/>
                      </a:endParaRPr>
                    </a:p>
                  </a:txBody>
                  <a:tcPr anchor="b" marL="90000" marR="90000">
                    <a:lnL>
                      <a:noFill/>
                    </a:lnL>
                    <a:lnR>
                      <a:noFill/>
                    </a:lnR>
                    <a:lnT>
                      <a:noFill/>
                    </a:lnT>
                    <a:lnB>
                      <a:noFill/>
                    </a:lnB>
                    <a:noFill/>
                  </a:tcPr>
                </a:tc>
              </a:tr>
              <a:tr h="390240">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Queijos e Coalhadas</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70.343,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0.063,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260.279,5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0.042,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107,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4.935,2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47.255,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092,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46.163,75)</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Carnes em Geral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547.694,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84.364,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2.163.329,7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91.492,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5.621,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215.871,2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623.919,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9.728,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584.190,50)</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Carne Bovina em geral</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919.131,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22.642,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796.489,0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8.016,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2.225,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5.791,5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48.234,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934,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744.299,75)</a:t>
                      </a:r>
                      <a:endParaRPr b="0" lang="en-US" sz="900" spc="-1" strike="noStrike">
                        <a:solidFill>
                          <a:srgbClr val="000000"/>
                        </a:solidFill>
                        <a:latin typeface="Arial"/>
                      </a:endParaRPr>
                    </a:p>
                  </a:txBody>
                  <a:tcPr anchor="b" marL="90000" marR="90000">
                    <a:lnL>
                      <a:noFill/>
                    </a:lnL>
                    <a:lnR>
                      <a:noFill/>
                    </a:lnR>
                    <a:lnT>
                      <a:noFill/>
                    </a:lnT>
                    <a:lnB>
                      <a:noFill/>
                    </a:lnB>
                    <a:noFill/>
                  </a:tcPr>
                </a:tc>
              </a:tr>
              <a:tr h="388800">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Carne Suína</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526.480,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192.989,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ff0000"/>
                          </a:solidFill>
                          <a:latin typeface="Times New Roman"/>
                          <a:ea typeface="Times New Roman"/>
                        </a:rPr>
                        <a:t>(333.491,0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41.705,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2.107,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ff0000"/>
                          </a:solidFill>
                          <a:latin typeface="Times New Roman"/>
                          <a:ea typeface="Times New Roman"/>
                        </a:rPr>
                        <a:t>(39.598,0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632.265,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13.771,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ff0000"/>
                          </a:solidFill>
                          <a:latin typeface="Times New Roman"/>
                          <a:ea typeface="Times New Roman"/>
                        </a:rPr>
                        <a:t>(618.494,25)</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Carne de Frango (Fresh)</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45.907,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10,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545.297,5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54.011,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382,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48.629,2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4.223,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151,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70.071,50)</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Soja</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040.260,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804,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039.455,7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1.107,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87,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0.320,0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01.948,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8,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401.870,00)</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Cereais (Arroz, Trigo, etc)</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363.446,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40.264,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2.223.182,0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69.122,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59.504,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409.617,7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276.020,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943,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2.269.076,75)</a:t>
                      </a:r>
                      <a:endParaRPr b="0" lang="en-US" sz="900" spc="-1" strike="noStrike">
                        <a:solidFill>
                          <a:srgbClr val="000000"/>
                        </a:solidFill>
                        <a:latin typeface="Arial"/>
                      </a:endParaRPr>
                    </a:p>
                  </a:txBody>
                  <a:tcPr anchor="b" marL="90000" marR="90000">
                    <a:lnL>
                      <a:noFill/>
                    </a:lnL>
                    <a:lnR>
                      <a:noFill/>
                    </a:lnR>
                    <a:lnT>
                      <a:noFill/>
                    </a:lnT>
                    <a:lnB>
                      <a:noFill/>
                    </a:lnB>
                    <a:noFill/>
                  </a:tcPr>
                </a:tc>
              </a:tr>
              <a:tr h="388800">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Frutas e Vegetais</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378.657,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617.521,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238.863,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12.205,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663.007,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450.802,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318.041,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35.818,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982.222,75)</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Laranjas e frutas cítricas</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735,25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427,25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92,00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981,75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68.041,75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67.060,00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22.123,25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295,50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17.827,75)</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36360" y="-387360"/>
            <a:ext cx="9793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íses selecionados: </a:t>
            </a:r>
            <a:r>
              <a:rPr b="1" lang="pt-BR" sz="2400" spc="-1" strike="noStrike">
                <a:solidFill>
                  <a:srgbClr val="000000"/>
                </a:solidFill>
                <a:latin typeface="Arial"/>
              </a:rPr>
              <a:t>Nova Zelândia, Austrália e Paquistão</a:t>
            </a:r>
            <a:endParaRPr b="0" lang="en-US" sz="2400" spc="-1" strike="noStrike">
              <a:solidFill>
                <a:srgbClr val="000000"/>
              </a:solidFill>
              <a:latin typeface="Arial"/>
            </a:endParaRPr>
          </a:p>
        </p:txBody>
      </p:sp>
      <p:graphicFrame>
        <p:nvGraphicFramePr>
          <p:cNvPr id="154" name=""/>
          <p:cNvGraphicFramePr/>
          <p:nvPr/>
        </p:nvGraphicFramePr>
        <p:xfrm>
          <a:off x="0" y="600120"/>
          <a:ext cx="9144000" cy="5853240"/>
        </p:xfrm>
        <a:graphic>
          <a:graphicData uri="http://schemas.openxmlformats.org/drawingml/2006/table">
            <a:tbl>
              <a:tblPr/>
              <a:tblGrid>
                <a:gridCol w="1432080"/>
                <a:gridCol w="833400"/>
                <a:gridCol w="890640"/>
                <a:gridCol w="830160"/>
                <a:gridCol w="833400"/>
                <a:gridCol w="890640"/>
                <a:gridCol w="890640"/>
                <a:gridCol w="830160"/>
                <a:gridCol w="833400"/>
                <a:gridCol w="879480"/>
              </a:tblGrid>
              <a:tr h="291960">
                <a:tc row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items</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New Zealand</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Australia</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Pakistan</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29232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Im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Ex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Saldo</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Im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Ex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Saldo</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Im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Ex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Saldo</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2905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Prod. Agr. em geral</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132.081,25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1.333.399,25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9.201.318,00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865.000,50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1.582.479,75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5.717.479,25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074.965,50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750.748,00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324.217,50)</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Manteiga</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476,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19.768,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16.292,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6.895,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52.795,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25.899,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92,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1,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250,25)</a:t>
                      </a:r>
                      <a:endParaRPr b="0" lang="en-US" sz="900" spc="-1" strike="noStrike">
                        <a:solidFill>
                          <a:srgbClr val="000000"/>
                        </a:solidFill>
                        <a:latin typeface="Arial"/>
                      </a:endParaRPr>
                    </a:p>
                  </a:txBody>
                  <a:tcPr anchor="b" marL="90000" marR="90000">
                    <a:lnL>
                      <a:noFill/>
                    </a:lnL>
                    <a:lnR>
                      <a:noFill/>
                    </a:lnR>
                    <a:lnT>
                      <a:noFill/>
                    </a:lnT>
                    <a:lnB>
                      <a:noFill/>
                    </a:lnB>
                    <a:noFill/>
                  </a:tcPr>
                </a:tc>
              </a:tr>
              <a:tr h="660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Leite Cond, pó e fresco</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6.227,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596.788,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570.560,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0.870,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018.700,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967.830,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2.170,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32.170,50)</a:t>
                      </a:r>
                      <a:endParaRPr b="0" lang="en-US" sz="900" spc="-1" strike="noStrike">
                        <a:solidFill>
                          <a:srgbClr val="000000"/>
                        </a:solidFill>
                        <a:latin typeface="Arial"/>
                      </a:endParaRPr>
                    </a:p>
                  </a:txBody>
                  <a:tcPr anchor="b" marL="90000" marR="90000">
                    <a:lnL>
                      <a:noFill/>
                    </a:lnL>
                    <a:lnR>
                      <a:noFill/>
                    </a:lnR>
                    <a:lnT>
                      <a:noFill/>
                    </a:lnT>
                    <a:lnB>
                      <a:noFill/>
                    </a:lnB>
                    <a:noFill/>
                  </a:tcPr>
                </a:tc>
              </a:tr>
              <a:tr h="292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Laticínios e Ovos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0.947,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124.484,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073.537,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03.379,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838.753,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535.374,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5.766,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7.121,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8.644,50)</a:t>
                      </a:r>
                      <a:endParaRPr b="0" lang="en-US" sz="900" spc="-1" strike="noStrike">
                        <a:solidFill>
                          <a:srgbClr val="000000"/>
                        </a:solidFill>
                        <a:latin typeface="Arial"/>
                      </a:endParaRPr>
                    </a:p>
                  </a:txBody>
                  <a:tcPr anchor="b" marL="90000" marR="90000">
                    <a:lnL>
                      <a:noFill/>
                    </a:lnL>
                    <a:lnR>
                      <a:no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Queijos e Coalhadas</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0.003,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803.785,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83.781,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21.870,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65.266,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43.396,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660,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2.657,50)</a:t>
                      </a:r>
                      <a:endParaRPr b="0" lang="en-US" sz="900" spc="-1" strike="noStrike">
                        <a:solidFill>
                          <a:srgbClr val="000000"/>
                        </a:solidFill>
                        <a:latin typeface="Arial"/>
                      </a:endParaRPr>
                    </a:p>
                  </a:txBody>
                  <a:tcPr anchor="b" marL="90000" marR="90000">
                    <a:lnL>
                      <a:noFill/>
                    </a:lnL>
                    <a:lnR>
                      <a:noFill/>
                    </a:lnR>
                    <a:lnT>
                      <a:noFill/>
                    </a:lnT>
                    <a:lnB>
                      <a:noFill/>
                    </a:lnB>
                    <a:noFill/>
                  </a:tcPr>
                </a:tc>
              </a:tr>
              <a:tr h="6620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Carnes em Geral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15.808,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193.801,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077.993,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02.810,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239.140,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936.330,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217,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7.217,00)</a:t>
                      </a:r>
                      <a:endParaRPr b="0" lang="en-US" sz="900" spc="-1" strike="noStrike">
                        <a:solidFill>
                          <a:srgbClr val="000000"/>
                        </a:solidFill>
                        <a:latin typeface="Arial"/>
                      </a:endParaRPr>
                    </a:p>
                  </a:txBody>
                  <a:tcPr anchor="b" marL="90000" marR="90000">
                    <a:lnL>
                      <a:noFill/>
                    </a:lnL>
                    <a:lnR>
                      <a:no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Carne Bovina em geral</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9.503,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268.512,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239.008,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6.080,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653.870,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627.790,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939,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740,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800,25 </a:t>
                      </a:r>
                      <a:endParaRPr b="0" lang="en-US" sz="900" spc="-1" strike="noStrike">
                        <a:solidFill>
                          <a:srgbClr val="000000"/>
                        </a:solidFill>
                        <a:latin typeface="Arial"/>
                      </a:endParaRPr>
                    </a:p>
                  </a:txBody>
                  <a:tcPr anchor="b" marL="90000" marR="90000">
                    <a:lnL>
                      <a:noFill/>
                    </a:lnL>
                    <a:lnR>
                      <a:noFill/>
                    </a:lnR>
                    <a:lnT>
                      <a:noFill/>
                    </a:lnT>
                    <a:lnB>
                      <a:noFill/>
                    </a:lnB>
                    <a:noFill/>
                  </a:tcPr>
                </a:tc>
              </a:tr>
              <a:tr h="6606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Carne Suína</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67.560,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421,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ff0000"/>
                          </a:solidFill>
                          <a:latin typeface="Times New Roman"/>
                          <a:ea typeface="Times New Roman"/>
                        </a:rPr>
                        <a:t>(67.138,7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254.506,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112.982,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ff0000"/>
                          </a:solidFill>
                          <a:latin typeface="Times New Roman"/>
                          <a:ea typeface="Times New Roman"/>
                        </a:rPr>
                        <a:t>(141.524,0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0,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0,00 </a:t>
                      </a:r>
                      <a:endParaRPr b="0" lang="en-US" sz="900" spc="-1" strike="noStrike">
                        <a:solidFill>
                          <a:srgbClr val="000000"/>
                        </a:solidFill>
                        <a:latin typeface="Arial"/>
                      </a:endParaRPr>
                    </a:p>
                  </a:txBody>
                  <a:tcPr anchor="b" marL="90000" marR="90000">
                    <a:lnL>
                      <a:noFill/>
                    </a:lnL>
                    <a:lnR>
                      <a:noFill/>
                    </a:lnR>
                    <a:lnT>
                      <a:noFill/>
                    </a:lnT>
                    <a:lnB>
                      <a:noFill/>
                    </a:lnB>
                    <a:noFill/>
                  </a:tcPr>
                </a:tc>
              </a:tr>
              <a:tr h="660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Carne de Frango (Fresh)</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0,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909,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909,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3,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7.662,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7.619,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83,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283,25)</a:t>
                      </a:r>
                      <a:endParaRPr b="0" lang="en-US" sz="900" spc="-1" strike="noStrike">
                        <a:solidFill>
                          <a:srgbClr val="000000"/>
                        </a:solidFill>
                        <a:latin typeface="Arial"/>
                      </a:endParaRPr>
                    </a:p>
                  </a:txBody>
                  <a:tcPr anchor="b" marL="90000" marR="90000">
                    <a:lnL>
                      <a:noFill/>
                    </a:lnL>
                    <a:lnR>
                      <a:noFill/>
                    </a:lnR>
                    <a:lnT>
                      <a:noFill/>
                    </a:lnT>
                    <a:lnB>
                      <a:noFill/>
                    </a:lnB>
                    <a:noFill/>
                  </a:tcPr>
                </a:tc>
              </a:tr>
              <a:tr h="292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Soja</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99,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593,7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233,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492,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59,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043,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0,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7.043,00)</a:t>
                      </a:r>
                      <a:endParaRPr b="0" lang="en-US" sz="900" spc="-1" strike="noStrike">
                        <a:solidFill>
                          <a:srgbClr val="000000"/>
                        </a:solidFill>
                        <a:latin typeface="Arial"/>
                      </a:endParaRPr>
                    </a:p>
                  </a:txBody>
                  <a:tcPr anchor="b" marL="90000" marR="90000">
                    <a:lnL>
                      <a:noFill/>
                    </a:lnL>
                    <a:lnR>
                      <a:noFill/>
                    </a:lnR>
                    <a:lnT>
                      <a:noFill/>
                    </a:lnT>
                    <a:lnB>
                      <a:noFill/>
                    </a:lnB>
                    <a:noFill/>
                  </a:tcPr>
                </a:tc>
              </a:tr>
              <a:tr h="2905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Cereais (Arroz, Trigo, etc)</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20.189,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169,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18.020,0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6.163,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819.201,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753.038,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47.790,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070.790,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923.000,50 </a:t>
                      </a:r>
                      <a:endParaRPr b="0" lang="en-US" sz="900" spc="-1" strike="noStrike">
                        <a:solidFill>
                          <a:srgbClr val="000000"/>
                        </a:solidFill>
                        <a:latin typeface="Arial"/>
                      </a:endParaRPr>
                    </a:p>
                  </a:txBody>
                  <a:tcPr anchor="b" marL="90000" marR="90000">
                    <a:lnL>
                      <a:noFill/>
                    </a:lnL>
                    <a:lnR>
                      <a:no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Frutas e Vegetais</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78.023,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243.577,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865.553,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982.249,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036.238,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3.988,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75.094,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90.833,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84.261,50)</a:t>
                      </a:r>
                      <a:endParaRPr b="0" lang="en-US" sz="900" spc="-1" strike="noStrike">
                        <a:solidFill>
                          <a:srgbClr val="000000"/>
                        </a:solidFill>
                        <a:latin typeface="Arial"/>
                      </a:endParaRPr>
                    </a:p>
                  </a:txBody>
                  <a:tcPr anchor="b" marL="90000" marR="90000">
                    <a:lnL>
                      <a:noFill/>
                    </a:lnL>
                    <a:lnR>
                      <a:noFill/>
                    </a:lnR>
                    <a:lnT>
                      <a:noFill/>
                    </a:lnT>
                    <a:lnB>
                      <a:noFill/>
                    </a:lnB>
                    <a:noFill/>
                  </a:tcPr>
                </a:tc>
              </a:tr>
              <a:tr h="292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Laranjas e frutas cítricas</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5.944,25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524,50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3.419,75)</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4.832,00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28.735,25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13.903,25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3,50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1.146,50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1.133,00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5" name=""/>
          <p:cNvGraphicFramePr/>
          <p:nvPr/>
        </p:nvGraphicFramePr>
        <p:xfrm>
          <a:off x="500040" y="714240"/>
          <a:ext cx="7786800" cy="5505480"/>
        </p:xfrm>
        <a:graphic>
          <a:graphicData uri="http://schemas.openxmlformats.org/drawingml/2006/table">
            <a:tbl>
              <a:tblPr/>
              <a:tblGrid>
                <a:gridCol w="5122800"/>
                <a:gridCol w="2664000"/>
              </a:tblGrid>
              <a:tr h="409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Itens</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Países Selec</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r>
              <a:tr h="3906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Produtos Agrícolas em geral</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00"/>
                          </a:solidFill>
                          <a:latin typeface="Calibri"/>
                        </a:rPr>
                        <a:t>-35.527.391.00</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a:noFill/>
                    </a:lnB>
                    <a:noFill/>
                  </a:tcPr>
                </a:tc>
              </a:tr>
              <a:tr h="3906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Manteiga</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00"/>
                          </a:solidFill>
                          <a:latin typeface="Calibri"/>
                        </a:rPr>
                        <a:t>-739.938.25</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r>
              <a:tr h="3902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Leite Cond, em pó e fresco</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6.462.369.50</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r>
              <a:tr h="3906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Laticínios e Ovos </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4.565.023.00</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r>
              <a:tr h="3906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Queijos e Coalhadas</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00"/>
                          </a:solidFill>
                          <a:latin typeface="Calibri"/>
                        </a:rPr>
                        <a:t>-1.060.146.75</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r>
              <a:tr h="3906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Carnes em Geral </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00"/>
                          </a:solidFill>
                          <a:latin typeface="Calibri"/>
                        </a:rPr>
                        <a:t>-5.330.102.75</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r>
              <a:tr h="3906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Carne Bovina em geral</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403.263.50</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r>
              <a:tr h="3902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Carne Suína</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00"/>
                          </a:solidFill>
                          <a:latin typeface="Calibri"/>
                        </a:rPr>
                        <a:t>-5.542.837.50</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r>
              <a:tr h="3906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Carne de Frango (Fresh)</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1.474.079.75</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r>
              <a:tr h="3906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Soja</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1.717.649.75</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r>
              <a:tr h="3906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Cereais (Arroz, Trigo, etc)</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19.953.562.75</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r>
              <a:tr h="3906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Frutas e Vegetais</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00"/>
                          </a:solidFill>
                          <a:latin typeface="Calibri"/>
                        </a:rPr>
                        <a:t>-28.151.487.25</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r>
              <a:tr h="4093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Laranjas e frutas cítricas</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00"/>
                          </a:solidFill>
                          <a:latin typeface="Calibri"/>
                        </a:rPr>
                        <a:t>-1.986.158.25</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34920" y="-243000"/>
            <a:ext cx="9109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lide pré BP brasil 1</a:t>
            </a:r>
            <a:endParaRPr b="0" lang="en-US" sz="2800" spc="-1" strike="noStrike">
              <a:solidFill>
                <a:srgbClr val="000000"/>
              </a:solidFill>
              <a:latin typeface="Arial"/>
            </a:endParaRPr>
          </a:p>
        </p:txBody>
      </p:sp>
      <p:pic>
        <p:nvPicPr>
          <p:cNvPr id="157" name="Picture 3" descr="F:\Ijui\mapa da balança com de alimentos 2000-02.jpg"/>
          <p:cNvPicPr/>
          <p:nvPr/>
        </p:nvPicPr>
        <p:blipFill>
          <a:blip r:embed="rId1"/>
          <a:stretch/>
        </p:blipFill>
        <p:spPr>
          <a:xfrm>
            <a:off x="-458640" y="-458640"/>
            <a:ext cx="10063080" cy="777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323640" y="764640"/>
            <a:ext cx="8474040" cy="2676600"/>
          </a:xfrm>
          <a:prstGeom prst="rect">
            <a:avLst/>
          </a:prstGeom>
          <a:noFill/>
          <a:ln w="0">
            <a:noFill/>
          </a:ln>
        </p:spPr>
        <p:txBody>
          <a:bodyPr anchor="t">
            <a:normAutofit fontScale="82000"/>
          </a:bodyPr>
          <a:p>
            <a:pPr marL="281160" indent="0" algn="just">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m 2000, o relatório anual da FAO – </a:t>
            </a:r>
            <a:r>
              <a:rPr b="0" i="1" lang="en-US" sz="2800" spc="-1" strike="noStrike">
                <a:solidFill>
                  <a:srgbClr val="000000"/>
                </a:solidFill>
                <a:latin typeface="Arial"/>
              </a:rPr>
              <a:t>The State of Food and Agriculture</a:t>
            </a:r>
            <a:r>
              <a:rPr b="0" lang="en-US" sz="2800" spc="-1" strike="noStrike">
                <a:solidFill>
                  <a:srgbClr val="000000"/>
                </a:solidFill>
                <a:latin typeface="Arial"/>
              </a:rPr>
              <a:t> </a:t>
            </a:r>
            <a:r>
              <a:rPr b="0" lang="en-US" sz="2400" spc="-1" strike="noStrike">
                <a:solidFill>
                  <a:srgbClr val="000000"/>
                </a:solidFill>
                <a:latin typeface="Arial"/>
              </a:rPr>
              <a:t>(disponível em </a:t>
            </a:r>
            <a:r>
              <a:rPr b="0" lang="en-US" sz="2400" spc="-1" strike="noStrike" u="sng">
                <a:solidFill>
                  <a:srgbClr val="009999"/>
                </a:solidFill>
                <a:uFillTx/>
                <a:latin typeface="Arial"/>
                <a:hlinkClick r:id="rId1"/>
              </a:rPr>
              <a:t>http://www.fao.org/docrep/x4400e/x4400e09.htm#TopOfPage</a:t>
            </a:r>
            <a:r>
              <a:rPr b="0" lang="en-US" sz="2400" spc="-1" strike="noStrike">
                <a:solidFill>
                  <a:srgbClr val="000000"/>
                </a:solidFill>
                <a:latin typeface="Arial"/>
              </a:rPr>
              <a:t> )</a:t>
            </a:r>
            <a:r>
              <a:rPr b="0" lang="en-US" sz="2800" spc="-1" strike="noStrike">
                <a:solidFill>
                  <a:srgbClr val="000000"/>
                </a:solidFill>
                <a:latin typeface="Arial"/>
              </a:rPr>
              <a:t> – teve como tema a evolução mundial da produção de alimentos na segunda metade do século XX, que se associou a uma avaliação crítica das própias posições da FAO ao longo deste período.</a:t>
            </a:r>
            <a:endParaRPr b="0" lang="en-US" sz="2800" spc="-1" strike="noStrike">
              <a:solidFill>
                <a:srgbClr val="000000"/>
              </a:solidFill>
              <a:latin typeface="Arial"/>
            </a:endParaRPr>
          </a:p>
        </p:txBody>
      </p:sp>
      <p:sp>
        <p:nvSpPr>
          <p:cNvPr id="55" name="Text Box 4"/>
          <p:cNvSpPr/>
          <p:nvPr/>
        </p:nvSpPr>
        <p:spPr>
          <a:xfrm>
            <a:off x="684360" y="5029200"/>
            <a:ext cx="8113680" cy="1065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ntre seus prognósticos equivocados, o corpo técnico da FAO chamava a atenção para:</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
          <p:cNvSpPr/>
          <p:nvPr/>
        </p:nvSpPr>
        <p:spPr>
          <a:xfrm>
            <a:off x="1258920" y="260280"/>
            <a:ext cx="7777080" cy="4132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1) a subestimação do potencial produtivo da Ásia e a superestimação do potencial produtivo da África;</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2) a subestimação dos ganhos de produtividade na agropecuária, que redundaram no aprofundamento do fosso entre países ricos e pobres (os diferenciais de produtividade por ha no início do período chegavam a 1:50. Ao fim do período os extremos eram 1:500);</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3) a subestimação da resistência dos países desenvolvidos a abrirem suas economias para a importação da produção agrícola da periferia.</a:t>
            </a:r>
            <a:endParaRPr b="0" lang="en-US" sz="2400" spc="-1" strike="noStrike">
              <a:solidFill>
                <a:srgbClr val="000000"/>
              </a:solidFill>
              <a:latin typeface="Arial"/>
            </a:endParaRPr>
          </a:p>
        </p:txBody>
      </p:sp>
      <p:sp>
        <p:nvSpPr>
          <p:cNvPr id="57" name="Text Box 5"/>
          <p:cNvSpPr/>
          <p:nvPr/>
        </p:nvSpPr>
        <p:spPr>
          <a:xfrm>
            <a:off x="250920" y="4724280"/>
            <a:ext cx="8712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O relatório da FAO chamava atenção ainda para profundas alterações na posição relativa dos países no mercado mundial de aliment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
          <p:cNvSpPr/>
          <p:nvPr/>
        </p:nvSpPr>
        <p:spPr>
          <a:xfrm>
            <a:off x="611280" y="333360"/>
            <a:ext cx="8281800" cy="1373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Dentre todas as transformações, a mais notável foi o acelerado desenvolvimento da agricultura chinesa.</a:t>
            </a:r>
            <a:endParaRPr b="0" lang="en-US" sz="2800" spc="-1" strike="noStrike">
              <a:solidFill>
                <a:srgbClr val="000000"/>
              </a:solidFill>
              <a:latin typeface="Arial"/>
            </a:endParaRPr>
          </a:p>
        </p:txBody>
      </p:sp>
      <p:sp>
        <p:nvSpPr>
          <p:cNvPr id="59" name="Text Box 5"/>
          <p:cNvSpPr/>
          <p:nvPr/>
        </p:nvSpPr>
        <p:spPr>
          <a:xfrm>
            <a:off x="611280" y="1844640"/>
            <a:ext cx="8281800" cy="13737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Sua produção em valor quadruplicou ao longo do período e sua participação no mercado mundial mais do que dobrou.</a:t>
            </a:r>
            <a:endParaRPr b="0" lang="en-US" sz="2800" spc="-1" strike="noStrike">
              <a:solidFill>
                <a:srgbClr val="000000"/>
              </a:solidFill>
              <a:latin typeface="Arial"/>
            </a:endParaRPr>
          </a:p>
        </p:txBody>
      </p:sp>
      <p:sp>
        <p:nvSpPr>
          <p:cNvPr id="60" name="Text Box 6"/>
          <p:cNvSpPr/>
          <p:nvPr/>
        </p:nvSpPr>
        <p:spPr>
          <a:xfrm>
            <a:off x="611280" y="3357720"/>
            <a:ext cx="8281800" cy="13737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Já na primeira metade dos anos 90, a China assume a primazia mundial na produção de alimentos.</a:t>
            </a:r>
            <a:endParaRPr b="0" lang="en-US" sz="2800" spc="-1" strike="noStrike">
              <a:solidFill>
                <a:srgbClr val="000000"/>
              </a:solidFill>
              <a:latin typeface="Arial"/>
            </a:endParaRPr>
          </a:p>
        </p:txBody>
      </p:sp>
      <p:sp>
        <p:nvSpPr>
          <p:cNvPr id="61" name="Text Box 7"/>
          <p:cNvSpPr/>
          <p:nvPr/>
        </p:nvSpPr>
        <p:spPr>
          <a:xfrm>
            <a:off x="611280" y="4869000"/>
            <a:ext cx="8137440" cy="18003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Atualmente, este país é responsável por aproximadamente 20% da produção mundial, superando os EUA, responsável por pouco menos de 14% desta mesma produçã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01:44:47Z</dcterms:created>
  <dc:creator>Carlos Aguedo Paiva</dc:creator>
  <dc:description/>
  <dc:language>en-US</dc:language>
  <cp:lastModifiedBy>user</cp:lastModifiedBy>
  <dcterms:modified xsi:type="dcterms:W3CDTF">2009-11-01T16:12:32Z</dcterms:modified>
  <cp:revision>39</cp:revision>
  <dc:subject/>
  <dc:title>A crise financeira mundial e as perspectivas de mercado para produtos agropecuários</dc:title>
</cp:coreProperties>
</file>