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47B-6914-4BDA-9F01-C8D47EF2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4B5-D343-45E2-8B1B-6B061F7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F01-16C2-415C-B3D5-BD04B55C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53E-2CAD-43AD-8589-09AE4EEE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69A-0754-4DE8-9587-174C660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13A-1744-4F95-8427-D619705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C66-BDD6-45EE-8530-071D1A7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ADF-7573-4642-9E12-E30065B0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A3B-1625-4C9D-94A4-8B19D57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8A2-F1F4-40A5-8B22-A2E2343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33D-450A-4154-BA52-AB97728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CAA-E14F-45AA-BF90-62AB436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B95C-07D3-469E-B9F6-109624C31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 Estrutural Dif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nálise de Processos Regionais de Desenvolvime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Sul - Deriv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taxa de crescimento do emprego no Sul é 50% do que seria de se esperar (dado o crescimento da economia nacional), não porque sua estrutura seja “atrasada”, mas porque os setores mais dinâmicos da economia nacional apresentam uma performance inferior ao esperado na regi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Norte/Noroeste – Aplicação do Méto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336 – 280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80 x 0,2 =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90 (1,1 – 1,2) + 90 (1,2 – 1,2) + 100 (1,2619 – 1,2)= -9 + 0 + 6,19 = -2,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90 (1,1 – 1,1) + 90 (1,3 – 1,2) + 100 (1,2 – 1,2619)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 + 9 – 6,19 = 2,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6 –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,81 + 2,8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Norte/Noroeste – Deriv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 região norte/nororeste apresentou o mesmo desempenho da “nação”. E isto, tanto por apresentar uma estrutura produtiva que equilibra setores dinâmicos e tradicionais, quanto por apresentar uma dinâmica setorial que é muito próxima da dinâmica que cada setor apresentou em nível nacion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Nordeste – Aplicação do Méto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= 594 – 470 = 1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470 x 0,2 = 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70 (1,1 – 1,2) + 200 (1,2 – 1,2) + 200 (1,2619 – 1,2) = (70 X – 0,1) + 200 + (200 x 0,0619) = -7 + 0 + 12,38 = 5,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70 (1,1 – 1,1) + 200 (1,195 – 1,2) + 200 (1,39 – 1,2619) = 70 x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(-1) + 25,62 = 24,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N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+S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94 + 5,38 + 24,62 = 1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Nordeste – Deriv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região nordeste cresce a uma taxa superior a da economia nacional fundamentalmente porque o setor mais dinâmico da economia  nacional – o terciário, que cresce à taxa de 26,19% no país – é ainda mais dinâmico nesta região, crescendo a 39% ao 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ríticas ao Método D-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) Toma os setores – e não as cadeias produtivas – como fundamento da análise dinâm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) Pressupõe – equivocadamente – que os setores devam apresentar uma mesma dinâmica nas diversas regiões independentemente das cadeias nas quais estão ins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) Tem uma dimensão tautológica, pois parte da taxa de crescimento nacional para explicar as taxas de crescimento regionais, ignorando que aquela primeira não é mais do que a média ponderada (pela expressão econômica de cada região) das segun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ipótese Cen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crescimento do emprego (ou do produto, ou do rendimento, etc) regional entre T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 T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ode ser dividido em três compon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onente Nacional (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onente Setorial 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onente Regional ou Diferencial (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quação Fundam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variação total do emprego nos diversos setores da economia entre t0 (tempo zero) e t1 (tempo 1, subsequente) corresponde à soma da variação nacional, setorial e di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= N + S +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ariação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ção nacional é a variação estimulada pela economia nacional e corresponde ao emprego total da região no tempo 0 multiplicado pela taxa de crescimento do emprego  no país (tcep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tcep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j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t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cep = (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t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1) = (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-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(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= (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/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ariação Se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variação setorial é aquela que se deve ao fato da estrutura da economia regional (vale dizer: a participação % de cada setor i no emprego total da região) ser diferente da estrutura da economia n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 = taxa normal (nacional) de crescimento do empreg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setor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ariação Dif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a variação associada à dinâmica específica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vis-à-vis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dinâmica nacional) do setor i na região 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- r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nde r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=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/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j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= (1 + taxa de crescimento do emprego no setor i na região 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 (Var Absolu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724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 (Tx Cres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619360"/>
            <a:ext cx="7772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do Sul – Aplicação do Méto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 =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330 – 300 = 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300 X 0,2 =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0 (1,1 – 1,2) + 80 (1,2 – 1,2) + 120 (1,2619 – 1,2)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00 x –0,1) + (80 x 0) + (120 x 0,0619)= - 10 + 0 + 7,428 = -2,5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00 (1,1 – 1,1) + 80 (1,1 – 1,2) + 120 (1,1 – 1,2619) = (100 x 0) + (80 x –0,1) + (120 x – 0,1619) = 0 –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 – 19,428 = -27,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 = 30 = R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+ P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60 – 2,572 – 27,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7:32:17Z</dcterms:created>
  <dc:creator>Carlos Paiva</dc:creator>
  <dc:description/>
  <dc:language>en-US</dc:language>
  <cp:lastModifiedBy>Carlos Aguedo Paiva</cp:lastModifiedBy>
  <dcterms:modified xsi:type="dcterms:W3CDTF">2008-01-03T16:17:27Z</dcterms:modified>
  <cp:revision>19</cp:revision>
  <dc:subject/>
  <dc:title>Método Estrutural Diferencial</dc:title>
</cp:coreProperties>
</file>