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2873-1E34-46BA-9C31-4F089B723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DBB8C-D87A-40F2-B2E5-787C92152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4C92E-D66D-449A-9F35-ADBB35C4B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04F1-DA9D-4782-9556-B097CDBA1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B7B7F-B466-43F7-92B3-1F0E88892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5741D-EE4F-421A-B175-1AC6323A4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A12C8-6DD0-47DF-A207-E2F14DD3E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6019D-7572-4E17-AA3C-01AED6EE7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03E2D-48CB-4CD3-8BB2-DDF309237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30C1E-1C48-47A2-ADEE-EDD4CC3C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52494-D82A-42AF-82F5-DB6438FF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FB0D-FE9A-447F-9540-51A5D5DD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9B671-FCEF-417F-A1FE-C558F63C3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075F5-2FC4-40EE-B2E3-5DEBC9F3A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D1CF7-E594-4A22-936A-20D6ABC29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1DD7B-4178-411B-B10D-FC90FCAA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C1B6-600E-49BC-8ABE-7C5EE07C3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8EE7BA-D3D1-4B43-80D7-7C03E1D89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6431F-4675-426E-B126-FCB1FB4B8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1097A-9545-46AC-BBD2-D8BB7DF28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DFB0C-26CD-46A8-8C8A-7349AB454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9F542-C7A8-48DC-9BC9-D2E54C99A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61ED-85F1-4DB6-B8A6-8E1C8A12B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307AF4-3E53-4FC6-B4E4-BFF5F926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449CF7-7553-4CB9-A2D1-28FD32D7F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AE370E-5DB3-411E-99E5-4E85B466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6F370-8422-496F-9F34-B1470E98B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24BDA8-FA17-4B2F-A410-0D3A3B0BF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36FE7A-0DB8-4BE5-BA76-4FFBE1233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6884A3-9D84-4791-B897-BE6B2B381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45CC6B-4521-41FA-8DBF-E7D087E34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7DDF8E-F5C8-4E53-BF0F-3A98BC66A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416F5A-3A5D-4AB6-A0CE-4589D3D06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A7E26-774D-4B7F-8A67-86C17A20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D384D-1BAC-454B-A151-934241FD3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126A86-028B-4F47-8D97-DDAD27CF2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65E169-03AD-4CBF-900F-23CCB9FA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977A1-787D-470D-94E9-9655D24B5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1DA471-468B-4B4D-A24B-C9D22550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15C2F2-7197-4063-AF91-7B881B054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0F0990-857D-4AB2-A685-CC0952B1C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835A6A-D3A5-4B80-9380-DE7581B9D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85148-3F39-463D-9EA1-EE5BCDA61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0A0C9-2F23-417C-957A-A530D60BC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D2140-506E-468E-A2C6-978956A8A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29B79-C8E4-47D6-987C-4F5C738CC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C6852-E624-4DA5-9781-035C7F0F1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7C85975-FCDE-49C3-B970-447D7BB64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F76621-B3D1-4F81-8A67-54B59F799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B1E96-06DA-4313-A5A0-ED032AB82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A8C303-745F-4248-B3CF-09202ACC9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30226C-FC90-49DA-B0CD-DDBB1BDBE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51064A-3F64-4099-8F9A-BA2C8DAE3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D7D64A-9106-4255-80CB-8137E24EC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C9DDF8-1E0E-44E0-9B2A-DE44C85B4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7C9B-E6B1-401E-9A34-028DA6A57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653529-A683-41D4-8E47-D421DD219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FFDFC-1C6C-45F3-8F22-BB5E4B5ECB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09E07F-9147-4CC9-8B27-FF8585220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143178-B867-440B-8B44-E9ACB3752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F1A6E9-2154-47CA-86D0-2BC2C27E8C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4C1DE7-5C41-47DB-89DA-0C8060955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AA1E22-4AAA-44D2-BF5D-533139491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CB8C85-60AA-4373-B607-78ACBFB8F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1F20C-651B-484B-9C53-EEB6BD3A7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94818F-AD13-4A1D-9C8A-5BABA462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F731-D366-490B-892C-073C525D7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4860D2-A649-4B21-9FF4-2B20C8A8E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1EEC94-2B4A-4709-8F94-8FFFCBA8C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3F346D-B65C-4A9B-813C-D7D98D58E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23D9E6-738B-42FA-BA83-D7A45DC62E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8998A2-3DE3-497F-87AD-D18AEFE16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8D530A-BF55-4873-8698-A4CE6E0C4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F6F4A3-7AD7-42AD-A2D9-BA6631F1D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32E9D5-0C3F-44B9-9E0B-3676F186D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52F8FC-D6E2-4CA0-8D5F-2FD5DBEE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E64931-5E81-40A6-A148-88CCEAA9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B8184-48B4-45E9-A39A-8BF77B09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3D21C-F173-47B1-90AD-8CC04065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3FE536-1556-404A-8134-EB7F82AB9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D80288-0223-4E0E-B113-2D04FB9EF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274355-5062-47BA-8221-855F8B2A1B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D736A7-2924-47CB-BA42-D7AA4A813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BB2B-6BF1-4012-8848-4DD4183CA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59480-BD8E-4D2B-BFE2-81AF2F5DAE89}" type="slidenum">
              <a:rPr b="0" lang="pt-B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FF2B8-29FB-4765-8DF8-E3C79E1821D4}" type="slidenum">
              <a:rPr b="0" lang="pt-B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2" y="390"/>
                </a:lnTo>
                <a:lnTo>
                  <a:pt x="2706" y="388"/>
                </a:lnTo>
                <a:lnTo>
                  <a:pt x="2706" y="388"/>
                </a:lnTo>
                <a:lnTo>
                  <a:pt x="2706" y="0"/>
                </a:lnTo>
                <a:lnTo>
                  <a:pt x="2706" y="0"/>
                </a:lnTo>
                <a:lnTo>
                  <a:pt x="2700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1186"/>
                </a:lnTo>
                <a:lnTo>
                  <a:pt x="8196" y="510"/>
                </a:lnTo>
                <a:lnTo>
                  <a:pt x="8196" y="510"/>
                </a:lnTo>
                <a:lnTo>
                  <a:pt x="8192" y="512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DD1AC-5A9A-400E-A17A-C9B63D1746A4}" type="slidenum">
              <a:rPr b="0" lang="pt-B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C6EA4-1FDD-4492-A0ED-FD0C5413317B}" type="slidenum">
              <a:rPr b="0" lang="pt-B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BB2A-51EA-441A-B06D-5FBA788E4FBD}" type="slidenum">
              <a:rPr b="0" lang="pt-B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071A-5951-44D7-A466-370A4EB2F3E0}" type="slidenum">
              <a:rPr b="0" lang="pt-B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6" y="0"/>
                  </a:lnTo>
                  <a:lnTo>
                    <a:pt x="2700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6" y="510"/>
                  </a:lnTo>
                  <a:lnTo>
                    <a:pt x="8192" y="512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73e87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73e8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547AF-AAEE-48B4-95E0-ECEBDA09CCC9}" type="slidenum">
              <a:rPr b="0" lang="pt-BR" sz="1000" spc="-1" strike="noStrike">
                <a:solidFill>
                  <a:srgbClr val="073e87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77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ndara"/>
              </a:rPr>
              <a:t>Tutorial RAIS e Censo IBG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556080"/>
            <a:ext cx="6400800" cy="147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Candara"/>
              </a:rPr>
              <a:t>Acessando Banco de Dados</a:t>
            </a: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andara"/>
              </a:rPr>
              <a:t>Relação Anual de Informações Sociais (RAIS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9" name="Retângulo 5"/>
          <p:cNvSpPr/>
          <p:nvPr/>
        </p:nvSpPr>
        <p:spPr>
          <a:xfrm>
            <a:off x="4932360" y="5589720"/>
            <a:ext cx="252360" cy="71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0" name="Retângulo 8"/>
          <p:cNvSpPr/>
          <p:nvPr/>
        </p:nvSpPr>
        <p:spPr>
          <a:xfrm>
            <a:off x="5219640" y="2637000"/>
            <a:ext cx="324000" cy="215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1" name="Imagem 1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642160" cy="4321080"/>
          </a:xfrm>
          <a:prstGeom prst="rect">
            <a:avLst/>
          </a:prstGeom>
          <a:ln w="0">
            <a:noFill/>
          </a:ln>
        </p:spPr>
      </p:pic>
      <p:sp>
        <p:nvSpPr>
          <p:cNvPr id="362" name="Retângulo 3"/>
          <p:cNvSpPr/>
          <p:nvPr/>
        </p:nvSpPr>
        <p:spPr>
          <a:xfrm>
            <a:off x="7380360" y="2276640"/>
            <a:ext cx="1512720" cy="180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andara"/>
              </a:rPr>
              <a:t>Relação Anual de Informações Sociais (RAIS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64" name="Imagem 4" descr=""/>
          <p:cNvPicPr/>
          <p:nvPr/>
        </p:nvPicPr>
        <p:blipFill>
          <a:blip r:embed="rId1"/>
          <a:stretch/>
        </p:blipFill>
        <p:spPr>
          <a:xfrm>
            <a:off x="2843280" y="2728800"/>
            <a:ext cx="3933720" cy="24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andara"/>
              </a:rPr>
              <a:t>Relação Anual de Informações Sociais (RAIS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66" name="Retângulo 5"/>
          <p:cNvSpPr/>
          <p:nvPr/>
        </p:nvSpPr>
        <p:spPr>
          <a:xfrm>
            <a:off x="4932360" y="5589720"/>
            <a:ext cx="252360" cy="71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67" name="Retângulo 8"/>
          <p:cNvSpPr/>
          <p:nvPr/>
        </p:nvSpPr>
        <p:spPr>
          <a:xfrm>
            <a:off x="5219640" y="2637000"/>
            <a:ext cx="324000" cy="215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68" name="Imagem 1" descr=""/>
          <p:cNvPicPr/>
          <p:nvPr/>
        </p:nvPicPr>
        <p:blipFill>
          <a:blip r:embed="rId1"/>
          <a:stretch/>
        </p:blipFill>
        <p:spPr>
          <a:xfrm>
            <a:off x="250920" y="2276640"/>
            <a:ext cx="8642160" cy="4321080"/>
          </a:xfrm>
          <a:prstGeom prst="rect">
            <a:avLst/>
          </a:prstGeom>
          <a:ln w="0">
            <a:noFill/>
          </a:ln>
        </p:spPr>
      </p:pic>
      <p:sp>
        <p:nvSpPr>
          <p:cNvPr id="369" name="Retângulo 3"/>
          <p:cNvSpPr/>
          <p:nvPr/>
        </p:nvSpPr>
        <p:spPr>
          <a:xfrm>
            <a:off x="4392720" y="2276640"/>
            <a:ext cx="179280" cy="18072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ndara"/>
              </a:rPr>
              <a:t>ATENÇÃO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73e87"/>
                </a:solidFill>
                <a:latin typeface="Candara"/>
              </a:rPr>
              <a:t>Algumas tabelas não conseguem ser convertidas em extensão .csv (usado no excel);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73e87"/>
                </a:solidFill>
                <a:latin typeface="Candara"/>
              </a:rPr>
              <a:t>Quando isto acontecer tente fazer da seguinte maneira:</a:t>
            </a:r>
            <a:endParaRPr b="0" lang="en-US" sz="19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73e87"/>
                </a:solidFill>
                <a:latin typeface="Candara"/>
              </a:rPr>
              <a:t>Click no primeiro quadrado da tabela, depois role até o final da página (para a direita e para baixo), pressione a tecla SHIFT e click no último número do último quadrado da tabela;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73e87"/>
                </a:solidFill>
                <a:latin typeface="Candara"/>
              </a:rPr>
              <a:t>Com o botão direito do mouse click em cima da tabela e selecione COPIAR, em seguida abra o Excel e com o botão direito do mouse selecione COLAR ESPECIAL,  TEXTO e OK no local onde deseja colar a tabela;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73e87"/>
                </a:solidFill>
                <a:latin typeface="Candara"/>
              </a:rPr>
              <a:t>Sempre que fazemos isto o Excel cola errado, mas para arrumar basta copiar a tabela que se encontrará abaixo e colar em outra planilha e depois copiar as linhas e no local correto (da outra planilha) COLAR ESPECIAL ,TRANSPOSTO e OK;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andara"/>
              </a:rPr>
              <a:t>CLASSIFICAÇÃO NACIONAL DE ATIVIDADES ECONÔMICAS (CNAE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Link CNAE 2.0: http://www.cnae.ibge.gov.br/estrutura.asp?TabelaBusca=CNAE_200@CNAE%202.0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Organização: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73e87"/>
                </a:solidFill>
                <a:latin typeface="Candara"/>
              </a:rPr>
              <a:t>Seções: 21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73e87"/>
                </a:solidFill>
                <a:latin typeface="Candara"/>
              </a:rPr>
              <a:t>Divisões: 87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73e87"/>
                </a:solidFill>
                <a:latin typeface="Candara"/>
              </a:rPr>
              <a:t>Grupos: 285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55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73e87"/>
                </a:solidFill>
                <a:latin typeface="Candara"/>
              </a:rPr>
              <a:t>Classes: 673</a:t>
            </a:r>
            <a:endParaRPr b="0" lang="en-US" sz="22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andara"/>
              </a:rPr>
              <a:t>Consulta por organograma CNAE 2.0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75" name="Espaço Reservado para Conteúdo 1" descr=""/>
          <p:cNvPicPr/>
          <p:nvPr/>
        </p:nvPicPr>
        <p:blipFill>
          <a:blip r:embed="rId1"/>
          <a:stretch/>
        </p:blipFill>
        <p:spPr>
          <a:xfrm>
            <a:off x="1476360" y="2205000"/>
            <a:ext cx="6072120" cy="4245120"/>
          </a:xfrm>
          <a:prstGeom prst="rect">
            <a:avLst/>
          </a:prstGeom>
          <a:ln w="0">
            <a:noFill/>
          </a:ln>
        </p:spPr>
      </p:pic>
      <p:sp>
        <p:nvSpPr>
          <p:cNvPr id="376" name="Retângulo 4"/>
          <p:cNvSpPr/>
          <p:nvPr/>
        </p:nvSpPr>
        <p:spPr>
          <a:xfrm>
            <a:off x="2154240" y="4836960"/>
            <a:ext cx="360360" cy="162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andara"/>
              </a:rPr>
              <a:t>Consulta por organograma CNAE 2.0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8" name="Retângulo 4"/>
          <p:cNvSpPr/>
          <p:nvPr/>
        </p:nvSpPr>
        <p:spPr>
          <a:xfrm>
            <a:off x="2154240" y="4836960"/>
            <a:ext cx="360360" cy="162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79" name="Espaço Reservado para Conteúdo 5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048720" cy="4481640"/>
          </a:xfrm>
          <a:prstGeom prst="rect">
            <a:avLst/>
          </a:prstGeom>
          <a:ln w="0">
            <a:noFill/>
          </a:ln>
        </p:spPr>
      </p:pic>
      <p:sp>
        <p:nvSpPr>
          <p:cNvPr id="380" name="Retângulo 6"/>
          <p:cNvSpPr/>
          <p:nvPr/>
        </p:nvSpPr>
        <p:spPr>
          <a:xfrm>
            <a:off x="1793880" y="3933720"/>
            <a:ext cx="360360" cy="162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andara"/>
              </a:rPr>
              <a:t>Consulta por organograma CNAE 2.0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2" name="Retângulo 4"/>
          <p:cNvSpPr/>
          <p:nvPr/>
        </p:nvSpPr>
        <p:spPr>
          <a:xfrm>
            <a:off x="2154240" y="4836960"/>
            <a:ext cx="360360" cy="162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3" name="Retângulo 6"/>
          <p:cNvSpPr/>
          <p:nvPr/>
        </p:nvSpPr>
        <p:spPr>
          <a:xfrm>
            <a:off x="1793880" y="3933720"/>
            <a:ext cx="360360" cy="162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84" name="Espaço Reservado para Conteúdo 3" descr=""/>
          <p:cNvPicPr/>
          <p:nvPr/>
        </p:nvPicPr>
        <p:blipFill>
          <a:blip r:embed="rId1"/>
          <a:stretch/>
        </p:blipFill>
        <p:spPr>
          <a:xfrm>
            <a:off x="1403280" y="1851120"/>
            <a:ext cx="6553440" cy="4487760"/>
          </a:xfrm>
          <a:prstGeom prst="rect">
            <a:avLst/>
          </a:prstGeom>
          <a:ln w="0">
            <a:noFill/>
          </a:ln>
        </p:spPr>
      </p:pic>
      <p:sp>
        <p:nvSpPr>
          <p:cNvPr id="385" name="Retângulo 7"/>
          <p:cNvSpPr/>
          <p:nvPr/>
        </p:nvSpPr>
        <p:spPr>
          <a:xfrm>
            <a:off x="1690560" y="4241880"/>
            <a:ext cx="358920" cy="162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andara"/>
              </a:rPr>
              <a:t>Consulta por organograma CNAE 2.0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87" name="Retângulo 4"/>
          <p:cNvSpPr/>
          <p:nvPr/>
        </p:nvSpPr>
        <p:spPr>
          <a:xfrm>
            <a:off x="2154240" y="4836960"/>
            <a:ext cx="360360" cy="162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8" name="Retângulo 6"/>
          <p:cNvSpPr/>
          <p:nvPr/>
        </p:nvSpPr>
        <p:spPr>
          <a:xfrm>
            <a:off x="1793880" y="3933720"/>
            <a:ext cx="360360" cy="162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89" name="Retângulo 7"/>
          <p:cNvSpPr/>
          <p:nvPr/>
        </p:nvSpPr>
        <p:spPr>
          <a:xfrm>
            <a:off x="1690560" y="4241880"/>
            <a:ext cx="358920" cy="162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90" name="Imagem 1" descr=""/>
          <p:cNvPicPr/>
          <p:nvPr/>
        </p:nvPicPr>
        <p:blipFill>
          <a:blip r:embed="rId1"/>
          <a:stretch/>
        </p:blipFill>
        <p:spPr>
          <a:xfrm>
            <a:off x="539640" y="2322360"/>
            <a:ext cx="8298000" cy="3838680"/>
          </a:xfrm>
          <a:prstGeom prst="rect">
            <a:avLst/>
          </a:prstGeom>
          <a:ln w="0">
            <a:noFill/>
          </a:ln>
        </p:spPr>
      </p:pic>
      <p:pic>
        <p:nvPicPr>
          <p:cNvPr id="391" name="" descr=""/>
          <p:cNvPicPr/>
          <p:nvPr/>
        </p:nvPicPr>
        <p:blipFill>
          <a:blip r:embed="rId2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ndara"/>
              </a:rPr>
              <a:t>Consulta Direta CNAE 2.0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93" name="Retângulo 4"/>
          <p:cNvSpPr/>
          <p:nvPr/>
        </p:nvSpPr>
        <p:spPr>
          <a:xfrm>
            <a:off x="2154240" y="4836960"/>
            <a:ext cx="360360" cy="162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4" name="Retângulo 6"/>
          <p:cNvSpPr/>
          <p:nvPr/>
        </p:nvSpPr>
        <p:spPr>
          <a:xfrm>
            <a:off x="1793880" y="3933720"/>
            <a:ext cx="360360" cy="162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95" name="Retângulo 7"/>
          <p:cNvSpPr/>
          <p:nvPr/>
        </p:nvSpPr>
        <p:spPr>
          <a:xfrm>
            <a:off x="1690560" y="4241880"/>
            <a:ext cx="358920" cy="162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96" name="Imagem 1" descr=""/>
          <p:cNvPicPr/>
          <p:nvPr/>
        </p:nvPicPr>
        <p:blipFill>
          <a:blip r:embed="rId1"/>
          <a:stretch/>
        </p:blipFill>
        <p:spPr>
          <a:xfrm>
            <a:off x="539640" y="2322360"/>
            <a:ext cx="8298000" cy="3838680"/>
          </a:xfrm>
          <a:prstGeom prst="rect">
            <a:avLst/>
          </a:prstGeom>
          <a:ln w="0">
            <a:noFill/>
          </a:ln>
        </p:spPr>
      </p:pic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871560" y="2674440"/>
            <a:ext cx="7408800" cy="3451320"/>
          </a:xfrm>
          <a:prstGeom prst="rect">
            <a:avLst/>
          </a:prstGeom>
          <a:ln w="0">
            <a:noFill/>
          </a:ln>
        </p:spPr>
      </p:pic>
      <p:sp>
        <p:nvSpPr>
          <p:cNvPr id="398" name="Retângulo 8"/>
          <p:cNvSpPr/>
          <p:nvPr/>
        </p:nvSpPr>
        <p:spPr>
          <a:xfrm>
            <a:off x="6948360" y="3068640"/>
            <a:ext cx="1079640" cy="360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73e87"/>
                </a:solidFill>
                <a:latin typeface="Candara"/>
              </a:rPr>
              <a:t>Quem declara a RAIS?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73e87"/>
                </a:solidFill>
                <a:latin typeface="Candara"/>
              </a:rPr>
              <a:t>Empregadores urbanos e rurais, conforme definido no art. 2º da Consolidação das Leis do Trabalho - CLT e no art. 3º da Lei nº 5.889/1973, respectivamente;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73e87"/>
                </a:solidFill>
                <a:latin typeface="Candara"/>
              </a:rPr>
              <a:t>Filiais, agências, sucursais, representações ou quaisquer outras formas de entidades vinculadas à pessoa jurídica domiciliada no exterior;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73e87"/>
                </a:solidFill>
                <a:latin typeface="Candara"/>
              </a:rPr>
              <a:t>Autônomos ou profissionais liberais que tenham mantido empregados no ano-base;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73e87"/>
                </a:solidFill>
                <a:latin typeface="Candara"/>
              </a:rPr>
              <a:t>Órgãos e entidades da administração direta, autárquica e fundacional dos governos federal, estadual, do Distrito Federal e municipal;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73e87"/>
                </a:solidFill>
                <a:latin typeface="Candara"/>
              </a:rPr>
              <a:t>Conselhos profissionais, criados por lei, com atribuições de fiscalização do exercício profissional, e as entidades paraestatais;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73e87"/>
                </a:solidFill>
                <a:latin typeface="Candara"/>
              </a:rPr>
              <a:t>Condomínios e sociedades civis; e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  <a:p>
            <a:pPr marL="261720" indent="-261720">
              <a:lnSpc>
                <a:spcPct val="80000"/>
              </a:lnSpc>
              <a:spcBef>
                <a:spcPts val="425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73e87"/>
                </a:solidFill>
                <a:latin typeface="Candara"/>
              </a:rPr>
              <a:t>Cartórios extrajudiciais e consórcios de empresas.</a:t>
            </a:r>
            <a:endParaRPr b="0" lang="en-US" sz="17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andara"/>
              </a:rPr>
              <a:t>Relação Anual de Informações Sociais (RAIS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9" name="Espaço Reservado para Conteúdo 10" descr=""/>
          <p:cNvPicPr/>
          <p:nvPr/>
        </p:nvPicPr>
        <p:blipFill>
          <a:blip r:embed="rId1"/>
          <a:stretch/>
        </p:blipFill>
        <p:spPr>
          <a:xfrm>
            <a:off x="826920" y="2276640"/>
            <a:ext cx="7390080" cy="3778200"/>
          </a:xfrm>
          <a:prstGeom prst="rect">
            <a:avLst/>
          </a:prstGeom>
          <a:ln w="0">
            <a:noFill/>
          </a:ln>
        </p:spPr>
      </p:pic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ndara"/>
              </a:rPr>
              <a:t>Consulta Direta CNAE 2.0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1" name="Retângulo 8"/>
          <p:cNvSpPr/>
          <p:nvPr/>
        </p:nvSpPr>
        <p:spPr>
          <a:xfrm>
            <a:off x="5435640" y="4917960"/>
            <a:ext cx="792000" cy="3114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ndara"/>
              </a:rPr>
              <a:t>Consulta Direta CNAE 2.0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03" name="Retângulo 8"/>
          <p:cNvSpPr/>
          <p:nvPr/>
        </p:nvSpPr>
        <p:spPr>
          <a:xfrm>
            <a:off x="5435640" y="4917960"/>
            <a:ext cx="792000" cy="3114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404" name="Espaço Reservado para Conteúdo 3" descr=""/>
          <p:cNvPicPr/>
          <p:nvPr/>
        </p:nvPicPr>
        <p:blipFill>
          <a:blip r:embed="rId1"/>
          <a:stretch/>
        </p:blipFill>
        <p:spPr>
          <a:xfrm>
            <a:off x="177840" y="2852640"/>
            <a:ext cx="89359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Link: http://sidra.ibge.gov.br/cd/cd2010universo.asp?o=7&amp;i=P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Aqui pode-se acessar dados gerais da população e algumas características específicas, como idades, rendimento, cor ou raça, etc.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ndara"/>
              </a:rPr>
              <a:t>Censo Demográfico IBG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Espaço Reservado para Conteúdo 3" descr=""/>
          <p:cNvPicPr/>
          <p:nvPr/>
        </p:nvPicPr>
        <p:blipFill>
          <a:blip r:embed="rId1"/>
          <a:stretch/>
        </p:blipFill>
        <p:spPr>
          <a:xfrm>
            <a:off x="108000" y="2205000"/>
            <a:ext cx="8945640" cy="460872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ndara"/>
              </a:rPr>
              <a:t>Censo Demográfico IBG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Espaço Reservado para Conteúdo 3" descr=""/>
          <p:cNvPicPr/>
          <p:nvPr/>
        </p:nvPicPr>
        <p:blipFill>
          <a:blip r:embed="rId1"/>
          <a:stretch/>
        </p:blipFill>
        <p:spPr>
          <a:xfrm>
            <a:off x="395280" y="2781360"/>
            <a:ext cx="8385120" cy="2663640"/>
          </a:xfrm>
          <a:prstGeom prst="rect">
            <a:avLst/>
          </a:prstGeom>
          <a:ln w="0">
            <a:noFill/>
          </a:ln>
        </p:spPr>
      </p:pic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ndara"/>
              </a:rPr>
              <a:t>Censo Demográfico IBG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1" name="Retângulo 6"/>
          <p:cNvSpPr/>
          <p:nvPr/>
        </p:nvSpPr>
        <p:spPr>
          <a:xfrm>
            <a:off x="324000" y="4292640"/>
            <a:ext cx="647640" cy="50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2" name="Retângulo 7"/>
          <p:cNvSpPr/>
          <p:nvPr/>
        </p:nvSpPr>
        <p:spPr>
          <a:xfrm>
            <a:off x="324000" y="4941720"/>
            <a:ext cx="647640" cy="5032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3" name="Retângulo 8"/>
          <p:cNvSpPr/>
          <p:nvPr/>
        </p:nvSpPr>
        <p:spPr>
          <a:xfrm>
            <a:off x="7596360" y="4113360"/>
            <a:ext cx="792000" cy="2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4" name="Retângulo 9"/>
          <p:cNvSpPr/>
          <p:nvPr/>
        </p:nvSpPr>
        <p:spPr>
          <a:xfrm>
            <a:off x="7596360" y="4724280"/>
            <a:ext cx="792000" cy="2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Espaço Reservado para Conteúdo 2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8353440" cy="4324320"/>
          </a:xfrm>
          <a:prstGeom prst="rect">
            <a:avLst/>
          </a:prstGeom>
          <a:ln w="0">
            <a:noFill/>
          </a:ln>
        </p:spPr>
      </p:pic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ndara"/>
              </a:rPr>
              <a:t>Censo Demográfico IBG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17" name="Retângulo 6"/>
          <p:cNvSpPr/>
          <p:nvPr/>
        </p:nvSpPr>
        <p:spPr>
          <a:xfrm>
            <a:off x="2195640" y="2924280"/>
            <a:ext cx="863640" cy="144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8" name="Retângulo 7"/>
          <p:cNvSpPr/>
          <p:nvPr/>
        </p:nvSpPr>
        <p:spPr>
          <a:xfrm>
            <a:off x="449280" y="5373720"/>
            <a:ext cx="162000" cy="250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19" name="Retângulo 8"/>
          <p:cNvSpPr/>
          <p:nvPr/>
        </p:nvSpPr>
        <p:spPr>
          <a:xfrm>
            <a:off x="7308720" y="2313000"/>
            <a:ext cx="792360" cy="252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ndara"/>
              </a:rPr>
              <a:t>Censo Demográfico IBG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1" name="Retângulo 6"/>
          <p:cNvSpPr/>
          <p:nvPr/>
        </p:nvSpPr>
        <p:spPr>
          <a:xfrm>
            <a:off x="2195640" y="2924280"/>
            <a:ext cx="863640" cy="144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2" name="Retângulo 7"/>
          <p:cNvSpPr/>
          <p:nvPr/>
        </p:nvSpPr>
        <p:spPr>
          <a:xfrm>
            <a:off x="449280" y="5373720"/>
            <a:ext cx="162000" cy="250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423" name="Espaço Reservado para Conteúdo 3" descr=""/>
          <p:cNvPicPr/>
          <p:nvPr/>
        </p:nvPicPr>
        <p:blipFill>
          <a:blip r:embed="rId1"/>
          <a:stretch/>
        </p:blipFill>
        <p:spPr>
          <a:xfrm>
            <a:off x="46080" y="2852640"/>
            <a:ext cx="8989920" cy="28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Espaço Reservado para Conteúdo 2" descr=""/>
          <p:cNvPicPr/>
          <p:nvPr/>
        </p:nvPicPr>
        <p:blipFill>
          <a:blip r:embed="rId1"/>
          <a:stretch/>
        </p:blipFill>
        <p:spPr>
          <a:xfrm>
            <a:off x="395280" y="2349360"/>
            <a:ext cx="8353440" cy="432432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ndara"/>
              </a:rPr>
              <a:t>Censo Demográfico IBG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6" name="Retângulo 6"/>
          <p:cNvSpPr/>
          <p:nvPr/>
        </p:nvSpPr>
        <p:spPr>
          <a:xfrm>
            <a:off x="1187280" y="6021360"/>
            <a:ext cx="1440000" cy="144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7" name="Retângulo 7"/>
          <p:cNvSpPr/>
          <p:nvPr/>
        </p:nvSpPr>
        <p:spPr>
          <a:xfrm>
            <a:off x="449280" y="5842080"/>
            <a:ext cx="162000" cy="250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428" name="Retângulo 9"/>
          <p:cNvSpPr/>
          <p:nvPr/>
        </p:nvSpPr>
        <p:spPr>
          <a:xfrm>
            <a:off x="1187280" y="6308640"/>
            <a:ext cx="2521080" cy="1447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ndara"/>
              </a:rPr>
              <a:t>Censo Demográfico IBG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430" name="Espaço Reservado para Conteúdo 3" descr=""/>
          <p:cNvPicPr/>
          <p:nvPr/>
        </p:nvPicPr>
        <p:blipFill>
          <a:blip r:embed="rId1"/>
          <a:stretch/>
        </p:blipFill>
        <p:spPr>
          <a:xfrm>
            <a:off x="1465200" y="3119400"/>
            <a:ext cx="6221520" cy="25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Link: http://sidra.ibge.gov.br/bda/pesquisas/ca/default.asp?o=2&amp;i=P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O sistema de acesso é igual ao Censo Demográfico;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ffff"/>
                </a:solidFill>
                <a:latin typeface="Candara"/>
              </a:rPr>
              <a:t>Censo Agropecuário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Link: http://bi.mte.gov.br/bgcaged/login.php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Usuário: basico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Senha: 12345678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andara"/>
              </a:rPr>
              <a:t>Relação Anual de Informações Sociais (RAIS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Link: http://sidra.ibge.gov.br/bda/pesquisas/pam/default.asp?o=28&amp;i=P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andara"/>
              </a:rPr>
              <a:t>Pesquisa Agrícola Municipal (PAM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Link: http://sidra.ibge.gov.br/bda/pesquisas/ppm/default.asp?o=27&amp;i=P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andara"/>
              </a:rPr>
              <a:t>Pesquisa Pecuária Municipal (PPM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73e87"/>
                </a:solidFill>
                <a:latin typeface="Candara"/>
              </a:rPr>
              <a:t>Link: http://sidra.ibge.gov.br/bda/pesquisas/PIBMun/default.asp?o=30&amp;i=P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andara"/>
              </a:rPr>
              <a:t>Produto Interno Bruto dos Municípios (PIB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Espaço Reservado para Conteúdo 3" descr=""/>
          <p:cNvPicPr/>
          <p:nvPr/>
        </p:nvPicPr>
        <p:blipFill>
          <a:blip r:embed="rId1"/>
          <a:stretch/>
        </p:blipFill>
        <p:spPr>
          <a:xfrm>
            <a:off x="411120" y="2759040"/>
            <a:ext cx="8337600" cy="369432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andara"/>
              </a:rPr>
              <a:t>Relação Anual de Informações Sociais (RAIS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Retângulo 4"/>
          <p:cNvSpPr/>
          <p:nvPr/>
        </p:nvSpPr>
        <p:spPr>
          <a:xfrm>
            <a:off x="395280" y="3946680"/>
            <a:ext cx="50472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andara"/>
              </a:rPr>
              <a:t>Relação Anual de Informações Sociais (RAIS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5" name="Espaço Reservado para Conteúdo 5" descr=""/>
          <p:cNvPicPr/>
          <p:nvPr/>
        </p:nvPicPr>
        <p:blipFill>
          <a:blip r:embed="rId1"/>
          <a:stretch/>
        </p:blipFill>
        <p:spPr>
          <a:xfrm>
            <a:off x="444600" y="2754360"/>
            <a:ext cx="8321400" cy="369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andara"/>
              </a:rPr>
              <a:t>Relação Anual de Informações Sociais (RAIS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7" name="Espaço Reservado para Conteúdo 3" descr=""/>
          <p:cNvPicPr/>
          <p:nvPr/>
        </p:nvPicPr>
        <p:blipFill>
          <a:blip r:embed="rId1"/>
          <a:stretch/>
        </p:blipFill>
        <p:spPr>
          <a:xfrm>
            <a:off x="511200" y="2674800"/>
            <a:ext cx="8199360" cy="38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andara"/>
              </a:rPr>
              <a:t>Relação Anual de Informações Sociais (RAIS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pic>
        <p:nvPicPr>
          <p:cNvPr id="349" name="Espaço Reservado para Conteúdo 4" descr=""/>
          <p:cNvPicPr/>
          <p:nvPr/>
        </p:nvPicPr>
        <p:blipFill>
          <a:blip r:embed="rId1"/>
          <a:stretch/>
        </p:blipFill>
        <p:spPr>
          <a:xfrm>
            <a:off x="179280" y="2189160"/>
            <a:ext cx="8848800" cy="4654440"/>
          </a:xfrm>
          <a:prstGeom prst="rect">
            <a:avLst/>
          </a:prstGeom>
          <a:ln w="0">
            <a:noFill/>
          </a:ln>
        </p:spPr>
      </p:pic>
      <p:sp>
        <p:nvSpPr>
          <p:cNvPr id="350" name="Retângulo 5"/>
          <p:cNvSpPr/>
          <p:nvPr/>
        </p:nvSpPr>
        <p:spPr>
          <a:xfrm>
            <a:off x="4932360" y="5589720"/>
            <a:ext cx="252360" cy="71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andara"/>
              </a:rPr>
              <a:t>Relação Anual de Informações Sociais (RAIS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2" name="Retângulo 5"/>
          <p:cNvSpPr/>
          <p:nvPr/>
        </p:nvSpPr>
        <p:spPr>
          <a:xfrm>
            <a:off x="4932360" y="5589720"/>
            <a:ext cx="252360" cy="71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3" name="Espaço Reservado para Conteúdo 3" descr=""/>
          <p:cNvPicPr/>
          <p:nvPr/>
        </p:nvPicPr>
        <p:blipFill>
          <a:blip r:embed="rId1"/>
          <a:stretch/>
        </p:blipFill>
        <p:spPr>
          <a:xfrm>
            <a:off x="108000" y="2674800"/>
            <a:ext cx="884880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000" spc="-1" strike="noStrike">
                <a:solidFill>
                  <a:srgbClr val="ffffff"/>
                </a:solidFill>
                <a:latin typeface="Candara"/>
              </a:rPr>
              <a:t>Relação Anual de Informações Sociais (RAIS)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55" name="Retângulo 5"/>
          <p:cNvSpPr/>
          <p:nvPr/>
        </p:nvSpPr>
        <p:spPr>
          <a:xfrm>
            <a:off x="4932360" y="5589720"/>
            <a:ext cx="252360" cy="7128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56" name="Retângulo 8"/>
          <p:cNvSpPr/>
          <p:nvPr/>
        </p:nvSpPr>
        <p:spPr>
          <a:xfrm>
            <a:off x="5219640" y="2637000"/>
            <a:ext cx="324000" cy="215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pic>
        <p:nvPicPr>
          <p:cNvPr id="357" name="Imagem 9" descr=""/>
          <p:cNvPicPr/>
          <p:nvPr/>
        </p:nvPicPr>
        <p:blipFill>
          <a:blip r:embed="rId1"/>
          <a:stretch/>
        </p:blipFill>
        <p:spPr>
          <a:xfrm>
            <a:off x="709560" y="2311560"/>
            <a:ext cx="772488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17:10:34Z</dcterms:created>
  <dc:creator>Allan Lemos</dc:creator>
  <dc:description/>
  <dc:language>en-US</dc:language>
  <cp:lastModifiedBy>Allan Note</cp:lastModifiedBy>
  <dcterms:modified xsi:type="dcterms:W3CDTF">2016-03-03T19:34:10Z</dcterms:modified>
  <cp:revision>12</cp:revision>
  <dc:subject/>
  <dc:title>Tutorial RAIS e Censo IBGE</dc:title>
</cp:coreProperties>
</file>