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DD0-47A4-462E-8AF8-4BF538EB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853-A712-4160-B08D-66862CCB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930-BC44-410C-91EB-2A3D13C0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CE8-9681-4455-BC53-0AF30C17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9D2-B465-49BC-AD78-FEABB23F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6F2-A278-48E5-AA29-941832C1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205-781C-4A7F-A499-D53A26E4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AE4-EFAF-4919-B06A-F588569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450-6069-43A0-9D67-AFFF6630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66D-D5CA-4E4A-B323-080F04D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3C4-C155-4414-A961-84BE7837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64D-9437-4371-8226-EFD8312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013D-0881-493A-B704-7A95C7321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uguaiana pode planejar e promover o desenvolvimento de Uruguaia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u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 que é desenvolvimento endógen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entralidade da “Exportação”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mpre que há especialização regional num determinado (ou em vários) setor(es), a produção do(s) mesmo(s) volta-se primordial-mente para o mercado “externo” à localida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que nos conduz à segunda “regra de ouro” do Desenvolvimento Endógeno: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 foco de qualquer projeto de desenvolvimento local endógeno é o fortalecimento, ampliação, alongamento e diversificação das atividades EXPORTADOR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entralidade da “Exportação”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á vimos que  “produção para fora da região” é indissociável de especialização, divisão do trabalho, encadeamento, produtividade e competitividade. Esta é a “regra de Smith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 esta é apenas uma parte do papel das exportações regionais. Paralelamente à “regra de Smith” está “a regra de Keynes”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crescimento econômico de um território é função da expansão da demanda autônom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entralidade da “Exportação”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ynes divide as demandas que incidem sobre uma economia em dois tipo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emanda que se deriva da (que depende da, que é função da, que se segue à) renda recebida por parcela dos agentes do território. Esta é a demanda de consumo básic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demandas autônomas, que incidem sobre o território independentemente de qualquer renda auferida “anteriormente” por agentes regionais.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stas são as demandas externas, definidas por agentes externos, que adquirem bens e serviços na região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entralidad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Exportação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lano local (município, pequenas regiões), só há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oi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ipos de demandas autônom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) as transferências líquidas de impostos incidentes sobre os cidadãos locais do setor público externo (Governos Federal e Estadual), via pagamento de salários, bolsas, pensões, etc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quisições de bens e serviços produzidos localmente por agentes públicos ou privados externos. Vale dizer: as EXPORTAÇÕES LOCAI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ação entre as demand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tônoma &amp; derivada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ando um funcionário público federal lotado em Uruguaiana recebe o seu salário e o despende adquirindo bens e serviços no comércio local ele dá origem a um processo de “multiplicação da renda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 mesma forma, quando um agricultor ou pecuarista (ou os elos a jusante da cadeia agropecuária: a cooperativa, a agroindústria, o atacadista) vende sua produção para agentes externos e, com a renda auferida, adquire bens e serviços no comércio local, é dada a “largada” de um outro processo de multiplicaçã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ação entre as demand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tônoma &amp; derivada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rendimento auferido pelo comerciante ou prestador de serviços vai gerar novos dispêndios. A parcela destes dispêndios que se volta para a aquisição de bens e serviços produzidos localmente, promove novos rendimentos e novos dispêndios. Este processo é conhecido como “multiplicação” da renda via consum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o maior a tendência dos agentes locais canalizarem o seu consumo para bens e serviços locais, maior o multiplicador interno e maior a renda fin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ação entre as demand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tônoma &amp; derivada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 o ponto de partida é sempre a demanda autônoma externa. Que, no plano regional, se reduz ao saldo líquido dos gastos do governo (SLGG) e ao valor agregado internamente à produção exportada (VAIX). Em termos algébric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 região = (1 / (1 – c + m)) x (SLGG + VAI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de “c” é a propensão a consumir e “m” a propensão a impor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Exportações, Cadeias Produtivas Regionais e Desenvolvimento Endógeno (1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nto a propensão a consumir, quanto a propensão a importar (que definem a magnitude do multiplicador), são parâmetros relativamente estáveis, determinados pela distribuição da propriedade e da renda e pelo acesso aos mercados externos. Existe espaço para interferência do setor público local sobre estes parâmetros, mas ele é limitad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 mesma forma, o setor público local tem pouca ingerência sobre o SLGG. A luta pela atração de recursos, equipamentos e empreendimentos públicos federais e estaduais deve ser diuturna. Mas seu resultado não depende exclusivamente do poder local.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ações, Cadeias Produtivas Regionais e Desenvolvimento Endógeno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oposição, o valor agregado internamente à produção exportada (VAIX) pode e deve ser objeto privilegiado de atenção e ampliação pelos agentes públicos locais. Como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oiando a internalização de “elos faltantes” nas cadeias de exportação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frentando gargalos e ampliando a competitividade das cadeias de exportaçã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versificando a pauta de exportações através do aproveitamento de janelas de oportunidade de negócios que mobilizem os recursos locais ociosos ou que vêm sendo utilizados de forma sub-ótim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iscos e Equívocos de Estratégias de (Pseudo)-Desenvolvimento Endóge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M TODOS OS ELOS SÃO INTERNALIZÁVEIS. Algumas cadeias são estruturalmente “curtas” no plano regional. O caso do fumo. O caso do arroz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M TODO O CONSUMO É “DERIVADO”. A questão do “Turismo”. A cidade como pólo de serviç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DA REGIÃO É ÚNICA E DIFERENCIADA. NEM TODA A CADEIA É “PRODUTIVA”. NEM TODA A EXPORTAÇÃO É DE “COMMODITIES”. Os sistemas de serviços e as cadeias “logísticas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 obstáculos a serem venc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Uma das principais dificuldades para implantar um programa de desenvolvimento local (ou regional) é o fato de que parte da comunidade não acredita em sua competência técnica e/ou financeira para enfrentar e superar os “inúmeros obstáculos” com os quais se depa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sta descrença deve ser enfrentada. Mas com muito respeito. Pois ela está assentada em algumas verdades que devem que ser o nosso ponto de partida. Quais sej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iscos e Equívocos de Estratégias de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(Pseudo)-Desenvolvimento Endógeno  (1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NEM TODAS AS “JANELAS DE OPORTUNIDADE” SE ABRE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A A REGIÃ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Os “pólos tecnológicos”, distritos industriais e que ta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MAS HÁ JANELAS QUE, DE FATO, SE ABREM. E QUE SE FECHAM RAPIDAMENTE. O caso da maçã em Vaca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apelo do desenvolvimento EXÓGENO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s recursos fiscais dos municípios e os recursos financeiros mobilizáveis pelos membros da comunidade são limitados. De sorte que 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QUALQUER ESTRATÉGIA DE DESENVOLVIMENTO EMBASADA EM GRANDES INVESTIMENTOS, SEJA EM NOVOS SETORES INDUSTRIAIS, SEJA EM GRANDES OBRAS DE INFRAESTRUTURA PRESSUPÕE A MOBILIZAÇÃO DE AGENTES EXÓGENOS (Governo Federal, Governo Estadual, Grandes Empresas, etc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apelo do desenvolvimento EXÓGENO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s conhecimentos técnicos de uma dada comunidade são indissociáveis do que a comunidade FAZ. De sorte que 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QUALQUER PROJETO DE DESENVOLVIMENTO QUE SE ASSENTA EM “REVOLUCIONAR A MATRIZ PRODUTIVA REGIONAL” PRESSUPÕE A IMPORTAÇÃO DE TECNOLOGIAS, DE PROFISSIONAIS E O PAGAMENTO DE ROYALTIES PARA AGENTES EXTERNOS. UM TAL PADRÃO DE DESENVOLVIMENTO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É ENDÓGEN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ticularismo &amp; Setorialismo X Interesse Coletivo &amp; Associativism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xistem pessoas mais altruístas e pessoas mais egoístas. Mas, como regra geral, é muito mais fácil mobilizar para uma ação coletiva quando cada um dos agentes sabe que obterá um benefício privado ao final. De sorte que 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QUALQUER PROJETO DE DESENVOLVIMENTO QUE TRAGA BENEFÍCIOS IMEDIATOS APENAS PARA UMA MINORIA TERÁ MENOS CHANCE DE SER ABRAÇADO PELA COMUNIDADE DO QUE PROJETOS QUE MOBILIZAM O INTERESSE DE MUIT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Trilema do Desenvolvimento Local Endóg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hamamos estes 3 “problemas” de “O TRILEMA DO DESENVOLVIMENTO LOCAL ENDÓGENO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 questão que se coloca é: como acelerar o desenvolvimento de um território sem revolucionar a matriz produtiva e, portanto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) sem investimentos pesados e só financiáveis com recursos externo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) sem importação de tecnologias, empresas e mão-de-obra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) que mobilizem muitas pessoas comprometidas com os sistemas produtivos tradicionais e consolidados (quando não “estagnados”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erá que isto é possível? ... Como? ....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Papel das Cade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dutivas e de Serviços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uitos economistas, administradores públicos e especialistas em planejamento vêm pensando neste problema há muito tempo. E eles chegaram a algumas conclusões importantes. A primeira e mais importante delas é 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É TÃO MAIS FÁCIL ENCONTRARMOS AS CONDIÇÕES REQUERIDAS QUANTO MAIOR O NÚMERO E QUANTO MAIOR O GRAU DE ENCADEAMENTO NO TERRITÓRIO DE “CADEIAS PRODUTIVAS  E DE SERVIÇO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Papel das Cade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dutivas e de Serviços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QUE É UMA CADEIA PRODUTIVA? ... Uma cadeia produtiva é um conjunto de atividades ligadas entre si como elos de uma corrente. A produção de calçados é apenas um dos inúmeros elos de uma cadeia muito longa: a “indústria coureiro-calçadista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sta cadeia envolve desde a pecuária bovina e o processamento do couro até a venda do sapato no varejo. Entre os elos “couro” e “varejo”, há uma infinidade de elos intermediários, envolvendo a produção de saltos de madeira e borracha, de colas e adesivos, pregos e taxas, caixas de papelão e sacolas, bem como os mais diversos serviços de design, financiamento, comercialização, transporte,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Papel das Cade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dutivas e de Serviços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a, todo o território conta, em seu interior, com atividades mais ou menos encadeadas. As atividades mais encadeadas no próprio território são, via de regra, aquelas nas quais o território apresenta maior grau de especialização. E 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as atividades nas quais o território é mais especializado são, via de regra, aquelas nas quais ele apresenta maior competitividade e que correspondem às atividades onde são produzidos os bens e serviços que “a região exporta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6:26:45Z</dcterms:created>
  <dc:creator>Carlos</dc:creator>
  <dc:description/>
  <dc:language>en-US</dc:language>
  <cp:lastModifiedBy>Allan Note</cp:lastModifiedBy>
  <dcterms:modified xsi:type="dcterms:W3CDTF">2016-03-04T20:41:03Z</dcterms:modified>
  <cp:revision>21</cp:revision>
  <dc:subject/>
  <dc:title>Uruguaiana pode planejar e promover o desenvolvimento de Uruguaiana?</dc:title>
</cp:coreProperties>
</file>