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2.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20.wmf" ContentType="image/x-wmf"/>
  <Override PartName="/ppt/media/image3.wmf" ContentType="image/x-wmf"/>
  <Override PartName="/ppt/media/image4.wmf" ContentType="image/x-wmf"/>
  <Override PartName="/ppt/media/image1.wmf" ContentType="image/x-wmf"/>
  <Override PartName="/ppt/media/image9.jpeg" ContentType="image/jpeg"/>
  <Override PartName="/ppt/media/image21.wmf" ContentType="image/x-wmf"/>
  <Override PartName="/ppt/media/image19.wmf" ContentType="image/x-wmf"/>
  <Override PartName="/ppt/media/image18.jpeg" ContentType="image/jpeg"/>
  <Override PartName="/ppt/media/image17.wmf" ContentType="image/x-wmf"/>
  <Override PartName="/ppt/media/image16.jpeg" ContentType="image/jpeg"/>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70EE5-EAC1-4723-A8C3-626D597CC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C3B27-F669-48B9-ADC1-6B01B0DBE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92E86-349C-4308-874A-6DF03A04B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B371A-33A0-4328-B130-42907F8AF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82C4D-B3FA-4C9D-918E-6000C622F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92356-06E0-4C16-9035-C8C10D3BF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CCEE-2270-4322-B52F-803060CDD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D2407-55B0-4736-969E-0E2FDF3C8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C6BE-F365-4344-9284-5BEF031F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7339-7BC9-4AFB-BEB1-F2C7A86C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9BC3-253D-4CF7-9E81-98ECCE52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4DD0-48F0-4DF6-950C-8D64E7C2B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ED3D-BB77-418D-BDD8-24B594515944}"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Rio Grande:</a:t>
            </a:r>
            <a:br>
              <a:rPr sz="4000"/>
            </a:br>
            <a:r>
              <a:rPr b="0" lang="pt-BR" sz="4000" spc="-1" strike="noStrike">
                <a:solidFill>
                  <a:srgbClr val="000000"/>
                </a:solidFill>
                <a:latin typeface="Calibri"/>
              </a:rPr>
              <a:t>Fundamentos de um Projeto de</a:t>
            </a:r>
            <a:br>
              <a:rPr sz="4000"/>
            </a:br>
            <a:r>
              <a:rPr b="0" lang="pt-BR" sz="4000" spc="-1" strike="noStrike">
                <a:solidFill>
                  <a:srgbClr val="000000"/>
                </a:solidFill>
                <a:latin typeface="Calibri"/>
              </a:rPr>
              <a:t>Desenvolvimento Socioeconômico</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898989"/>
                </a:solidFill>
                <a:latin typeface="Calibri"/>
              </a:rPr>
              <a:t>Latus Consultori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898989"/>
                </a:solidFill>
                <a:latin typeface="Calibri"/>
              </a:rPr>
              <a:t>Carlos Aguedo Paiv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898989"/>
                </a:solidFill>
                <a:latin typeface="Calibri"/>
              </a:rPr>
              <a:t>13/12/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 QL não é só um indicador de especialização e exportação</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 QL também é um indicador (insuficiente, mas muito expressivo) de competitividad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 isto na medida em que a competitividade está diretamente relacionada com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 o desenvolvimento de um know-how associado ao </a:t>
            </a:r>
            <a:r>
              <a:rPr b="0" i="1" lang="en-US" sz="3000" spc="-1" strike="noStrike">
                <a:solidFill>
                  <a:srgbClr val="000000"/>
                </a:solidFill>
                <a:latin typeface="Calibri"/>
              </a:rPr>
              <a:t>learning by doing</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 a escala em que algo é produzido (tal como nos ensinaram Smith, Marx e Marshall).</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 a eficiência, a prática e a escala dos concorrentes atuais e potenciais (as demais micro-regiões da região de referênc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r que </a:t>
            </a:r>
            <a:br>
              <a:rPr sz="4000"/>
            </a:br>
            <a:r>
              <a:rPr b="0" lang="en-US" sz="4000" spc="-1" strike="noStrike">
                <a:solidFill>
                  <a:srgbClr val="000000"/>
                </a:solidFill>
                <a:latin typeface="Calibri"/>
              </a:rPr>
              <a:t>o QL é uma medida insuficiente?</a:t>
            </a:r>
            <a:endParaRPr b="0" lang="en-US" sz="4000" spc="-1" strike="noStrike">
              <a:solidFill>
                <a:srgbClr val="000000"/>
              </a:solidFill>
              <a:latin typeface="Calibri"/>
            </a:endParaRPr>
          </a:p>
        </p:txBody>
      </p:sp>
      <p:sp>
        <p:nvSpPr>
          <p:cNvPr id="63" name=""/>
          <p:cNvSpPr txBox="1"/>
          <p:nvPr/>
        </p:nvSpPr>
        <p:spPr>
          <a:xfrm>
            <a:off x="457200" y="1599840"/>
            <a:ext cx="8229600" cy="470844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ORQUE O QL DE UM TERRITÓRIO PODE SER ELEVADO APENAS PORQUE A MACRO-REGIÃO DE REFERÊNCIA NÃO APRESENTA QUALQUER ESPECIALIZAÇÃO OU COMPETÊNCIA PRODUTIVA NO BEM x.</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0,002% / 0,0002% = 10.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 um QL de valor “10” é elevad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s só o é porque a produção na macro-região é inexpressiva, próxima de zero. O que significa dizer que, ou o produto não tem mercado interno expressivo, ou a mercadoria é, majoritariamente obtida do </a:t>
            </a:r>
            <a:r>
              <a:rPr b="1" lang="en-US" sz="2500" spc="-1" strike="noStrike">
                <a:solidFill>
                  <a:srgbClr val="000000"/>
                </a:solidFill>
                <a:latin typeface="Calibri"/>
              </a:rPr>
              <a:t>exterior da macro-região. A mercadoria é importada e a região X é apenas o “menos-pior” produtor interno da mesma. Mas sua produção não é, de fato, competitiva em termos globa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L: uma analogia</a:t>
            </a:r>
            <a:endParaRPr b="0" lang="en-US" sz="4400" spc="-1" strike="noStrike">
              <a:solidFill>
                <a:srgbClr val="000000"/>
              </a:solidFill>
              <a:latin typeface="Calibri"/>
            </a:endParaRPr>
          </a:p>
        </p:txBody>
      </p:sp>
      <p:sp>
        <p:nvSpPr>
          <p:cNvPr id="65" name=""/>
          <p:cNvSpPr txBox="1"/>
          <p:nvPr/>
        </p:nvSpPr>
        <p:spPr>
          <a:xfrm>
            <a:off x="457200" y="1125360"/>
            <a:ext cx="8229600" cy="57326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Identificar o potencial de um território é como identificar o “potencial de uma pessoa”. O que queremos saber é: no que o sujeito é “bom”, qual a maneira mais adequada dele se “sustentar’ e “ser feliz”.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O ponto de partida (mas não o de chegada) é o que eu gosto de fazer. Eu gosto de Economia, de Filosofia, de História e de música. Eu canto o tempo todo e penso em Filosofia e História mais do que em Economia. Mas sou muito desafinado. E existem professores de História e Filosofia demais. Não sou muito competitivo nestas searas, portanto.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A pergunta que importa é, pois, </a:t>
            </a:r>
            <a:r>
              <a:rPr b="1" lang="pt-BR" sz="2200" spc="-1" strike="noStrike">
                <a:solidFill>
                  <a:srgbClr val="000000"/>
                </a:solidFill>
                <a:latin typeface="Calibri"/>
              </a:rPr>
              <a:t>o que eu sei fazer</a:t>
            </a:r>
            <a:r>
              <a:rPr b="0" lang="pt-BR" sz="2200" spc="-1" strike="noStrike">
                <a:solidFill>
                  <a:srgbClr val="000000"/>
                </a:solidFill>
                <a:latin typeface="Calibri"/>
              </a:rPr>
              <a:t> (o que implica um certo gostar) </a:t>
            </a:r>
            <a:r>
              <a:rPr b="1" lang="pt-BR" sz="2200" spc="-1" strike="noStrike">
                <a:solidFill>
                  <a:srgbClr val="000000"/>
                </a:solidFill>
                <a:latin typeface="Calibri"/>
              </a:rPr>
              <a:t>em termos tais que me torne competitivo</a:t>
            </a:r>
            <a:r>
              <a:rPr b="0" lang="pt-BR" sz="2200" spc="-1" strike="noStrike">
                <a:solidFill>
                  <a:srgbClr val="000000"/>
                </a:solidFill>
                <a:latin typeface="Calibri"/>
              </a:rPr>
              <a:t>? E mais competitivo implica, também, mais flexível, mais capaz de enfrentar eventuais “intempéries” de mercado.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Ao optar por Economia, eu estou optando por uma atividade que possibilita uma certa autonomia com relação à Universidade. Posso dar consultoria (em planejamento do desenvolvimento) e fazer pesquisa usando instrumentos (estatísticos, bases de dados secundários) que alavancam o meu potencial diversificativo a médio e longo praz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 Papel das Cadeias </a:t>
            </a:r>
            <a:br>
              <a:rPr sz="4000"/>
            </a:br>
            <a:r>
              <a:rPr b="0" lang="en-US" sz="4000" spc="-1" strike="noStrike">
                <a:solidFill>
                  <a:srgbClr val="000000"/>
                </a:solidFill>
                <a:latin typeface="Calibri"/>
              </a:rPr>
              <a:t>Produtivas e de Serviços</a:t>
            </a:r>
            <a:endParaRPr b="0" lang="en-US" sz="4000" spc="-1" strike="noStrike">
              <a:solidFill>
                <a:srgbClr val="000000"/>
              </a:solidFill>
              <a:latin typeface="Calibri"/>
            </a:endParaRPr>
          </a:p>
        </p:txBody>
      </p:sp>
      <p:sp>
        <p:nvSpPr>
          <p:cNvPr id="67" name=""/>
          <p:cNvSpPr txBox="1"/>
          <p:nvPr/>
        </p:nvSpPr>
        <p:spPr>
          <a:xfrm>
            <a:off x="457200" y="1599840"/>
            <a:ext cx="8229600" cy="48531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Não basta tomar os QLs das atividades isoladas, contudo. É preciso identificar se há cadeias produtivas e seu QL global</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O QUE É UMA CADEIA PRODUTIVA? ... Uma cadeia produtiva é um conjunto de atividades ligadas entre si como elos de uma corrente. A produção de calçados é apenas um dos inúmeros elos de uma cadeia muito longa: a “indústria coureiro-calçadista”.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Esta cadeia envolve desde a pecuária bovina e o processamento do couro até a venda do sapato no varejo. Entre os elos “couro” e “varejo”, há uma infinidade de elos intermediários, envolvendo a produção de saltos de madeira e borracha, de colas e adesivos, pregos e taxas, caixas de papelão e sacolas, bem como os mais diversos serviços de design, financiamento, comercialização, transporte, etc.</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O fundamento do Planejamento do Desenvolvimento Territorial é pois</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Identificar e hierarquizar as atividades e cadeias propulsiva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Mapear seu gargal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Hierarquizar os investimentos com vistas a enfrentar os gargalos capazes de gerar o maior retorno por unidade de dispêndi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Analisar o processo de multiplicação da renda no território e seus vazamentos (remessas para o exterior e importaçõe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Ampliar o poder multiplicativo através de políticas de apoio à produção local e à re-distribuição de renda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22160" y="2924280"/>
            <a:ext cx="7772400" cy="284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IDENTIFICAÇÃO, HIERARQUIZAÇÃO E ANÁLISE DAS ATIVIDADES PROPULSIVAS  E MULTIPLICATIVAS DE RIO GRANDE</a:t>
            </a:r>
            <a:endParaRPr b="0" lang="en-US" sz="4000" spc="-1" strike="noStrike">
              <a:solidFill>
                <a:srgbClr val="000000"/>
              </a:solidFill>
              <a:latin typeface="Calibri"/>
            </a:endParaRPr>
          </a:p>
        </p:txBody>
      </p:sp>
      <p:sp>
        <p:nvSpPr>
          <p:cNvPr id="71" name="PlaceHolder 2"/>
          <p:cNvSpPr>
            <a:spLocks noGrp="1"/>
          </p:cNvSpPr>
          <p:nvPr>
            <p:ph/>
          </p:nvPr>
        </p:nvSpPr>
        <p:spPr>
          <a:xfrm>
            <a:off x="722160" y="1196640"/>
            <a:ext cx="7772400" cy="86364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898989"/>
                </a:solidFill>
                <a:latin typeface="Calibri"/>
              </a:rPr>
              <a:t>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1800" spc="-1" strike="noStrike">
                <a:solidFill>
                  <a:srgbClr val="000000"/>
                </a:solidFill>
                <a:latin typeface="Calibri"/>
              </a:rPr>
              <a:t>Estrutura e Evolução do Emprego Formal e da Massa Salarial entre 2000 e 2011</a:t>
            </a:r>
            <a:br>
              <a:rPr sz="1800"/>
            </a:br>
            <a:r>
              <a:rPr b="0" lang="pt-BR" sz="1800" spc="-1" strike="noStrike">
                <a:solidFill>
                  <a:srgbClr val="000000"/>
                </a:solidFill>
                <a:latin typeface="Calibri"/>
              </a:rPr>
              <a:t>nas Atividades Propulsivas, Mistas, Derivadas (Mult) e de Dinâmica Indeterminada (Fonte: </a:t>
            </a:r>
            <a:r>
              <a:rPr b="1" lang="pt-BR" sz="1800" spc="-1" strike="noStrike">
                <a:solidFill>
                  <a:srgbClr val="000000"/>
                </a:solidFill>
                <a:latin typeface="Calibri"/>
              </a:rPr>
              <a:t>RAIS</a:t>
            </a:r>
            <a:r>
              <a:rPr b="0" lang="pt-BR" sz="1800" spc="-1" strike="noStrike">
                <a:solidFill>
                  <a:srgbClr val="000000"/>
                </a:solidFill>
                <a:latin typeface="Calibri"/>
              </a:rPr>
              <a:t>)</a:t>
            </a:r>
            <a:endParaRPr b="0" lang="en-US" sz="1800" spc="-1" strike="noStrike">
              <a:solidFill>
                <a:srgbClr val="000000"/>
              </a:solidFill>
              <a:latin typeface="Calibri"/>
            </a:endParaRPr>
          </a:p>
        </p:txBody>
      </p:sp>
      <p:pic>
        <p:nvPicPr>
          <p:cNvPr id="73" name="Content Placeholder 3" descr=""/>
          <p:cNvPicPr/>
          <p:nvPr/>
        </p:nvPicPr>
        <p:blipFill>
          <a:blip r:embed="rId1"/>
          <a:stretch/>
        </p:blipFill>
        <p:spPr>
          <a:xfrm>
            <a:off x="468360" y="1557360"/>
            <a:ext cx="8229600" cy="48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Calibri"/>
              </a:rPr>
              <a:t>As Atividades Propulsivas de Exportação de Maior Quociente Locacional: Identificando e Hierarquizando as Cadeias</a:t>
            </a:r>
            <a:endParaRPr b="0" lang="en-US" sz="2500" spc="-1" strike="noStrike">
              <a:solidFill>
                <a:srgbClr val="000000"/>
              </a:solidFill>
              <a:latin typeface="Calibri"/>
            </a:endParaRPr>
          </a:p>
        </p:txBody>
      </p:sp>
      <p:pic>
        <p:nvPicPr>
          <p:cNvPr id="75" name="Content Placeholder 3" descr=""/>
          <p:cNvPicPr/>
          <p:nvPr/>
        </p:nvPicPr>
        <p:blipFill>
          <a:blip r:embed="rId1"/>
          <a:stretch/>
        </p:blipFill>
        <p:spPr>
          <a:xfrm>
            <a:off x="324000" y="1413000"/>
            <a:ext cx="8640720" cy="52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Primeira Conclusões (1)</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 despeito de apresentarem um número relativamente pequeno de elos (por conta da sofisticação do sistema logístico), podemos identificar 3 setores/cadeias propulsivos de exportação consolidados em Rio Grande e com grande potencial de expansão: Metal-mecânico (nucleado pelo Polo Naval); Transporte-Logística (nucleado pelo Porto) e Alimentar (nucleado pela pesca). Estes setores devem ser objeto de priorização por parte dos agentes públicos locais, uma vez que a dinâmica futura de Rio Grande depende da competitividade dos mesmo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o lado destes, identificamos um quarto setor/cadeia propulsivo de potencial similar aos outros 3, mas com um nível de consolidação muito menor: o turismo; embarcando o turismo de lazer, negócios, serviços e estrutural.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Primeiras Conclusões -</a:t>
            </a:r>
            <a:br>
              <a:rPr sz="4000"/>
            </a:br>
            <a:r>
              <a:rPr b="0" lang="pt-BR" sz="4000" spc="-1" strike="noStrike">
                <a:solidFill>
                  <a:srgbClr val="000000"/>
                </a:solidFill>
                <a:latin typeface="Calibri"/>
              </a:rPr>
              <a:t>Polo Naval</a:t>
            </a:r>
            <a:endParaRPr b="0" lang="en-US" sz="4000" spc="-1" strike="noStrike">
              <a:solidFill>
                <a:srgbClr val="000000"/>
              </a:solidFill>
              <a:latin typeface="Calibri"/>
            </a:endParaRPr>
          </a:p>
        </p:txBody>
      </p:sp>
      <p:sp>
        <p:nvSpPr>
          <p:cNvPr id="79" name=""/>
          <p:cNvSpPr txBox="1"/>
          <p:nvPr/>
        </p:nvSpPr>
        <p:spPr>
          <a:xfrm>
            <a:off x="457200" y="1196640"/>
            <a:ext cx="8229600" cy="55450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O setor-cadeia metal mecânico é o que apresenta maior dinamismo recente. Mas é – dentre os três principais – o menos consolidado e o de maior risco sistêmico.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Por isto mesmo, entendemos que a comunidade riograndina deve se perguntar, primeiramente, o que pode fazer pelo Polo Naval, e apenas secundariamente o que o Polo Naval pode fazer por ela.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Tomar a questão por este prisma envolve contribuir para a solução ágil, eficiente e eficaz de todo e qualquer gargalo de oferta com o qual o Polo se depare. A começar pelo apoio ao enfrentamento de todo e eventual gargalo de oferta de mão de obra qualificada </a:t>
            </a:r>
            <a:r>
              <a:rPr b="1" lang="pt-BR" sz="2700" spc="-1" strike="noStrike">
                <a:solidFill>
                  <a:srgbClr val="000000"/>
                </a:solidFill>
                <a:latin typeface="Calibri"/>
              </a:rPr>
              <a:t>e experiente</a:t>
            </a:r>
            <a:r>
              <a:rPr b="0" lang="pt-BR" sz="2700" spc="-1" strike="noStrike">
                <a:solidFill>
                  <a:srgbClr val="000000"/>
                </a:solidFill>
                <a:latin typeface="Calibri"/>
              </a:rPr>
              <a:t>.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Brigam Espanha e Holanda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pelos direitos do Mar</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Brigam porque não sabem que o mar</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É de todos que sabem e ousam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Navegar, pescar e am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Primeiras Conclusões – </a:t>
            </a:r>
            <a:br>
              <a:rPr sz="4000"/>
            </a:br>
            <a:r>
              <a:rPr b="1" lang="pt-BR" sz="4000" spc="-1" strike="noStrike">
                <a:solidFill>
                  <a:srgbClr val="000000"/>
                </a:solidFill>
                <a:latin typeface="Calibri"/>
              </a:rPr>
              <a:t>Logística</a:t>
            </a:r>
            <a:r>
              <a:rPr b="0" lang="pt-BR" sz="4000" spc="-1" strike="noStrike">
                <a:solidFill>
                  <a:srgbClr val="000000"/>
                </a:solidFill>
                <a:latin typeface="Calibri"/>
              </a:rPr>
              <a:t>, Pesca e Turismo (1)</a:t>
            </a:r>
            <a:endParaRPr b="0" lang="en-US" sz="4000" spc="-1" strike="noStrike">
              <a:solidFill>
                <a:srgbClr val="000000"/>
              </a:solidFill>
              <a:latin typeface="Calibri"/>
            </a:endParaRPr>
          </a:p>
        </p:txBody>
      </p:sp>
      <p:sp>
        <p:nvSpPr>
          <p:cNvPr id="81" name=""/>
          <p:cNvSpPr txBox="1"/>
          <p:nvPr/>
        </p:nvSpPr>
        <p:spPr>
          <a:xfrm>
            <a:off x="457200" y="1412640"/>
            <a:ext cx="8229600" cy="5445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A despeito dos diferenciais de desenvolvimento, dinâmica e capacidade propulsiva atual destes três setores-cadeias, eles podem e devem ser tratados como uma unidade: </a:t>
            </a:r>
            <a:r>
              <a:rPr b="1" lang="pt-BR" sz="2200" spc="-1" strike="noStrike">
                <a:solidFill>
                  <a:srgbClr val="000000"/>
                </a:solidFill>
                <a:latin typeface="Calibri"/>
              </a:rPr>
              <a:t>eles são setores-cadeias nos quais Rio Grande tem, naturalmente  e indissoluvelmente, vantagens competitivas sobre todos os demais municípios e regiões do Estado e do Extremo Sul do Brasil</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No mundo globalizado, os portos são cada vez mais exigidos. Mas não basta ter capacidade de atracação. É preciso ter eficiência, rapidez, prestatividade, competências. O Brasil não tem tradições em administração de Portos. O município e os munícipes devem contribuir para o desenvolvimento desta competitividade. Inclusive via mobilização para a construção de um sistema territorial de governança com a colaboração de representantes dos poderes públicos federais, estaduais e municipais, de lideranças privadas locais e de usuários dos serviços, e dos trabalhadores nas atividades portuárias e de Logística.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Primeiras Conclusões –</a:t>
            </a:r>
            <a:br>
              <a:rPr sz="4000"/>
            </a:br>
            <a:r>
              <a:rPr b="0" lang="pt-BR" sz="4000" spc="-1" strike="noStrike">
                <a:solidFill>
                  <a:srgbClr val="000000"/>
                </a:solidFill>
                <a:latin typeface="Calibri"/>
              </a:rPr>
              <a:t>Logística, </a:t>
            </a:r>
            <a:r>
              <a:rPr b="1" lang="pt-BR" sz="4000" spc="-1" strike="noStrike">
                <a:solidFill>
                  <a:srgbClr val="000000"/>
                </a:solidFill>
                <a:latin typeface="Calibri"/>
              </a:rPr>
              <a:t>Pesca</a:t>
            </a:r>
            <a:r>
              <a:rPr b="0" lang="pt-BR" sz="4000" spc="-1" strike="noStrike">
                <a:solidFill>
                  <a:srgbClr val="000000"/>
                </a:solidFill>
                <a:latin typeface="Calibri"/>
              </a:rPr>
              <a:t> e Turismo</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A indústria pesqueira vem apresentando uma performance pouco alvissareira. Mas isto não parece se dever a problemas de mercado, pois a demanda por proteína animal vem crescendo de forma acelerado no país. A indústria pesqueira pode vir a ser para Rio Grande o que a indústria de frango e suíno foi e é para Concórdia e Chapecó.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Mas é preciso identificar e contribuir para sanar os gargalos organizacionais e financeiros do setor e apoiar sua modernização e competitividad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Primeiras Conclusões – </a:t>
            </a:r>
            <a:br>
              <a:rPr sz="4000"/>
            </a:br>
            <a:r>
              <a:rPr b="0" lang="pt-BR" sz="4000" spc="-1" strike="noStrike">
                <a:solidFill>
                  <a:srgbClr val="000000"/>
                </a:solidFill>
                <a:latin typeface="Calibri"/>
              </a:rPr>
              <a:t>Logística, Pesca e </a:t>
            </a:r>
            <a:r>
              <a:rPr b="1" lang="pt-BR" sz="4000" spc="-1" strike="noStrike">
                <a:solidFill>
                  <a:srgbClr val="000000"/>
                </a:solidFill>
                <a:latin typeface="Calibri"/>
              </a:rPr>
              <a:t>Turismo</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O turismo é um setor-cadeia tão enraizado quanto a pesca e a logística. Mas vem recebendo muito menos atenção, pois, até recentemente, subestimava-se seu potencial dinamizador. Gramado e Tramandaí demonstraram o equívoco desta subestimaçã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Rio Grande conta com vantagens com relação a estas duas cidades para a promoção do turismo, pois conta – para além do turismo de veraneio – com um turismo de negócios estrutural (logística e naval), um sistema de saúde e de educação privilegiado (turismo estrutural) e um patrimônio histórico arquitetônico privilegiad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lém disso, o turismo dialoga muito bem com as atividades multiplicativas e é uma fonte privilegiada de geração de postos de trabalho e renda. Voltaremos a este pont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7" name="Content Placeholder 3" descr=""/>
          <p:cNvPicPr/>
          <p:nvPr/>
        </p:nvPicPr>
        <p:blipFill>
          <a:blip r:embed="rId1"/>
          <a:stretch/>
        </p:blipFill>
        <p:spPr>
          <a:xfrm>
            <a:off x="3240" y="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Para além da Propulsão: as atividades multiplicativas em Rio Grande</a:t>
            </a:r>
            <a:endParaRPr b="0" lang="en-US" sz="4000" spc="-1" strike="noStrike">
              <a:solidFill>
                <a:srgbClr val="000000"/>
              </a:solidFill>
              <a:latin typeface="Calibri"/>
            </a:endParaRPr>
          </a:p>
        </p:txBody>
      </p:sp>
      <p:sp>
        <p:nvSpPr>
          <p:cNvPr id="89" name=""/>
          <p:cNvSpPr txBox="1"/>
          <p:nvPr/>
        </p:nvSpPr>
        <p:spPr>
          <a:xfrm>
            <a:off x="457200" y="1196640"/>
            <a:ext cx="8229600" cy="554508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Um território pode contar com atividades propulsivas e não alcançar internalizar a renda gerada por elas. Este é o triste caso de Triunfo e de Gravataí, cujos PIBs per capita extraordinariamente  elevados não se expressam em rendas elevadas para seus cidadão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Para garantir a multiplicação </a:t>
            </a:r>
            <a:r>
              <a:rPr b="1" lang="pt-BR" sz="2500" spc="-1" strike="noStrike">
                <a:solidFill>
                  <a:srgbClr val="000000"/>
                </a:solidFill>
                <a:latin typeface="Calibri"/>
              </a:rPr>
              <a:t>local</a:t>
            </a:r>
            <a:r>
              <a:rPr b="0" lang="pt-BR" sz="2500" spc="-1" strike="noStrike">
                <a:solidFill>
                  <a:srgbClr val="000000"/>
                </a:solidFill>
                <a:latin typeface="Calibri"/>
              </a:rPr>
              <a:t> da renda auferida com as atividades multiplicativas é preciso garantir a qualidade dos serviços prestados às famílias. Um objetivo tão mais importante, na medida em que estes serviços – em territórios de elevado potencial turístico – acabam assumindo funções mistas (tb propulsiva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inda que as distintas cadeias propulsivas tenham capacidades multiplicativas distintas, uma boa referência para a multiplicação de atividades é que ela não deve ser inferior a “4” para a geração de postos de trabalho e de “3” para a geração de rend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Vamos ver como Rio Grande está se saind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1" name="Content Placeholder 3" descr=""/>
          <p:cNvPicPr/>
          <p:nvPr/>
        </p:nvPicPr>
        <p:blipFill>
          <a:blip r:embed="rId1"/>
          <a:stretch/>
        </p:blipFill>
        <p:spPr>
          <a:xfrm>
            <a:off x="200160" y="34920"/>
            <a:ext cx="8929440" cy="674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A baixa capacidade multiplicativa de Rio Grande</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A despeito de ter mais de contar com 3 setores-cadeias propulsivos consolidados e outros 3 parcialmente consolidados (turismo e SPBs Educação e Saúde), a capacidade multiplicativa do emprego e da renda mostra-se relativamente baixa em Rio Grande. </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Mesmo com a introdução dos dados do Censo, o multiplicador do emprego passou de 2 para 3; e o da renda de 1,33 para 2. Estes são multiplicadores muito inferiores à média estadual.</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É o que observamos nas tabulações seguint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Relação entre Emprego Formal e Ocupação Total e População </a:t>
            </a:r>
            <a:br>
              <a:rPr sz="2200"/>
            </a:br>
            <a:r>
              <a:rPr b="1" lang="pt-BR" sz="2200" spc="-1" strike="noStrike">
                <a:solidFill>
                  <a:srgbClr val="000000"/>
                </a:solidFill>
                <a:latin typeface="Calibri"/>
              </a:rPr>
              <a:t>no Estado, no Município de Rio Grande e em Municípios Selecionados em 2000 e 2010</a:t>
            </a:r>
            <a:br>
              <a:rPr sz="2200"/>
            </a:br>
            <a:endParaRPr b="0" lang="en-US" sz="2200" spc="-1" strike="noStrike">
              <a:solidFill>
                <a:srgbClr val="000000"/>
              </a:solidFill>
              <a:latin typeface="Calibri"/>
            </a:endParaRPr>
          </a:p>
        </p:txBody>
      </p:sp>
      <p:pic>
        <p:nvPicPr>
          <p:cNvPr id="95" name="Content Placeholder 3" descr=""/>
          <p:cNvPicPr/>
          <p:nvPr/>
        </p:nvPicPr>
        <p:blipFill>
          <a:blip r:embed="rId1"/>
          <a:stretch/>
        </p:blipFill>
        <p:spPr>
          <a:xfrm>
            <a:off x="457200" y="1413000"/>
            <a:ext cx="822960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7" name="" descr=""/>
          <p:cNvPicPr/>
          <p:nvPr/>
        </p:nvPicPr>
        <p:blipFill>
          <a:blip r:embed="rId1"/>
          <a:stretch/>
        </p:blipFill>
        <p:spPr>
          <a:xfrm>
            <a:off x="457200" y="1600200"/>
            <a:ext cx="8229600" cy="4525920"/>
          </a:xfrm>
          <a:prstGeom prst="rect">
            <a:avLst/>
          </a:prstGeom>
          <a:ln w="0">
            <a:noFill/>
          </a:ln>
        </p:spPr>
      </p:pic>
      <p:pic>
        <p:nvPicPr>
          <p:cNvPr id="98" name="Picture 2" descr="C:\Users\Carlos\Documents\Pesquisas\Em Proc\Pólo Naval Rio Grande\Relatório Final e suas Tabelas\Fase 2 do Diagnóstico\Mapas\%Rais_2010_pop_urb_2010.jpg"/>
          <p:cNvPicPr/>
          <p:nvPr/>
        </p:nvPicPr>
        <p:blipFill>
          <a:blip r:embed="rId2"/>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0" name="Picture 2" descr="%ocupados_pop_tot_2010"/>
          <p:cNvPicPr/>
          <p:nvPr/>
        </p:nvPicPr>
        <p:blipFill>
          <a:blip r:embed="rId1"/>
          <a:stretch/>
        </p:blipFill>
        <p:spPr>
          <a:xfrm>
            <a:off x="233280" y="404640"/>
            <a:ext cx="8825040" cy="612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Rio Grande e seus 3 Mare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Foi criada como uma fortaleza com acesso a dois mares:  o Atlântico e o “Mar de Dentr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Conta com a mais extensa praia do mundo e um dos mais importantes polos turísticos do 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Transformou-se no maior porto do Sul do Brasil</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É o principal polo da indústria da pesca no Extremo Sul do Brasi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Tornou-se um dos principais Polos da Indústria Naval Brasilei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Rio Grande: tua história pregressa e futura é definida pela qualidade da tua relação com esta riqueza ímpar: teus três mares: o de dentro, o de fora e o praiano.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2" name="" descr=""/>
          <p:cNvPicPr/>
          <p:nvPr/>
        </p:nvPicPr>
        <p:blipFill>
          <a:blip r:embed="rId1"/>
          <a:stretch/>
        </p:blipFill>
        <p:spPr>
          <a:xfrm>
            <a:off x="457200" y="1600200"/>
            <a:ext cx="8229600" cy="4525920"/>
          </a:xfrm>
          <a:prstGeom prst="rect">
            <a:avLst/>
          </a:prstGeom>
          <a:ln w="0">
            <a:noFill/>
          </a:ln>
        </p:spPr>
      </p:pic>
      <p:pic>
        <p:nvPicPr>
          <p:cNvPr id="103" name="Picture 2" descr="C:\Users\Carlos\Documents\Pesquisas\Em Proc\Pólo Naval Rio Grande\Relatório Final e suas Tabelas\Fase 2 do Diagnóstico\Mapas\Grau_inf_201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800" spc="-1" strike="noStrike">
                <a:solidFill>
                  <a:srgbClr val="000000"/>
                </a:solidFill>
                <a:latin typeface="Calibri"/>
              </a:rPr>
              <a:t>Hipóteses para a baixa multiplicação da Ocupação / Emprego em Rio Grande</a:t>
            </a:r>
            <a:endParaRPr b="0" lang="en-US" sz="3800" spc="-1" strike="noStrike">
              <a:solidFill>
                <a:srgbClr val="000000"/>
              </a:solidFill>
              <a:latin typeface="Calibri"/>
            </a:endParaRPr>
          </a:p>
        </p:txBody>
      </p:sp>
      <p:sp>
        <p:nvSpPr>
          <p:cNvPr id="105" name=""/>
          <p:cNvSpPr txBox="1"/>
          <p:nvPr/>
        </p:nvSpPr>
        <p:spPr>
          <a:xfrm>
            <a:off x="324000" y="1341360"/>
            <a:ext cx="8496000" cy="518328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1) Estrutura (ou pirâmide etária) diferenciada, com uma população em idade ativa relativamente pequena;</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2) Parte da PIA alijou-se do mercado de trabalho, pois tem acesso a transferências privadas ou governamentais em níveis superiores ao de outros municípios (aposentadoria por invalidez, bolsas diversas, salário família);</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3) Ocupados nos setores propulsivos remetem parte expressiva da renda para fora, seja sob a forma de excedente, seja sob a forma de salário. Este fenômeno é exponenciado quando os trabalhadores se originam em outros municípios e/ou ainda são domiciliados fora e a população não cresce consistentemente com o emprego (Triunfo).</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4) Incompatibilidade entre a qualificação da mão-de-obra ofertada e a demandada. Neste caso, os índices de desemprego devem ser altos. Em caso de incompatibilidade, é preciso avaliar se ela se deve a:</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4.1) carência absoluta de qualificação;</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4.2) inconsistência entre a qualificação ofertada e a buscada</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4.3) fatores culturais e capacidade empreendedo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Estrutura Etária, Razão de Dependência e % Aposentados</a:t>
            </a:r>
            <a:br>
              <a:rPr sz="2200"/>
            </a:br>
            <a:r>
              <a:rPr b="1" lang="pt-BR" sz="2200" spc="-1" strike="noStrike">
                <a:solidFill>
                  <a:srgbClr val="000000"/>
                </a:solidFill>
                <a:latin typeface="Calibri"/>
              </a:rPr>
              <a:t>no Estado do RS, em Rio Grande e em Municípios Gaúchos Selecionados (Censo 2010)</a:t>
            </a:r>
            <a:br>
              <a:rPr sz="2200"/>
            </a:br>
            <a:endParaRPr b="0" lang="en-US" sz="2200" spc="-1" strike="noStrike">
              <a:solidFill>
                <a:srgbClr val="000000"/>
              </a:solidFill>
              <a:latin typeface="Calibri"/>
            </a:endParaRPr>
          </a:p>
        </p:txBody>
      </p:sp>
      <p:pic>
        <p:nvPicPr>
          <p:cNvPr id="107" name="Content Placeholder 3" descr=""/>
          <p:cNvPicPr/>
          <p:nvPr/>
        </p:nvPicPr>
        <p:blipFill>
          <a:blip r:embed="rId1"/>
          <a:stretch/>
        </p:blipFill>
        <p:spPr>
          <a:xfrm>
            <a:off x="684360" y="1484280"/>
            <a:ext cx="794988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Padrão e Expressão Relativa das Transferências Governamentais para Pessoas Físicas no Estado do RS, em Rio Grande e em Municípios Gaúchos Selecionados em 2010</a:t>
            </a:r>
            <a:endParaRPr b="0" lang="en-US" sz="2200" spc="-1" strike="noStrike">
              <a:solidFill>
                <a:srgbClr val="000000"/>
              </a:solidFill>
              <a:latin typeface="Calibri"/>
            </a:endParaRPr>
          </a:p>
        </p:txBody>
      </p:sp>
      <p:pic>
        <p:nvPicPr>
          <p:cNvPr id="109" name="Content Placeholder 3" descr=""/>
          <p:cNvPicPr/>
          <p:nvPr/>
        </p:nvPicPr>
        <p:blipFill>
          <a:blip r:embed="rId1"/>
          <a:stretch/>
        </p:blipFill>
        <p:spPr>
          <a:xfrm>
            <a:off x="395280" y="1341360"/>
            <a:ext cx="8640720" cy="5256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Taxa de Variação Anual do Emprego, Ocupação e População</a:t>
            </a:r>
            <a:br>
              <a:rPr sz="2200"/>
            </a:br>
            <a:r>
              <a:rPr b="1" lang="pt-BR" sz="2200" spc="-1" strike="noStrike">
                <a:solidFill>
                  <a:srgbClr val="000000"/>
                </a:solidFill>
                <a:latin typeface="Calibri"/>
              </a:rPr>
              <a:t>do Estado do RS, em Rio Grande e em Municípios Gaúchos Selecionados 2000-2010</a:t>
            </a:r>
            <a:endParaRPr b="0" lang="en-US" sz="2200" spc="-1" strike="noStrike">
              <a:solidFill>
                <a:srgbClr val="000000"/>
              </a:solidFill>
              <a:latin typeface="Calibri"/>
            </a:endParaRPr>
          </a:p>
        </p:txBody>
      </p:sp>
      <p:pic>
        <p:nvPicPr>
          <p:cNvPr id="111" name="Content Placeholder 3" descr=""/>
          <p:cNvPicPr/>
          <p:nvPr/>
        </p:nvPicPr>
        <p:blipFill>
          <a:blip r:embed="rId1"/>
          <a:stretch/>
        </p:blipFill>
        <p:spPr>
          <a:xfrm>
            <a:off x="457200" y="1484280"/>
            <a:ext cx="8362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000000"/>
                </a:solidFill>
                <a:latin typeface="Calibri"/>
              </a:rPr>
              <a:t>Naturalidade do conjunto dos ocupados em Rio Grande e no RS em 2010</a:t>
            </a:r>
            <a:endParaRPr b="0" lang="en-US" sz="3400" spc="-1" strike="noStrike">
              <a:solidFill>
                <a:srgbClr val="000000"/>
              </a:solidFill>
              <a:latin typeface="Calibri"/>
            </a:endParaRPr>
          </a:p>
        </p:txBody>
      </p:sp>
      <p:pic>
        <p:nvPicPr>
          <p:cNvPr id="113" name="Picture 1" descr=""/>
          <p:cNvPicPr/>
          <p:nvPr/>
        </p:nvPicPr>
        <p:blipFill>
          <a:blip r:embed="rId1"/>
          <a:stretch/>
        </p:blipFill>
        <p:spPr>
          <a:xfrm>
            <a:off x="328680" y="1484280"/>
            <a:ext cx="8275680" cy="3529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Comparação da Qualificação de Desempregados e Ocupados </a:t>
            </a:r>
            <a:br>
              <a:rPr sz="2200"/>
            </a:br>
            <a:r>
              <a:rPr b="1" lang="pt-BR" sz="2200" spc="-1" strike="noStrike">
                <a:solidFill>
                  <a:srgbClr val="000000"/>
                </a:solidFill>
                <a:latin typeface="Calibri"/>
              </a:rPr>
              <a:t>do Estado do RS, em Rio Grande e em Municípios Gaúchos Selecionados 2010 </a:t>
            </a:r>
            <a:endParaRPr b="0" lang="en-US" sz="2200" spc="-1" strike="noStrike">
              <a:solidFill>
                <a:srgbClr val="000000"/>
              </a:solidFill>
              <a:latin typeface="Calibri"/>
            </a:endParaRPr>
          </a:p>
        </p:txBody>
      </p:sp>
      <p:pic>
        <p:nvPicPr>
          <p:cNvPr id="115" name="Content Placeholder 3" descr=""/>
          <p:cNvPicPr/>
          <p:nvPr/>
        </p:nvPicPr>
        <p:blipFill>
          <a:blip r:embed="rId1"/>
          <a:stretch/>
        </p:blipFill>
        <p:spPr>
          <a:xfrm>
            <a:off x="457200" y="1668600"/>
            <a:ext cx="8229600" cy="485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alibri"/>
              </a:rPr>
              <a:t>Refutando (e Confirmando) hipóteses</a:t>
            </a:r>
            <a:endParaRPr b="0" lang="en-US" sz="4000" spc="-1" strike="noStrike">
              <a:solidFill>
                <a:srgbClr val="000000"/>
              </a:solidFill>
              <a:latin typeface="Calibri"/>
            </a:endParaRPr>
          </a:p>
        </p:txBody>
      </p:sp>
      <p:sp>
        <p:nvSpPr>
          <p:cNvPr id="117" name=""/>
          <p:cNvSpPr txBox="1"/>
          <p:nvPr/>
        </p:nvSpPr>
        <p:spPr>
          <a:xfrm>
            <a:off x="457200" y="1125360"/>
            <a:ext cx="8229600" cy="532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Refutamos 3 hipóte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 baixa ocupação e multiplicação em Rio Grande </a:t>
            </a:r>
            <a:r>
              <a:rPr b="1" lang="pt-BR" sz="2500" spc="-1" strike="noStrike">
                <a:solidFill>
                  <a:srgbClr val="000000"/>
                </a:solidFill>
                <a:latin typeface="Calibri"/>
              </a:rPr>
              <a:t>não</a:t>
            </a:r>
            <a:r>
              <a:rPr b="0" lang="pt-BR" sz="2500" spc="-1" strike="noStrike">
                <a:solidFill>
                  <a:srgbClr val="000000"/>
                </a:solidFill>
                <a:latin typeface="Calibri"/>
              </a:rPr>
              <a:t> se dev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1) à pirâmide etária (elevada razão de dependênc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2) a um volume extraordinariamente elevado de “rentistas” na populaçã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3) excessiva dependência de mão-de-obra externa (não domiciliada ou apenas parcialmente domiciliada no município, que exportaria parte da renda auferid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Confirmamos um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 baixa ocupação está, de fato, associada a desemprego. Mas este </a:t>
            </a:r>
            <a:r>
              <a:rPr b="1" lang="pt-BR" sz="2500" spc="-1" strike="noStrike">
                <a:solidFill>
                  <a:srgbClr val="000000"/>
                </a:solidFill>
                <a:latin typeface="Calibri"/>
              </a:rPr>
              <a:t>não</a:t>
            </a:r>
            <a:r>
              <a:rPr b="0" lang="pt-BR" sz="2500" spc="-1" strike="noStrike">
                <a:solidFill>
                  <a:srgbClr val="000000"/>
                </a:solidFill>
                <a:latin typeface="Calibri"/>
              </a:rPr>
              <a:t> se deriv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4) de baixa qualificação </a:t>
            </a:r>
            <a:r>
              <a:rPr b="1" lang="pt-BR" sz="2500" spc="-1" strike="noStrike">
                <a:solidFill>
                  <a:srgbClr val="000000"/>
                </a:solidFill>
                <a:latin typeface="Calibri"/>
              </a:rPr>
              <a:t>formal </a:t>
            </a:r>
            <a:r>
              <a:rPr b="0" lang="pt-BR" sz="2500" spc="-1" strike="noStrike">
                <a:solidFill>
                  <a:srgbClr val="000000"/>
                </a:solidFill>
                <a:latin typeface="Calibri"/>
              </a:rPr>
              <a:t>da mão de obra local desempregad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5) de </a:t>
            </a:r>
            <a:r>
              <a:rPr b="1" lang="pt-BR" sz="2500" spc="-1" strike="noStrike">
                <a:solidFill>
                  <a:srgbClr val="000000"/>
                </a:solidFill>
                <a:latin typeface="Calibri"/>
              </a:rPr>
              <a:t>insuficiência de demanda</a:t>
            </a:r>
            <a:r>
              <a:rPr b="0" lang="pt-BR" sz="2500" spc="-1" strike="noStrike">
                <a:solidFill>
                  <a:srgbClr val="000000"/>
                </a:solidFill>
                <a:latin typeface="Calibri"/>
              </a:rPr>
              <a:t> por mão-de-obr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5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Novas Hipóteses</a:t>
            </a:r>
            <a:endParaRPr b="0" lang="en-US" sz="4400" spc="-1" strike="noStrike">
              <a:solidFill>
                <a:srgbClr val="000000"/>
              </a:solidFill>
              <a:latin typeface="Calibri"/>
            </a:endParaRPr>
          </a:p>
        </p:txBody>
      </p:sp>
      <p:sp>
        <p:nvSpPr>
          <p:cNvPr id="119" name=""/>
          <p:cNvSpPr txBox="1"/>
          <p:nvPr/>
        </p:nvSpPr>
        <p:spPr>
          <a:xfrm>
            <a:off x="457200" y="980640"/>
            <a:ext cx="8229600" cy="5761080"/>
          </a:xfrm>
          <a:prstGeom prst="rect">
            <a:avLst/>
          </a:prstGeom>
          <a:noFill/>
          <a:ln w="0">
            <a:noFill/>
          </a:ln>
        </p:spPr>
        <p:txBody>
          <a:bodyPr anchor="t">
            <a:norm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1) O multiplicador do emprego e da renda também tende a ser baixo quando a maior parte da renda das atividades propulsivas assume a forma de excedente (lucros, juros, dividendos e impostos), pois este é mais facilmente exportado. Sempre que as atividades propulsivas são hegemonizadas por grandes empresas forâneas, a exportação do excedente tende a ser maior;</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2) Quando há desemprego E demanda não atendida de mão de obra, é muito provável que a qualificação </a:t>
            </a:r>
            <a:r>
              <a:rPr b="1" lang="pt-BR" sz="2200" spc="-1" strike="noStrike">
                <a:solidFill>
                  <a:srgbClr val="000000"/>
                </a:solidFill>
                <a:latin typeface="Calibri"/>
              </a:rPr>
              <a:t>formal </a:t>
            </a:r>
            <a:r>
              <a:rPr b="0" lang="pt-BR" sz="2200" spc="-1" strike="noStrike">
                <a:solidFill>
                  <a:srgbClr val="000000"/>
                </a:solidFill>
                <a:latin typeface="Calibri"/>
              </a:rPr>
              <a:t> não corresponda à qualificação efetivamente demandada pelos empresários</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3) Mas </a:t>
            </a:r>
            <a:r>
              <a:rPr b="1" lang="pt-BR" sz="2200" spc="-1" strike="noStrike">
                <a:solidFill>
                  <a:srgbClr val="000000"/>
                </a:solidFill>
                <a:latin typeface="Calibri"/>
              </a:rPr>
              <a:t>há</a:t>
            </a:r>
            <a:r>
              <a:rPr b="0" lang="pt-BR" sz="2200" spc="-1" strike="noStrike">
                <a:solidFill>
                  <a:srgbClr val="000000"/>
                </a:solidFill>
                <a:latin typeface="Calibri"/>
              </a:rPr>
              <a:t> postos de trabalho que podem ser ocupados por agentes que portam apenas a qualificação formal básica (ensino fundamental  e médio). Se o preenchimento das vatas não ocorre deve haver algum outro tipo de inadequação. Como, por exemplo, entre as demandas e oferta de remuneração e de condições de trabalho por parte de trabalhadores e empregadores. </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4) A inconsistência entre demanda e oferta de remuneração tendem a ser tão mais expressivas quanto menores forem as possibilidades de ingresso do trabalhador como produtor direto (conta própria e micro-empresa). </a:t>
            </a:r>
            <a:endParaRPr b="0" lang="en-US" sz="22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5) Passamos ao teste das novas hipóte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 descr=""/>
          <p:cNvPicPr/>
          <p:nvPr/>
        </p:nvPicPr>
        <p:blipFill>
          <a:blip r:embed="rId1"/>
          <a:stretch/>
        </p:blipFill>
        <p:spPr>
          <a:xfrm>
            <a:off x="457200" y="1600200"/>
            <a:ext cx="8229600" cy="4525920"/>
          </a:xfrm>
          <a:prstGeom prst="rect">
            <a:avLst/>
          </a:prstGeom>
          <a:ln w="0">
            <a:noFill/>
          </a:ln>
        </p:spPr>
      </p:pic>
      <p:pic>
        <p:nvPicPr>
          <p:cNvPr id="122" name="Picture 2" descr="%desempregados"/>
          <p:cNvPicPr/>
          <p:nvPr/>
        </p:nvPicPr>
        <p:blipFill>
          <a:blip r:embed="rId2"/>
          <a:stretch/>
        </p:blipFill>
        <p:spPr>
          <a:xfrm>
            <a:off x="0" y="0"/>
            <a:ext cx="8964720" cy="672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Plano e Obr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Vamos dividir esta apresentação em três par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1) Breve exposição dos princípios teóricos da pesqui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2) Diagnóstico da estrutura econômica riograndina e seus desaf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3) Apontamentos de políticas estratégicas de desenvolvimento para o Municíp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500" spc="-1" strike="noStrike">
                <a:solidFill>
                  <a:srgbClr val="000000"/>
                </a:solidFill>
                <a:latin typeface="Calibri"/>
              </a:rPr>
              <a:t>Participação de RG na população, emprego e empresas formais no RS em 2010/11</a:t>
            </a:r>
            <a:endParaRPr b="0" lang="en-US" sz="3500" spc="-1" strike="noStrike">
              <a:solidFill>
                <a:srgbClr val="000000"/>
              </a:solidFill>
              <a:latin typeface="Calibri"/>
            </a:endParaRPr>
          </a:p>
        </p:txBody>
      </p:sp>
      <p:pic>
        <p:nvPicPr>
          <p:cNvPr id="124" name="Content Placeholder 3" descr=""/>
          <p:cNvPicPr/>
          <p:nvPr/>
        </p:nvPicPr>
        <p:blipFill>
          <a:blip r:embed="rId1"/>
          <a:stretch/>
        </p:blipFill>
        <p:spPr>
          <a:xfrm>
            <a:off x="900000" y="1700280"/>
            <a:ext cx="7344000" cy="396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Content Placeholder 3" descr="C:\Users\Carlos\Documents\Pesquisas\Em Proc\Pólo Naval Rio Grande\Relatório Final e suas Tabelas\Fase 2 do Diagnóstico\Mapas\%de_empregadores_2010.jpg"/>
          <p:cNvPicPr/>
          <p:nvPr/>
        </p:nvPicPr>
        <p:blipFill>
          <a:blip r:embed="rId1"/>
          <a:stretch/>
        </p:blipFill>
        <p:spPr>
          <a:xfrm>
            <a:off x="539640" y="260280"/>
            <a:ext cx="8209080" cy="6337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250920" y="333360"/>
            <a:ext cx="8585280" cy="6191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0" name="Picture 2" descr=""/>
          <p:cNvPicPr/>
          <p:nvPr/>
        </p:nvPicPr>
        <p:blipFill>
          <a:blip r:embed="rId1"/>
          <a:stretch/>
        </p:blipFill>
        <p:spPr>
          <a:xfrm>
            <a:off x="108000" y="404640"/>
            <a:ext cx="8891640" cy="626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22160" y="3860280"/>
            <a:ext cx="7772400" cy="2016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PROPOSTAS</a:t>
            </a:r>
            <a:endParaRPr b="0" lang="en-US" sz="4000" spc="-1" strike="noStrike">
              <a:solidFill>
                <a:srgbClr val="000000"/>
              </a:solidFill>
              <a:latin typeface="Calibri"/>
            </a:endParaRPr>
          </a:p>
        </p:txBody>
      </p:sp>
      <p:sp>
        <p:nvSpPr>
          <p:cNvPr id="132" name="PlaceHolder 2"/>
          <p:cNvSpPr>
            <a:spLocks noGrp="1"/>
          </p:cNvSpPr>
          <p:nvPr>
            <p:ph/>
          </p:nvPr>
        </p:nvSpPr>
        <p:spPr>
          <a:xfrm>
            <a:off x="611280" y="169992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Avaliação Geral</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 municipalidade de Rio Grande e seus cidadãos devem focar suas ações de desenvolvimento em duas frentes, promovendo: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O enfrentamento dos gargalos de suas 4 cadeias-setores propulsivos de maior potencial dinâmico e competitivo de curto, médio e longo prazo: metal-mecânico (Polo Naval); Transporte-Logística (Porto e sistema rodoferroviário); Alimentar (com ênfase na pesca) e Turismo (lazer, negócios, serviços e estrutural).</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 elevação do multiplicador de emprego e renda dos setores propulsivos via superação aos entraves ao emprendedorism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Detalhamento de Propostas (1)</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1) identificação e apoio ao enfrentamento de todo e qualquer gargalo na oferta de mão-de-obra qualificada para o Polo Naval. Este enfrentamento deve se dar tanto pela qualificação de mão-de-obra local, quanto pela atração de trabalhadores qualificados para se domiciliarem em Rio Grande.</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2) Apoio à qualificação do sistema logístico de Rio Grande, via construção de um sistema de governança local com participação de todos os agentes privados e públicos envolvidos no sestor-cadeia. Este sistema deve buscar identificar os gargalos e desafios mais importantes e estruturar ações conjuntas para seu enfrentamento. Desde logo, vemos como da maior importância a luta pela extensão da ferrovia Norte-Sul até Rio Grande. Sem ela, as mercadorias do RS começarão a ser escoadas por portos ao nort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Detalhamento de Propostas (2)</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3) Contratação de uma consultoria para analisar a  realidade atual e os principais gargalos da indústria pesqueira regional e a montagem de um plano emergencial de recuperação deste segmento de competitividade estrutural e alto potencial econômico;</a:t>
            </a:r>
            <a:endParaRPr b="0" lang="en-US" sz="2700" spc="-1" strike="noStrike">
              <a:solidFill>
                <a:srgbClr val="000000"/>
              </a:solidFill>
              <a:latin typeface="Calibri"/>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4) Criação de um sistema de fortalecimento do  empreendedorismo local, via construção de sub-sistemas de micro-crédito e de apoio gerencial para serviços voltados, preferencialmente, ao fortalecimento dos serviços turísticos e prestados às famílias. Vale salientar que esta ação fortalece, simultaneamente, a multiplicação da renda local, ao mesmo tempo que amplia a capacidade propulsiva da indústria do turism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Detalhamento de Propostas (3)</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Desenvolvimento e implantação de um novo Plano Diretor voltado ao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1) enfrentamento dos problemas de mobilidade urbana - que já são gargalos e podem vir a se tornar barreiras à expansão do setor logístico e turístico;</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2) Realocação das atividades de serviços – em especial de saúde e comércio – com vistas a apoiar a mobilidade no porto e na administração e viabilizar o SBP-Saúde como um dos elos de serviços propulsivos (turismo de serviços e estrutural);</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3) Integração com São José do Norte, via sistema de transporte aquaviário, para deprimir a tendência ao inchaço da cidade e impulsinar o trânsito pendular com vistas às compras em Rio Grande (apoio ao Comérci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2" name="Content Placeholder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22160" y="4076280"/>
            <a:ext cx="7772400" cy="16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alibri"/>
              </a:rPr>
              <a:t>FUNDAMENTOS TEÓRICOS DO PROGRAMA DE DESENVOLVIMENTO DE RIO GRANDE </a:t>
            </a:r>
            <a:endParaRPr b="0" lang="en-US" sz="3600" spc="-1" strike="noStrike">
              <a:solidFill>
                <a:srgbClr val="000000"/>
              </a:solidFill>
              <a:latin typeface="Calibri"/>
            </a:endParaRPr>
          </a:p>
        </p:txBody>
      </p:sp>
      <p:sp>
        <p:nvSpPr>
          <p:cNvPr id="50" name="PlaceHolder 2"/>
          <p:cNvSpPr>
            <a:spLocks noGrp="1"/>
          </p:cNvSpPr>
          <p:nvPr>
            <p:ph/>
          </p:nvPr>
        </p:nvSpPr>
        <p:spPr>
          <a:xfrm>
            <a:off x="722160" y="2349000"/>
            <a:ext cx="7772400" cy="12956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Propulsão X Multiplicação</a:t>
            </a:r>
            <a:endParaRPr b="0" lang="en-US" sz="4400" spc="-1" strike="noStrike">
              <a:solidFill>
                <a:srgbClr val="000000"/>
              </a:solidFill>
              <a:latin typeface="Calibri"/>
            </a:endParaRPr>
          </a:p>
        </p:txBody>
      </p:sp>
      <p:sp>
        <p:nvSpPr>
          <p:cNvPr id="52" name=""/>
          <p:cNvSpPr txBox="1"/>
          <p:nvPr/>
        </p:nvSpPr>
        <p:spPr>
          <a:xfrm>
            <a:off x="468360" y="1052640"/>
            <a:ext cx="8229600" cy="590544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Classificamos as atividades econômicas em dois grupos básicos: atividades propulsivas e multiplicativas.</a:t>
            </a:r>
            <a:r>
              <a:rPr b="1" lang="pt-BR" sz="2500" spc="-1" strike="noStrike">
                <a:solidFill>
                  <a:srgbClr val="000000"/>
                </a:solidFill>
                <a:latin typeface="Calibri"/>
              </a:rPr>
              <a:t>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Calibri"/>
              </a:rPr>
              <a:t>As atividades propulsivas</a:t>
            </a:r>
            <a:r>
              <a:rPr b="0" lang="pt-BR" sz="2500" spc="-1" strike="noStrike">
                <a:solidFill>
                  <a:srgbClr val="000000"/>
                </a:solidFill>
                <a:latin typeface="Calibri"/>
              </a:rPr>
              <a:t> de um território são aquelas que geram a </a:t>
            </a:r>
            <a:r>
              <a:rPr b="1" lang="pt-BR" sz="2500" spc="-1" strike="noStrike">
                <a:solidFill>
                  <a:srgbClr val="000000"/>
                </a:solidFill>
                <a:latin typeface="Calibri"/>
              </a:rPr>
              <a:t>“renda básica”</a:t>
            </a:r>
            <a:r>
              <a:rPr b="0" lang="pt-BR" sz="2500" spc="-1" strike="noStrike">
                <a:solidFill>
                  <a:srgbClr val="000000"/>
                </a:solidFill>
                <a:latin typeface="Calibri"/>
              </a:rPr>
              <a:t> do mesmo. São as atividades que </a:t>
            </a:r>
            <a:r>
              <a:rPr b="1" lang="pt-BR" sz="2500" spc="-1" strike="noStrike">
                <a:solidFill>
                  <a:srgbClr val="000000"/>
                </a:solidFill>
                <a:latin typeface="Calibri"/>
              </a:rPr>
              <a:t>dão início</a:t>
            </a:r>
            <a:r>
              <a:rPr b="0" lang="pt-BR" sz="2500" spc="-1" strike="noStrike">
                <a:solidFill>
                  <a:srgbClr val="000000"/>
                </a:solidFill>
                <a:latin typeface="Calibri"/>
              </a:rPr>
              <a:t> ao fluxo de </a:t>
            </a:r>
            <a:r>
              <a:rPr b="1" lang="pt-BR" sz="2500" spc="-1" strike="noStrike">
                <a:solidFill>
                  <a:srgbClr val="000000"/>
                </a:solidFill>
                <a:latin typeface="Calibri"/>
              </a:rPr>
              <a:t>renda monetária</a:t>
            </a:r>
            <a:r>
              <a:rPr b="0" lang="pt-BR" sz="2500" spc="-1" strike="noStrike">
                <a:solidFill>
                  <a:srgbClr val="000000"/>
                </a:solidFill>
                <a:latin typeface="Calibri"/>
              </a:rPr>
              <a:t>. São as atividades que geram os produtos e serviços que o território “vende para o </a:t>
            </a:r>
            <a:r>
              <a:rPr b="1" lang="pt-BR" sz="2500" spc="-1" strike="noStrike">
                <a:solidFill>
                  <a:srgbClr val="000000"/>
                </a:solidFill>
                <a:latin typeface="Calibri"/>
              </a:rPr>
              <a:t>seu</a:t>
            </a:r>
            <a:r>
              <a:rPr b="0" lang="pt-BR" sz="2500" spc="-1" strike="noStrike">
                <a:solidFill>
                  <a:srgbClr val="000000"/>
                </a:solidFill>
                <a:latin typeface="Calibri"/>
              </a:rPr>
              <a:t> exterior”.</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s atividades </a:t>
            </a:r>
            <a:r>
              <a:rPr b="1" lang="pt-BR" sz="2500" spc="-1" strike="noStrike">
                <a:solidFill>
                  <a:srgbClr val="000000"/>
                </a:solidFill>
                <a:latin typeface="Calibri"/>
              </a:rPr>
              <a:t>multiplicativas</a:t>
            </a:r>
            <a:r>
              <a:rPr b="0" lang="pt-BR" sz="2500" spc="-1" strike="noStrike">
                <a:solidFill>
                  <a:srgbClr val="000000"/>
                </a:solidFill>
                <a:latin typeface="Calibri"/>
              </a:rPr>
              <a:t> são as atividades que são mobilizadas a partir do exercício do “poder de compra” dos que auferem a renda básica. São os serviços e produtos que atendem às demandas </a:t>
            </a:r>
            <a:r>
              <a:rPr b="1" lang="pt-BR" sz="2500" spc="-1" strike="noStrike">
                <a:solidFill>
                  <a:srgbClr val="000000"/>
                </a:solidFill>
                <a:latin typeface="Calibri"/>
              </a:rPr>
              <a:t>locais</a:t>
            </a:r>
            <a:r>
              <a:rPr b="0" lang="pt-BR" sz="2500" spc="-1" strike="noStrike">
                <a:solidFill>
                  <a:srgbClr val="000000"/>
                </a:solidFill>
                <a:latin typeface="Calibri"/>
              </a:rPr>
              <a:t> do receptores de renda básica.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O comércio a varejo, as indústrias de mercado estritamente local (padarias, confeitarias, conserto de sapatos, etc.), os serviços de restaurantes, bares, cabeleireiro, clubes recreativos, são exemplos de atividades multiplicativas. São atividades voltadas ao atendimento das demandas de consumo dos trabalhadores e da classe média region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Propulsão: o dinheiro vem de fora!</a:t>
            </a:r>
            <a:endParaRPr b="0" lang="en-US" sz="4400" spc="-1" strike="noStrike">
              <a:solidFill>
                <a:srgbClr val="000000"/>
              </a:solidFill>
              <a:latin typeface="Calibri"/>
            </a:endParaRPr>
          </a:p>
        </p:txBody>
      </p:sp>
      <p:sp>
        <p:nvSpPr>
          <p:cNvPr id="54" name=""/>
          <p:cNvSpPr txBox="1"/>
          <p:nvPr/>
        </p:nvSpPr>
        <p:spPr>
          <a:xfrm>
            <a:off x="457200" y="1125360"/>
            <a:ext cx="8229600" cy="56167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Existem duas formas de dar início ao processo de desenvolvimento mercantil de uma regiã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1) pela produção local e venda para o seu “exterior” de algo que o território consiga produzir e vender a um preço menor do que os demais territórios (vantagens competitiv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2) Através de transferências governamentais (instalação de um quartel ou instituição federal de ensino, por exempl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O primeiro processo é autônomo (base do crescimento endógeno; sustentado com os recursos e competências dos agentes locais). O segundo processo gera dependência e não é sustentável a longo prazo.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A atração de empresas para a produção de bens de “exportação” é um caminho híbrido. Mas ele só é sustentável quando o investimento forâneo  se enraiza no território através de uma rede de serviços e oferta de insumos por agentes locai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o identificar as atividades propulsivas? </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 acordo com os teóricos da “Base de Exportação”, o principal indicador de que um bem qualquer é produzido para a venda externa é o grau relativo de “dedicação” dos agentes internos a cada atividade.</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 a percentagem dos ocupados numa dada atividade na região “x” é muito maior do que a percentagem dos ocupados na mesma atividade na macro-região de referência (da qual a região “x” faz parte) é muito provável que o bem esteja sendo produzido (pelo menos em parte) para consumo exter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ortação, Ocupação e </a:t>
            </a:r>
            <a:br>
              <a:rPr sz="4000"/>
            </a:br>
            <a:r>
              <a:rPr b="0" lang="en-US" sz="4000" spc="-1" strike="noStrike">
                <a:solidFill>
                  <a:srgbClr val="000000"/>
                </a:solidFill>
                <a:latin typeface="Calibri"/>
              </a:rPr>
              <a:t>Quociente Locacional</a:t>
            </a:r>
            <a:endParaRPr b="0" lang="en-US" sz="4000" spc="-1" strike="noStrike">
              <a:solidFill>
                <a:srgbClr val="000000"/>
              </a:solidFill>
              <a:latin typeface="Calibri"/>
            </a:endParaRPr>
          </a:p>
        </p:txBody>
      </p:sp>
      <p:sp>
        <p:nvSpPr>
          <p:cNvPr id="58" name=""/>
          <p:cNvSpPr txBox="1"/>
          <p:nvPr/>
        </p:nvSpPr>
        <p:spPr>
          <a:xfrm>
            <a:off x="457200" y="1599840"/>
            <a:ext cx="8229600" cy="1973160"/>
          </a:xfrm>
          <a:prstGeom prst="rect">
            <a:avLst/>
          </a:prstGeom>
          <a:noFill/>
          <a:ln w="0">
            <a:noFill/>
          </a:ln>
        </p:spPr>
        <p:txBody>
          <a:bodyPr anchor="t">
            <a:normAutofit fontScale="95000"/>
          </a:bodyPr>
          <a:p>
            <a:pPr marL="325800" indent="-3258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edida de exportação é, pois, a medida de especialização, e ela se assenta sobre dados da distribuição relativa do emprego/ocupação.</a:t>
            </a:r>
            <a:endParaRPr b="0" lang="en-US" sz="2200" spc="-1" strike="noStrike">
              <a:solidFill>
                <a:srgbClr val="000000"/>
              </a:solidFill>
              <a:latin typeface="Calibri"/>
            </a:endParaRPr>
          </a:p>
          <a:p>
            <a:pPr marL="325800" indent="-3258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edida referida anteriormente foi denominada Quociente Locacional, usualmente referido como “QL”. Sua expressão formal é:</a:t>
            </a:r>
            <a:endParaRPr b="0" lang="en-US" sz="2200" spc="-1" strike="noStrike">
              <a:solidFill>
                <a:srgbClr val="000000"/>
              </a:solidFill>
              <a:latin typeface="Calibri"/>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 name="Picture 3" descr=""/>
          <p:cNvPicPr/>
          <p:nvPr/>
        </p:nvPicPr>
        <p:blipFill>
          <a:blip r:embed="rId1"/>
          <a:stretch/>
        </p:blipFill>
        <p:spPr>
          <a:xfrm>
            <a:off x="1252440" y="3532320"/>
            <a:ext cx="6929640" cy="227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10:45:53Z</dcterms:created>
  <dc:creator>Carlos</dc:creator>
  <dc:description/>
  <dc:language>en-US</dc:language>
  <cp:lastModifiedBy>Allan Note</cp:lastModifiedBy>
  <dcterms:modified xsi:type="dcterms:W3CDTF">2016-03-04T20:59:17Z</dcterms:modified>
  <cp:revision>24</cp:revision>
  <dc:subject/>
  <dc:title>Rio Grande:  Terra dos 3 Mares</dc:title>
</cp:coreProperties>
</file>