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C9F-8B85-4E3F-82BA-DDBBCA64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B96-DF47-41E6-B576-50864F26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64C-0EA4-48EF-B235-7E0FCF28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CA8-A637-47DC-9166-E4283142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475-44BA-47A5-89CC-6CE567DA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B40B-B749-40C8-A911-454EC190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E09F-140B-4B92-96FE-5621C30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A22F-3FC1-42AE-BEF8-926C60B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BF85-34D1-4593-B964-474A3324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EC55-7E0C-4081-8A54-080EDFA0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1893-BF96-44BE-BAA1-B6B4CCC2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CA9-2D5F-4B8B-B3E5-68B4DE08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D5A6-A130-4309-B19A-9BDE0A58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F152-D792-4055-85BC-98FC3CF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105D-12AF-4E59-B97B-173DBB8A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E8CC-8742-4018-A79B-A7FD5294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2FD5-743F-4BD9-84B4-AC34ABD5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BB6A-BA91-4316-94F8-92AEED3E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3289-619E-4B6E-82FA-0C821975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E206-1750-4727-B188-8E6D9F3F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5EFC7-0030-4DD5-85FE-2A80B015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007F-CDE6-4B30-B4AE-8304B5C1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712-7B7E-4C0B-B0B2-7983D123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7B76-DD1E-4A43-B84A-DEE6E96B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8EE0-BD45-4818-93DA-B727A8DA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4D30-FB21-45BF-8F39-3ECD21E4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B834E-9A89-46F3-B5C4-C47E7A9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A312-DEF4-4628-AD4F-C41C4CA8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1C04-0997-4E9B-A1D0-6DB8A741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FEA5-EC00-48AC-B161-F7A52C69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F3172-91D6-4EF5-9A78-D7E825A3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AE64-C23F-4792-9CA6-F17E6DF8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77FA-28DE-4A6F-8B49-972A339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8E4-6183-4C15-9601-C3A27BD7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5800E-5609-4FD1-96E0-FD7BAFB0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7F2DF-6D12-44A3-B07B-93F0D172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C84C-C03F-47D3-9AA9-D5F9DF0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7427-B805-4296-A108-9AA6935D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656D8-8F43-45FC-B2BC-776BC7CF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37B5-8A6E-4796-9C33-E0C378A2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D3E1D-C645-4B84-A727-3FFCE2A7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6C4A1-4F0B-4F89-AF04-C0F85FB1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F7A6F-2AA1-4870-BC20-E2A0C889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F629-6205-4BE3-A564-50CDBB0E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2E7-0469-492A-9D00-0231D31B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EA94-D151-4A2F-932F-652F20FA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2BD3E-F447-44BA-AEE6-C580DB15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B2F7B-4617-4CF6-8F81-FBA68911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A7323-270C-4E70-906F-D2E1977D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58B9E-C0EC-4795-B49B-634F80A4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89F9B-1C6E-487F-B033-FD1ECA3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00492-9C6F-4C67-B55C-98EAB55A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A5EE-0255-4D6B-B082-A40A21A5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F662-6C2C-443E-8BAC-A42A41B9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88C2-CFC0-4ECE-B85D-7F9DFDBE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C78-3871-4C9F-8723-8964BE27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A016B-D0E6-458C-A5CE-9C9C9FA3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D9D1B-4974-4D9E-B6FC-1276B058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117F-BEBE-4E7D-9FAC-1DB0F43F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3242-C168-408A-9FFB-EA126B9F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87DB-9985-4AA8-8845-39D16C2D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23249-B852-4D46-9E88-4DF470A4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D40AF-2A54-43B1-98CF-903A08A2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677B3-C61E-4593-9509-349847E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8EBAC-C092-4D69-931E-AE4AB27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DB70-1FE8-49B8-8C81-5A66343D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DDF-FFE0-4947-A35E-AEF2809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914DA-60DA-4C28-8A9D-14A02477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E647-4513-4604-A8B7-6CD655FE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03862-899D-43F4-9E8F-36B99E5D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483EA-FB7A-4A36-832C-605C7C28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466B9-B94D-4ED7-B0F5-AF190879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2415-784B-4AC6-B40F-A8FBD537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7AD4-1415-41F1-8F88-E4C8BD5D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F344-C53B-479B-8BA3-EE96908F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65A8E-D624-4CDF-93EF-C73DC2AF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D72F7-5CA1-4659-B701-CE42DE9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74F-C119-441A-BE4B-04AB33C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8B49-7BDF-4971-825E-A5F7E9D3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D012C-5563-45FC-9C7E-0650B54A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4F27-B532-4DAF-807C-8A411881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6184A-6CD5-4648-9F7E-9DCFC264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10C1E-3C78-4509-9AE8-D0E319B6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C35AB-69EF-4B94-9589-26EAB5EB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912F8-CBA6-43D1-AA47-38F8CB79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8F1B7-E35D-4D25-B8DB-AB1F75BC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AFB4E-F9A6-4E45-822B-77DA864A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FB090-8C46-47DF-B8C0-DE762937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90B-AD58-4121-AD38-7E63E77E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C7FA9-645C-4632-ADB4-B06629C8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846B4-2D6C-423A-B356-36F74E6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0615-42F6-4560-BB3B-763FAC0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5B694-717F-4371-99C9-B8603186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04E13-4B4D-40F0-848F-E1FABBB4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F877E-3AC6-4441-BFAC-BC37E4E7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10306-C558-4BC6-B891-E56893E0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B9EB-1649-40CA-84A8-E13766186F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a livre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843-E985-4409-8841-B9C74C3B20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9D94-423E-4AA3-A50D-63C266EE88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D3A9-2AF1-4EC2-B0AA-DDE8305C6D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7157-A44D-4E50-B488-40CCE7FE89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3FE1-CA1E-46E1-A723-77D3AC679F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A731-F7A5-4BDD-BDBA-D0ED4ABD4D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ângulo retângulo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reto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CC0F-24C3-4BF1-A68A-BC98F581D0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7772400" cy="3194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Lucida Sans Unicode"/>
              </a:rPr>
              <a:t>Ou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cc"/>
                </a:solidFill>
                <a:latin typeface="Lucida Sans Unicode"/>
              </a:rPr>
              <a:t>o que é desenvolvimento endógen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mpre que há especialização regional num determinado (ou em vários) setor(es), a produção do(s) mesmo(s) volta-se primordial-mente para o mercado “externo” à localidad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que nos conduz à segunda “regra de ouro” do Desenvolvimento Endógeno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foco de qualquer projeto de desenvolvimento local endógeno é o fortalecimento, ampliação, alongamento e diversificação das atividades EXPORTADO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á vimos que  “produção para fora da região” é indissociável de especialização, divisão do trabalho, encadeamento, produtividade e competitividade. Esta é a “regra de Smith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 esta é apenas uma parte do papel das exportações regionais. Paralelamente à “regra de Smith” está “a regra de Keynes”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crescimento econômico de um território é função da expansão da demanda autônom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735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eynes divide as demandas que incidem sobre uma economia em dois tipos: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demanda que se deriva da (que depende da, que é função da, que se segue à) renda recebida por parcela dos agentes do território. Esta é a demanda de consumo básico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 demandas autônomas, que incidem sobre o território independentemente de qualquer renda auferida “anteriormente” por agentes regionais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stas são as demandas externas, definidas por agentes externos, que adquirem bens e serviços na região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3512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 plano local (município, pequenas regiões), só há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do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tipos de demandas autônomas: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 transferências líquidas de impostos incidentes sobre os cidadãos locais do setor público externo (Governos Federal e Estadual), via pagamento de salários, bolsas, pensões, etc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 aquisições de bens e serviços produzidos localmente por agentes públicos ou privados externos. Vale dizer: as EXPORTAÇÕES LOCAIS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8064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Quando um funcionário público federal lotado em Uruguaiana recebe o seu salário e o despende adquirindo bens e serviços no comércio local ele dá origem a um processo de “multiplicação da renda”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a mesma forma, quando um agricultor ou pecuarista (ou os elos a jusante da cadeia agropecuária: a cooperativa, a agroindústria, o atacadista) vende sua produção para agentes externos e, com a renda auferida, adquire bens e serviços no comércio local, é dada a “largada” de um outro processo de multiplicação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73512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 rendimento auferido pelo comerciante ou prestador de serviços vai gerar novos dispêndios. A parcela destes dispêndios que se volta para a aquisição de bens e serviços produzidos localmente, promove novos rendimentos e novos dispêndios. Este processo é conhecido como “multiplicação” da renda via consumo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Quanto maior a tendência dos agentes locais canalizarem o seu consumo para bens e serviços locais, maior o multiplicador interno e maior a renda fina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8064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 o ponto de partida é sempre a demanda autônoma externa. Que, no plano regional, se reduz ao saldo líquido dos gastos do governo (SLGG) e ao valor agregado internamente à produção exportada (VAIX). Em termos algébrico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região = (1 / (1 – c + m)) x (SLGG + VAIX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de “c” é a propensão a consumir e “m” a propensão a import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8064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nto a propensão a consumir, quanto a propensão a importar (que definem a magnitude do multiplicador), são parâmetros relativamente estáveis, determinados pela distribuição da propriedade e da renda e pelo acesso aos mercados externos. Existe espaço para interferência do setor público local sobre estes parâmetros, mas ele é limitado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 mesma forma, o setor público local tem pouca ingerência sobre o SLGG. A luta pela atração de recursos, equipamentos e empreendimentos públicos federais e estaduais deve ser diuturna. Mas seu resultado não depende exclusivamente do poder local.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3760" y="219240"/>
            <a:ext cx="9144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73512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or oposição, o valor agregado internamente à produção exportada (VAIX) pode e deve ser objeto privilegiado de atenção e ampliação pelos agentes públicos locais. Como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oiando a internalização de “elos faltantes” nas cadeias de exportação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frentando gargalos e ampliando a competitividade das cadeias de exportação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ersificando a pauta de exportações através do aproveitamento de janelas de oportunidade de negócios que mobilizem os recursos locais ociosos ou que vêm sendo utilizados de forma sub-ótima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96840" y="219240"/>
            <a:ext cx="90471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73512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M TODOS OS ELOS SÃO INTERNALIZÁVEIS. Algumas cadeias são estruturalmente “curtas” no plano regional. O caso do fumo. O caso do arroz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M TODO O CONSUMO É “DERIVADO”. A questão do “Turismo”. A cidade como pólo de serviço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DA REGIÃO É ÚNICA E DIFERENCIADA. NEM TODA A CADEIA É “PRODUTIVA”. NEM TODA A EXPORTAÇÃO É DE “COMMODITIES”. Os sistemas de serviços e as cadeias “logísticas”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01600" y="219240"/>
            <a:ext cx="8607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ma das principais dificuldades para implantar um programa de desenvolvimento local (ou regional) é o fato de que parte da comunidade não acredita em sua competência técnica e/ou financeira para enfrentar e superar os “inúmeros obstáculos” com os quais se depar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sta descrença deve ser enfrentada. Mas com muito respeito. Pois ela está assentada em algumas verdades que devem que ser o nosso ponto de partida. Quais sejam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06400" y="2287440"/>
            <a:ext cx="8229600" cy="32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EM TODAS AS “JANELAS DE OPORTUNIDADE” SE ABREM PARA A REGIÃO. Os “pólos tecnológicos”, distritos industriais e que tai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S HÁ JANELAS QUE, DE FATO, SE ABREM. E QUE SE FECHAM RAPIDAMENTE. O caso da maçã em Vacaria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6011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recursos fiscais dos municípios e os recursos financeiros mobilizáveis pelos membros da comunidade são limitados. De sorte qu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QUALQUER ESTRATÉGIA DE DESENVOLVIMENTO EMBASADA EM GRANDES INVESTIMENTOS, SEJA EM NOVOS SETORES INDUSTRIAIS, SEJA EM GRANDES OBRAS DE INFRAESTRUTURA PRESSUPÕE A MOBILIZAÇÃO DE AGENTES EXÓGENOS (Governo Federal, Governo Estadual, Grandes Empresas, etc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8585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conhecimentos técnicos de uma dada comunidade são indissociáveis do que a comunidade FAZ. De sorte qu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QUALQUER PROJETO DE DESENVOLVIMENTO QUE SE ASSENTA EM “REVOLUCIONAR A MATRIZ PRODUTIVA REGIONAL” PRESSUPÕE A IMPORTAÇÃO DE TECNOLOGIAS, DE PROFISSIONAIS E O PAGAMENTO DE ROYALTIES PARA AGENTES EXTERNOS. UM TAL PADRÃO DE DESENVOLVIMENT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Ã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É ENDÓGEN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81160" y="274680"/>
            <a:ext cx="8856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Existem pessoas mais altruístas e pessoas mais egoístas. Mas, como regra geral, é muito mais fácil mobilizar para uma ação coletiva quando cada um dos agentes sabe que obterá um benefício privado ao final. De sorte que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LQUER PROJETO DE DESENVOLVIMENTO QUE TRAGA BENEFÍCIOS IMEDIATOS APENAS PARA UMA MINORIA TERÁ MENOS CHANCE DE SER ABRAÇADO PELA COMUNIDADE DO QUE PROJETOS QUE MOBILIZAM O INTERESSE DE MUITO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0042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064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hamam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stes 3 “problemas” de “O TRILEMA DO DESENVOLVIMENTO LOCAL ENDÓGENO”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questão que se coloca é: como acelerar o desenvolvimento de um território sem revolucionar a matriz produtiva e, portanto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) sem investimentos pesados e só financiáveis com recursos extern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b) sem importação de tecnologias, empresas e mão-de-obra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) que mobilizem muitas pessoas comprometidas com os sistemas produtivos tradicionais e consolidados (quando não “estagnados”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erá que isto é possível? ... Como? ....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uitos economistas, administradores públicos e especialistas em planejamento vêm pensando neste problema há muito tempo. E eles chegaram a algumas conclusões importantes. A primeira e mais importante delas é qu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É TÃO MAIS FÁCIL ENCONTRARMOS AS CONDIÇÕES REQUERIDAS QUANTO MAIOR O NÚMERO E QUANTO MAIOR O GRAU DE ENCADEAMENTO NO TERRITÓRIO DE “CADEIAS PRODUTIVAS  E DE SERVIÇOS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QUE É UMA CADEIA PRODUTIVA? ... Uma cadeia produtiva é um conjunto de atividades ligadas entre si como elos de uma corrente. A produção de calçados é apenas um dos inúmeros elos de uma cadeia muito longa: a “indústria coureiro-calçadista”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 cadeia envolve desde a pecuária bovina e o processamento do couro até a venda do sapato no varejo. Entre os elos “couro” e “varejo”, há uma infinidade de elos intermediários, envolvendo a produção de saltos de madeira e borracha, de colas e adesivos, pregos e taxas, caixas de papelão e sacolas, bem como os mais diversos serviços de design, financiamento, comercialização, transporte, et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a, todo o território conta, em seu interior, com atividades mais ou menos encadeadas. As atividades mais encadeadas no próprio território são, via de regra, aquelas nas quais o território apresenta maior grau de especialização.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s atividades nas quais o território é mais especializado são, via de regra, aquelas nas quais ele apresenta maior competitividade e que correspondem às atividades onde são produzidos os bens e serviços que “a região exporta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6:26:45Z</dcterms:created>
  <dc:creator>Carlos</dc:creator>
  <dc:description/>
  <dc:language>en-US</dc:language>
  <cp:lastModifiedBy>Allan Note</cp:lastModifiedBy>
  <dcterms:modified xsi:type="dcterms:W3CDTF">2016-03-04T21:04:47Z</dcterms:modified>
  <cp:revision>22</cp:revision>
  <dc:subject/>
  <dc:title>Uruguaiana pode planejar e promover o desenvolvimento de Uruguaiana?</dc:title>
</cp:coreProperties>
</file>