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4F2-634D-431D-8FF0-3242CE65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982-733F-43AE-AEB5-3E37A8F7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05D-A7DF-41CC-B5D9-4199B41C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EA5-328C-404B-BD73-5BFA052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FA2-8EBB-42DB-B924-04CDB61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DF8-13BF-4973-8C69-C4E9037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C69-4E2B-4F50-B8AB-6AC7BFE2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2BF-0A94-497A-AF87-54980F98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BFD-DE77-4D57-9B64-DD0C0197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D06-65A9-4F9F-93B8-688B477C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1A9-BAD7-4B96-B122-CD16552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7EB-77B5-4F9E-AE20-E182350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7919-34E4-4F9F-9C86-1AB69B143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VATA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 desenvolvimen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queremos para t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iosidade/Informalida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e na Agropecu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572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iosidade/Informalidade na Indúst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iosidade e Informalidade Serviç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6913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ciosidade e Informalida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 Mão-de-Ob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612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26920" y="214200"/>
            <a:ext cx="77058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rutura Produtiva e Gargal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 como para a capacidade ociosa, não há como se identificar os gargalos das cadeias produtivas a partir de dados secundári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há como se obter indicadores secundários aproximados de grande importância, ligados à dinâmica dos setores. O que também nos informa acerca das debilidades relativas dos setores propulsivos em relação aos multiplic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mparativo da Dinâmica Setorial de Gravataí e Municípios Selecionados da RMP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7040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ualdades Rawlsia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ataí é um município da periferia da RMPA. As periferias das Regiões Metropolitanas usualmente recebem as atividades poluidoras (em sentido amplo: inclusive no sentido estético-visual) e parcela expressiva de seus habitantes ocupam a base da pirâmide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mapa da desigualdade dos estudos metropolitanos da FEE revela a situação relativa de Gravataí no interior da R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ologia Socioespac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39640" y="1009800"/>
            <a:ext cx="77774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a Socioespa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que é desenvolvimen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 seus termos mais simples e virtualmente “tautológicos”, desenvolvimento é “mudar para melhor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questão realmente complexa é: o que é o “melhor”? Esta questão se divide em diversas outras. Em especial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) Existe um “melhor para todos” ou a sociedade é tão segmentada e tão eficiente (opera no limite superior de suas potencialidades produtivas) que a melhoria da situação de uns só pode se dar pela piora da situação de outro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) Existe algum critério objetivo de “melhor” ou esta é uma categoria absolutamente subjetiva, de sorte que o melhoramento que alguns almejam é percebido como “piora” por outros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a dos Bares/Boemi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 Gravata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Carlos\Documents\Instit Empreg\Atuais\APADES\Serviços\Consultorias\a Gravataí\Paiva\Dados Outub Nov Dez\Fotos\DSC0478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Área de laz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Carlos\Documents\Instit Empreg\Atuais\APADES\Serviços\Consultorias\a Gravataí\Paiva\Dados Outub Nov Dez\Fotos\DSC0478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estão da objetividade do “melhor”: a visão do senso com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perspectiva dominante – assentada tanto no senso comum, quanto na ideologia positivista – não existe um melhor universal. O “gosto” é uma categoria valorativo-subjetiva. De sorte que “o que é de gosto, não se discute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 perspectiva é reforçada pela pretensão de que os jogos socioeconômicos são essencialmente jogos de “soma zero”, de sorte que a melhoria de uns envolve – excetuadas exceções associadas a aumentos significativos de produtividade global -  a piora da situação de outr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nclusão a que se chega, dentro desta perspectiva, é a de que o “desenvolvimento” é redutível à melhoria do bem-estar dos indivíduos. E como bem-estar é subjetivo, o único que se pode buscar é ampliar a renda monetária (com a qual cada um obtém o que lhe dá prazer) de alguns (os trabalhadores, por exemplo), mesmo que em detrimento de outros (os capitalistas ou rentista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estão da objetividade do melhor na perspectiva da Economia Moder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moderna Teoria Econômica tem demonstrado a fragilidade da perspectiva tradicional através de diversos argumentos. Em primeiro lugar, enfrentou a hipótese da eficiência e da “soma zer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nes demonstrou que a sociedade capitalista tende a subutilizar seus recursos (trabalho, capital fixo, terras), de sorte que, normalmente, com os recursos disponíveis, é possível produzir-se mai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ase demonstrou que a incerteza acerca da disponibilidade, no mercado, dos recursos e insumos necessários à produção leva as firmas a investirem em capital fixo e estabelecerem contratos perenes com trabalhadores, mesmo quando não se projeta a utilização continuada dos mesmos, de sorte que a ociosidade é estrutural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sh e seguidores demonstraram que o mercado conduz, sistematicamente a “dilemas de prisioneiro”, jogos “perde-perde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estão da objetividade do melhor na perspectiva da Economia Moder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oldratt demonstrou que os processos produtivos são processos “em fila”, encadeados, em sequência; e que processos encadeados tendem a apresentar desequilíbrios entre os distintos elos das correntes/cadeias. Fortalecer elos fortes é “por dinheiro fora”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único investimento economicamente relevante é o investimento no(s) elo(s) mais fraco(s) da corrente, no gargalo que limita o fluxo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lson e Winter demonstraram que os processos de desenvolvimento econômico são “path-dependents” (vale dizer: as opções abertas à frente estão definidas pelas opções tomadas no passado), de sorte qu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ingresso em determinada “rota” de desenvolvimento limita as alternativas à frente, podendo conduzir a um caminho sem volta (estagnação, crescimento não-sustentável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estão da objetividade do melhor na perspectiva da Economia Moder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classificou as atividades econômicas de qualquer território em dois grupos: atividades propulsivas (voltadas ao mercado externo à região) e atividades multiplicadoras (que recebem e ampliam a renda dos agentes alocados nas atividades propulsivas). E demonstrou que alguns territórios apresentam crescimento inferior ao seu potencial porque se vincularam a atividades propulsivas de baixo dinamismo de longo prazo (este é o caso, no RS, dos territórios calçadistas, fumicultor e sojícola), seja por dificuldades na internalização das atividades multiplicativas (municípios polarizados por núcleos metropolitanos com tendências a centralizar as atividades de serviç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th – o maior teórico do desenvolvimento regional contemporâneo – ainda sistematizou a contribuição de todos os autores anteriores demonstrando que a dinâmica regional também é path-dependent, limitada por gargalos e por ineficiências institucionais que aprisionam a comunidade em jogos perde-per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estão da objetividade do melhor na Socioantropologia Contemporân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 não só a Economia tem contribuído para este importante debate. Também a Sociologia,a Antropologia e a Ciência Política vêm contribuindo positivamente para o mesm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wls demonstrou lógica e matematicamente que a desigualdade – de renda, patrimônio e, acima de tudo, de oportunidades – é percebida como um mal. “Não ter” é um problema. Mas é um problema menor se ninguém tem, e é um problema muito grave se alguns tem muito e outros não tem nada. O “melhor” é usufruir em “comum-unidade” dos benefícios que os demais têm aces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tnam demonstrou que as regiões que se desenvolvem mais são aquelas em que a alternância no poder se realiza sem descontinuidades das políticas públicas acordadas socialmente; onde são constituídas “Políticas de Estado”, por oposição a meras “políticas de governos e/ou partidos”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quizando Prior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conjunto das contribuições anteriores, advém um projeto de hierarquização de prioridades. E ele se assenta n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identificação e mobilização de recursos disponíveis ociosos ou sub-utilizad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) identificação de gargalos (elos fracos) no interior de cadeias produtivas e focalização dos investimentos no alargamento dos mesmo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) identificação de desigualdades de oportunidade – que se constituiem em “carências Rawlsianas” - e enfrentamento  das mesma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) identificação da estrutura produtiva e avaliaçã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1) do potencial das cadeias propulsivas atu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2) do potencial de emergência de novas cadeias propulsivas (via mobilização de recursos sub-utilizad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3) da dimensão relativa das cadeias multiplicativ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isando a Ociosidade/Sub-Utilização  Relativa de Recurs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ão existe um sistema simples de análise da ociosidade relativa de um sistema. As informações disponíveis para as firmas são disponibilizadas por setor, e não por Municípi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é possível se obter um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ox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tir da informalidade do trabalho. Esta informação é obtida pelo cruzamento de dados da RAIS com o Censo Demográf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3:17:02Z</dcterms:created>
  <dc:creator>Carlos</dc:creator>
  <dc:description/>
  <dc:language>en-US</dc:language>
  <cp:lastModifiedBy>Allan Note</cp:lastModifiedBy>
  <dcterms:modified xsi:type="dcterms:W3CDTF">2016-03-04T21:04:21Z</dcterms:modified>
  <cp:revision>22</cp:revision>
  <dc:subject/>
  <dc:title>GRAVATAÍ</dc:title>
</cp:coreProperties>
</file>