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A3B-6ACA-43C7-9E3D-41BFA7B1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5CF-A106-484C-B037-E051CD8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57B-68B4-4952-8624-5DA0328F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783-2533-49E4-9E65-9CCFB373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181-271C-4103-A198-3DBAD0B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17A-70AD-4159-AFBA-DC0A00E1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9CE-B63E-4552-91A3-D6D8520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B08-78EC-404C-8E73-2433C1A1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B2D-2169-4CA6-B907-FAD7D3ED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2EC-BED5-4F6E-81C8-D0F9332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816-E21E-43F7-868C-F90D4ED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7B0-68A1-4213-95A5-9B0BC56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6F4-E6AA-4D69-A9B8-9954BDA4D93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8E61-60AD-4142-BF2A-AF46A6F661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2600" y="249984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Socio-econômicos e Políticas Públicas Municip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3"/>
          <p:cNvSpPr/>
          <p:nvPr/>
        </p:nvSpPr>
        <p:spPr>
          <a:xfrm>
            <a:off x="571680" y="61272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s o principal fundamento da tese equivocada de qu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socio-econôm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uma novidade é a confusão entre estes primeiros 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cio-econôm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; em especial os i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Desenvolvimento são indicadores compostos a partir de médias ou agregações de indicadores iso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IDH (ONU-Pnud-João Pinheiro) e o Idese (FEE) são dois exemplos de Í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es índices ganharam crescente atenção nas últimas décadas. Uma atenção (e expectativa acerca de sua acuidade) que nos parece bastante exager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642960" y="33660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isto, não queremos negar a contribuição positiva (e crítica) dos índices de desenvolvimento socio-econôm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dmitimos que, s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somente se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 queremos adotar uma medi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ún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para avaliar o desenvolvimento de um país,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(indicador mais utilizado até os anos 80) é uma medida insuficie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s – perguntamos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rá que se pode constituir uma única medida “suficiente”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642960" y="150840"/>
            <a:ext cx="792972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Nas palavras de Eli da Veiga: “O principal defeito do IDH é que ele resulta da média aritmética de três índices mais específicos que captam renda, escolaridade e longevidade. Mesmo que se aceite a ausência de outras dimensões do desenvolvimento para as quais ainda não há disponibilidade de indicadores tão cômodos – como a ambiental, a cívica, ou a cultural – é duvidoso que seja essa média aritmética a que melhor revele o grau de desenvolvimento atingido por uma determinada coletividade (neste caso, o município).” </a:t>
            </a:r>
            <a:r>
              <a:rPr b="1" i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Problemas do uso ingênuo do IDH-M.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Valor, 14/01/2003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42960" y="336600"/>
            <a:ext cx="7858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, como diz documento d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Fundação Seade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“Ao se deparar com situações distintas – país A com alto PIB per capita, mas baixa esperança de vida ao nascer e baixo grau de educação, e país B com alto grau de educação, mais baixo PIB per capita e baixa esperança de vida ao nascer – a ordenação será feita através da média entre os três componentes do índ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3"/>
          <p:cNvSpPr/>
          <p:nvPr/>
        </p:nvSpPr>
        <p:spPr>
          <a:xfrm>
            <a:off x="571680" y="116676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.. Admita-se que o país A obtenha uma classificação melhor que o país B. Isso significa que é mais ‘valioso - principalmente do ponto de vista do desenvolvimento humano – possuir renda elevada do que alta escolaridade?’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EADE, </a:t>
            </a:r>
            <a:r>
              <a:rPr b="1" i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Índice de Vulnerabilidade Juveni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2002:78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42960" y="500040"/>
            <a:ext cx="7786800" cy="66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stamos de pleno acordo com as duas críticas anteriores. Apenas acreditamos que os problemas sejam ainda maiores do que os já apontad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sociada à crítica de Veiga sobre o obscurecimento do que está sendo mensurado, há um outro problema menos óbvio: por vezes, os índi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tendem express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as dimensões do bem-esta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 expressam, de fato, apenas uma ou duas dimensões. E, nem sempre, as dimensões mais relevantes para as distintas comunidades de distintos territóri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memos um exemplo: as condições de saneamento público (avaliadas, por exemplo, pela percentagem da população que recebe água tratada, esgotamento sanitário, coleta de lixo, etc.) são indicadores tradicionais de qualidade de vid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ão obstante, parece mais ou menos evidente que estas medidas não apresentam o mesmo peso na cidade ou no campo. Não dispor de água tratada na cidade de São Paulo é muito mais grave do que não contar com este serviço público  na área rural de um município que conta com mananciais naturais não-poluí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antigos distritos rurais recentemente emancipados tendem a apresentar indicadores (urbanos!) de saneamento/sanidade muito inferiores aos municípios mais antigos, em especial àqueles de população estagnad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ão se pode concluir daí, contudo, que a população dos municípios jovens (e essencialmente rurais) apresentem uma qualidade de vida inferior à usufruída pela população dos municípios antigo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, NÃO OBSTANTE, É BEM POSSÍVEL QUE UM ÍNDICE QUE, EM TERMOS FORMAIS, TOME O SANEAMENTO TIPICAMENTE URBANO COMO “UM DENTRE VÁRIOS OUTROS” INDICADORS COMPONETES DE UM “ÍNDICE PLURAL” ESTEJA, DE FATO, AVALIANDO O GRAU DE DESENVOLVIMENTO E O RANKING DE UM CONJUNTO DE MUNICÍPIOS (QUASE QUE) EXCLUSIVAMENTE PELO SANEAMENTO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ão vejam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memos um modelo bem simples de “Índice de Desenvolvimento Municipal”  composto por três indicadores “sociais”: anos médios de estudo, longevidade e percentagem da população atendida por saneamento bás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ponhamos que existam 7 municípios com características distintas e que queremos ranqueá-los pelo referido Índice de Desenvolvimen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que são indic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icadores socio-econômicos são medidas que buscam resgatar uma determinada dimensão da realidade socio-econômica de um dado território e/ou da população que usufrui (trabalhando, explorando, habitando, etc.) do mes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s indicadores podem ser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avaliações e declarações; tal como: % da população que considera o governo Lula ótimo ou bom) ou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dados imediatamente quantificáveis; tal como: a taxa de crescimento da população urbana dos municípios gaúcho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esgoto esgo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14720"/>
          <a:ext cx="7928280" cy="3419280"/>
        </p:xfrm>
        <a:graphic>
          <a:graphicData uri="http://schemas.openxmlformats.org/drawingml/2006/table">
            <a:tbl>
              <a:tblPr/>
              <a:tblGrid>
                <a:gridCol w="639720"/>
                <a:gridCol w="814680"/>
                <a:gridCol w="639720"/>
                <a:gridCol w="641160"/>
                <a:gridCol w="639720"/>
                <a:gridCol w="641520"/>
                <a:gridCol w="709560"/>
                <a:gridCol w="641520"/>
                <a:gridCol w="639720"/>
                <a:gridCol w="641160"/>
                <a:gridCol w="639720"/>
                <a:gridCol w="640080"/>
              </a:tblGrid>
              <a:tr h="982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qu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 d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M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 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que, no quadro anterior, os municípios se diferenciam em função dos anos médios de estudo e da longevidade. Mas as diferenças nestes quesitos são necessariamente menores que as diferenças entre % da área coberta por esgotamento. Pois educação e saúde são fortemente influenciadas por legislação (de ensino obrigatório e de políticas universais de saúde) que são definidas em âmbito nacional. E o mesmo não se dá com o saneamento básico, fortemente influenciada pela consolidação (antiguidade e taxa de crescimento) da sede urb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 resultado é que – tal como se pode ver no quadro exemplo acima –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ranking dos municípios pelo “Índice de Desenvolvimento”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resumivelmente “composto”)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é exatamente o mesmo do ranking de Saneamento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s difere significativamente do ranking definido exclusivamente pelas variáveis Longevidade e Educaçã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 verdade,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Saneamento (cujo desvio padrão é maior) está definido sozinho o Indice de Desenvolvimento, a despeito do mesmo “se querer” multidimens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r é precis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o nosso ponto de vista, contudo, o maior dentre todos os defeitos dos Índices (vale dizer: dos indicadores sintéticos) é que a interpretação do seu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 signific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bem como de su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vol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é demasiado complex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 sorte que, muitas vezes, sua utilização pode trazer mais obscuridade do que esclarecimento sobre a dinâmica que se busca interpre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571680" y="642960"/>
            <a:ext cx="7786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alvez a melhor forma de entender este problema seja demonstrando que a interpretação do significado real de 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“indicador simples” e de sua evolução pode ser MUITO  complexa.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que não se poderá dizer da interpretação do significado e evolução de um índice (por definição) compost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memos como exemplo de um indicador simples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vamos tentar interpretar o significado de distintas dinâmicos de evolução deste indicador em 3 municípios hipoté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1500120" y="571680"/>
          <a:ext cx="620388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571680"/>
                    <a:ext cx="62038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378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nda per capita inicial e final do Mun B é a maior dentre os três. Mas o crescimento da   renda per capita no Mun A é a mais elevada: 4,78% a.a., contra 1,3% a.a. no Mun B e de 0,16% a.a. no Mun C. O indicador parece estar mandando uma mensagem simples e clara: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o município A vem apresentando o melhor desempenho entre os três, a despeito do Mun B ser aquele de maior renda mé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642960" y="714240"/>
          <a:ext cx="7786800" cy="18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7786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Espaço Reservado para Rodapé 9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sta leitura é corroborada pelo acompanhamento da evolução da renda absoluta. Só que, agora, os diferenciais já parecem menos impressionantes. A renda absoluta do município A cresce a 3,71% a.a.; a do Mun B cresce a 2,29% a.a e a do Mun C cresce a 0,59% a.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500040" y="571680"/>
          <a:ext cx="778680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71680"/>
                    <a:ext cx="7786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fonte da diferença começa a ficar clara quando se avança para a dinâmica populacional. Agora vemos que o Mun A está perdendo população a uma taxa anualizada de -1,02%; enquanto os municípios B e C tem sua população acrescida anualmente a taxas de 0,98% e 0,44%, respectivamente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e admitimos que a evasão de um território é indicador de insatisfação (e, provavelmente, de estagnação econômica), a dinâmica de A já não parece tão alvissareira.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71680" y="428760"/>
          <a:ext cx="7546680" cy="16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75466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Quando avaliamos o estado inicial e final do grau de urbanização vemos um quadro novo. O mun C mantém cerca de 3/4 de sua população no campo.   Isto tem dois significados: 1) a renda per capita desta população encontra-se subestimada, poi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 renda real no campo é maior do que renda monetár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que é a única para a qual temos informações); 2) dado o baixo êxodo (vis-à-vis A), a estrutura fundiária (e, por extensão, a distribuição da renda!) deve ser mais igualitária em C do que em A, caracterizada por êxodo rural acelerado. Por fim, a renda per capita de B – totalmente urbano – está superestimada em relação aos demais, pois a renda não-monetária de seus habitantes deve ser relativamente men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571680" y="571680"/>
          <a:ext cx="750060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75006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Mas se Mun A está perdendo população, porque sua rend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bsoluta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resce aceleradamente?  É preciso analisar a fonte deste crescimento. E a análise da evolução da relação entre renda de Transferências (aposentadoria, rendas, mesadas)  explica o quadro. e do trabalho (salário, ordenados e rend. K próprio). Explica o quadro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renda do Mun A não cresce endogenamente. São as aposentadorias e remessas privadas que alavancam a renda monetár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171432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s tentativas de desenvolver teoricamente e de calcular Indicadores Socio-econômicos com vistas à orientação e avaliação de políticas públicas é tão antiga quanto a Economia Polít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a finalizar, analisemos a evolução do perfil populacional. A razão de dependência cresce aceleradamente em A.  Isto explica a dinâmica da população e dos padrões de rendimento: a população jovem, desempregada, está emigrando. E quem recebe os imigrantes (jovens em busca de trabalho) é o Mun B, cuja razão de dependência vem caindo. E como crianças e idosos apresentam, em média, um patamar significativamente mais elevado de demanda     sobre serviços públicos básicos (educ. e saúde),  a pressão sobre a prefeitura não deve acompanhar a dinâmica popula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357120" y="500040"/>
          <a:ext cx="8445600" cy="18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00040"/>
                    <a:ext cx="8445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 su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suma: um município pode apresentar um crescimento anormalmente elevado da renda per capita porque a população jovem está se evadindo e a população idosa abandona o campo (onde a renda não monetária é expressiva) para viver da aposentadoria na cidade, sem qualquer melhora efetiva em sua qualidade de vi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o município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mpen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vale dizer: taxa de crescimento) intermediário no quesito renda per capita pode ser aquele de maior dinamismo na geração de emprego e renda endóge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quanto o município aparentemente pior situado (C) em termos de renda per capita e seu crescimento pode ser aquele que, de fato, oferece a melhor qualidade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l é a meta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É ela que define o indicador relevant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onclusão impositiva é de que, mais do que este ou aquele índice ou indicador socio-econômico, o que se precisa para avaliar o bem-estar de uma população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a determinação precisa da “dimensão da vida” cuja qualidade se busca mensurar e um conhecimento detalhado das particularidades do território sob análise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ó então, podemos determinar e coletar o conjunto de informações (via de regra, sob a forma de diversos “INDICADORES SIMPLES”) que permitam avaliar a dinâmica real da dimensão socio-econômica sob análi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O princípio primeiro para que indicadores socio-econômicos sirvam de base para a avaliação de políticas públicas é, pois, que se defina com clareza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IS SÃO OS OBJETIVOS PRIORITÁRIOS DA POLÍTICA PÚBLICA EM CURSO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o objetivo é universalizar o sistema de esgoto cloacal e a coleta de lixo (por exemplo), é a evolução da % da população atendida que se deve m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s se o objetivo é preservar as nascentes dos mananciais, combater o aquecimento global e ampliar as oportunidades de emprego e renda da população rural, a estratégia mais adequada deve ser outra. Independentemente do maior ou menor impacto neste ou naquele “Índice de Desenvolviment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neamento pode ser biodigestor e renda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te caso, A POLÍTICA DE SANEAMENTO BÁSICO PODE SE ASSOCIAR A UMA POLÍTICA DE GERAÇÃO DE RENDA E E SIGNIFICAR, POR EXEMPL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UNIVERSALIZAÇÃO DO ACESSO DE AGRICULTORES FAMILIARES DEDICADOS À PECUÁRIA ESTABULADA A SISTEMAS DE GERAÇÃO DE ENERGIA POR BIODIGE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município (e sua administração) não está s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fim, queremos chamar a atenção para um último mas importantíssimo problem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o a realidade não é estável, mas cambiante, é possível que ações corretas e consequentes do poder público municipal não gerem melhorias expressivas nos indicadores eleitos, em função de modificações nas condições mais gerais de vida da popul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o governo adota políticas EFICAZES de geração de emprego e renda, pode acabar atraindo a população desempregada de outros municípi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se o mundo mu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, ainda, pode ocorrer que uma política eficaz e correta AMPLIE O NÚMERO DE DEMANDANTES DOS SERVIÇOS OFERECIDOS, ampliando o déficit formal (aparente) de atendimento do referido serviç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 é um problema recorrente, quando se trata da implantação de políticas de oferta pública e de empregos e de seguro desemprego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desemprego oculto por desalento e precariedade tende a emergir como um desemprego aberto, piorando os indicadores e confundindo os seus intérpret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 fim, pode ocorrer que uma política eficaz e correta no âmbito municipal seja contrarrestada por uma política macroeconômica que alavanque a taxa global de desempreg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mportância do diagnóstico a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istem diversos instrumentos para driblar este problema, e garantir uma avaliação tecnicamente consistente da eficácia das ações de uma instância de governo, independentemente da evolução de demandas e de inflexões da realidade impostas desde fo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s, para tanto, é preciso ter-se um quadro relativamente bem determinado da situação (tamanho, perfil, etc.) dos usuários potenciais das políticas públic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momento de sua implantaçã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a amostra representativa b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s instrumentos de controle não precisam ser “censitários” (vale dizer: não é preciso conhecer a situação de toda a população potencialmente beneficiária de uma dada política pública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s, o ideal, é que se conheça pelo menos uma amostra representativa da referida populaçã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ém disso,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empre que possíve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comenda-se a criação e diferenciação de grupos de beneficiários e de não-beneficiários (grupos de controle ou “placebo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a estratégia é importante para avaliar de forma rigorosa (mais do que a eficiência e a eficácia) a EFETIVIDADE da política. Vale dizer: avaliar se o fim último almejado foi atingido em algum níve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último cas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É bem verdade que estas condições ideais, nem sempre se encontram disponíveis. O que pode levar a conclusões totalmente equivocadas sobre a eficácia e efetividade das políticas postas em curso, quando seu sucesso ou insucesso é diagnosticado pela evoluçã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par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indica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ém, existem alguma estratégias para driblar as eventuais avaliações equivocadas quando as informações iniciais não se encontravam sistematizadas. Mas estas estratégias não só não são triviais, como variam caso a ca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 verdade, elas dependem da qualidade da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roxi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ormacionais de que dispomos sobre as condições iniciais, prévias à introdução das políticas que se quer avaliar. Um tema para outro deb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428760" y="6127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“Aritmética Política”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escrita em meados do séculoXVII po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ir William Petty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pode ser considerada a primeira obra sistemática sobre os indicadores  relevantes para a avaliação da riqueza de uma nação e bem-estar de seu povo e para a identificação da pertinência, potência e eficácia de políticas públicas de desenvolvimento socio-econômic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4"/>
          <p:cNvSpPr/>
          <p:nvPr/>
        </p:nvSpPr>
        <p:spPr>
          <a:xfrm>
            <a:off x="500040" y="116676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s trabalhos de Petty aparecem distinções que viriam a se tornar clássicas nos estudos posteriores sobre indic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r exemplo, a diferença entre indicadores absolutos e relativiz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etty (que também é um dos precursores da Contabilidade Social) já sabia que quando se trata de avaliar o bem-estar de um povo, as medidas relativizadas pela população são mais importantes que as medidas absolu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ângulo 3"/>
          <p:cNvSpPr/>
          <p:nvPr/>
        </p:nvSpPr>
        <p:spPr>
          <a:xfrm>
            <a:off x="571680" y="116676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ssim, é que, por exemp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XA MÉDIA DE SALÁR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massa de salário / pessoal ocupado assalariado)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 renda nacional total / população 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am melhor a condição de vida de um povo do que os dados agre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3"/>
          <p:cNvSpPr/>
          <p:nvPr/>
        </p:nvSpPr>
        <p:spPr>
          <a:xfrm>
            <a:off x="642960" y="14446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Mas os indicadores relativos nem sempre são melhores que os absoluto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Não se pode avaliar a capacidade bélica (defensiva e ofensiva) da Inglaterra pelo número de marujos ou navio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or 1000 habitante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tângulo 3"/>
          <p:cNvSpPr/>
          <p:nvPr/>
        </p:nvSpPr>
        <p:spPr>
          <a:xfrm>
            <a:off x="714240" y="857160"/>
            <a:ext cx="757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 computássemos assim, o poder bélico da Inglaterra pareceria maior do que é, alerta Petty. Na verdade, a Marinha inglesa é superior à francesa. Mas porque 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bsol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de marujos e navios é 4 vezes maior do que o francê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o exército inglês é inferior, pois a popul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 a capacidade de arregiment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na Inglaterra é me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642960" y="78588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rque tantos autores nacionais e “terceiro-mundistas” afirmam que os indicadores sócio-econômicos são algo novo, então?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m pouco por desconhecimento da historia mundial. Se a avaliação da eficácia-eficiência-efetividade das políticas públicas através de indicadores socio-econômicos é algo recente no Brasil, tais práticas emergiram muito antes em sociedades em que Estado e Governos passaram a ser controlados pela sociedade civil a partir de Revoluções Burguesas “a quente” (como a Revolução Puritana Inglesa, nos tempos de Pett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6:29Z</dcterms:created>
  <dc:creator>andrigo</dc:creator>
  <dc:description/>
  <dc:language>en-US</dc:language>
  <cp:lastModifiedBy>user</cp:lastModifiedBy>
  <dcterms:modified xsi:type="dcterms:W3CDTF">2010-05-19T00:25:01Z</dcterms:modified>
  <cp:revision>35</cp:revision>
  <dc:subject/>
  <dc:title>Slide 1</dc:title>
</cp:coreProperties>
</file>