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C72-09B0-4277-8518-39C0E130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6AC-7EF8-4A98-A0BA-B6EB4B5A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D8A-6E32-4C17-846A-AD1F2CFC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7B1-AE4C-4829-AB40-9DE79423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23C-1E44-4320-808B-B16A05CA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EA6-ACEA-4A42-AEC5-F044D3BC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531-8731-4ABE-AE65-05453C0E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6213-B855-41E7-A11A-BA3CB439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89E-03E0-4224-817A-0875764C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D0A-2DF1-4979-9994-F803D49E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921-F8D1-4A8C-8A2D-13DFEC95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178-BDAC-4160-A278-02B46812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FBB1-71A7-4FDC-829D-D4697AE7F33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33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PECTIVAS DOS MERCADOS MUNDIAL E NACIONAL PARA PRODUTOS AGROPECUÁRI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RIO GRANDE DO SUL:</a:t>
            </a:r>
            <a:br>
              <a:rPr sz="2400"/>
            </a:br>
            <a:br>
              <a:rPr sz="28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RQUE DEVEMOS MANTER OS INCENTIVOS À CADEIA DA SUINOCULTURA NO ES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cipação do Brasil no Comércio de Carnes e de Le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57200" y="2000160"/>
            <a:ext cx="82296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as perspectivas para o crescimento do mercado mundial de carne suína e derivados são excele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centro dinâmico do mundo está se transferindo para o Pacífico e o Índico. Justamente onde o consumo de carne suína é expressivo e crescente, e onde os déficits comerciais no setor são mais elev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ém disso, nossa vizinha Argentina é importadora líquida de carne suína, e os grandes exportadores (Dinamarca, EUA, Canadá e Alemanha) estão estabilizando sua produção em função do impacto ambiental da mes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do Comercial em Carne Suína e Derivados de Países Selecion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2"/>
          <p:cNvGraphicFramePr/>
          <p:nvPr/>
        </p:nvGraphicFramePr>
        <p:xfrm>
          <a:off x="399960" y="1643040"/>
          <a:ext cx="8347320" cy="400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643040"/>
                    <a:ext cx="834732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Rio Grande do Sul já tem tradição na produção suína, apresentando o segundo maior rebanho do paí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que significa dizer que temos condições de ocupar rapidamente as oportunidades que se abrem à frente. Desde que o Esta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forc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políticas de estímulo à cadeia 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mplie os incentivos fiscais à mesma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elizmente, na semana passada, foram anunciadas medidas que vão  na contra-mão do que se faz necessário. Urge repensá-l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1214280" y="1571760"/>
          <a:ext cx="6500880" cy="180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571760"/>
                    <a:ext cx="650088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A economia gaúcha vem passando por um processo acelerado e dramático de concentração espacial da renda e da riquez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mapa temático reproduzido no próximo slide nos oferece uma expressão clara e dramática deste proces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e estão representados os padrões de crescimento demográfico dos 496 municípios gaúchos atualmente existentes entre 1991 e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Espaço Reservado para Conteúdo 3" descr="mapa_intro.jpg"/>
          <p:cNvPicPr/>
          <p:nvPr/>
        </p:nvPicPr>
        <p:blipFill>
          <a:blip r:embed="rId1"/>
          <a:stretch/>
        </p:blipFill>
        <p:spPr>
          <a:xfrm>
            <a:off x="2000160" y="0"/>
            <a:ext cx="517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s 241 municípios representados em tom pastel (48,59% do total) apresentaram perda populacional líquida entre 91 e 07. Estes municípios ocupam 36,53% da área do Estado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s municípios representados em tom alaranjado apresentaram crescimento populacional positivo, mas inferior à média do Estado, de 0,953% ao ano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74,6% dos municípios do Estado – que ocupam 82,84% de sua área - apresentaram performance demográfica negativa ou inferior à média estadual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que este mapa traduz é a baixa capacidade de incorporação de mão-de-obra local de parcela expressiva das cadeias produtivas de base agrícola no território gaúch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 forma particular, </a:t>
            </a:r>
            <a:r>
              <a:rPr b="1" lang="pt-BR" sz="2600" spc="-1" strike="noStrike">
                <a:solidFill>
                  <a:srgbClr val="ff0000"/>
                </a:solidFill>
                <a:latin typeface="Arial"/>
              </a:rPr>
              <a:t>a coloração pastel da maior parte da região noroeste revela o esgotamento da opção soji-tritícola da região noroeste.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E isto não é gratu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margem de rentabilidade por ha da produção de cereais e leguminosas é relativamente baixo. O que implica dizer, que esta é uma opção de especialização produtiva incompatível com a sustentação da renda e da dinâmica rural e urbana de uma região caracterizada pela pequena propriedade fundiá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74680"/>
            <a:ext cx="91440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se pode fazer para contornar esta cri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pretendemos enfrentá-la a partir de recursos endógenos – a partir do que temos aqui – será preciso estimular a reconversão produtiva da agropecuá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s, para fazê-lo, é preciso responder à pergunta: para onde vai a produção e o mercado nacional e mundial de alime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Mais especificamente, é preciso prospectar o mercado nacional e mundial para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produtos intensivos em trabalho  e relativamente pouco exigentes em terra e capital (leite, frangos, suínos, fruticultur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á é, hoje, o principal produto agropecuário do mundo. Ele recebe 18% dos incentivos e subsídios destinados à agropecuária no mundo e é fortemente protegi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nserção do Brasil no comércio mundial deste produto é – e deve continuar sendo – margi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orte que seu mercado prospectivo é, essencilamente, o mercado nacional. Acreditamos que a taxa de crescimento da demanda interna não ultrapasse os 4,5% ao 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uticultur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altamente promisso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 a abertura de novas frentes (para além da maçã e da uva-vinho, já consolidados no Estado) envolverá investimentos em pesquisas de varietais, reequacionamento logístico e elevados custos de reconversão, com retornos de médio e longo praz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fruticultura não é, pois, uma alternativa de retorno ráp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temente do setor de lácteos, a participação do Brasil no comércio mundial de carnes é expressivo e cresc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O projeta que o Brasil será responsável por 1/3 das exportações mundiais de carnes em 20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ssa participação no comércio de carne suína ainda é modesto, a despeito do tamanho do mercado mund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1:44:47Z</dcterms:created>
  <dc:creator>Carlos Aguedo Paiva</dc:creator>
  <dc:description/>
  <dc:language>en-US</dc:language>
  <cp:lastModifiedBy>user</cp:lastModifiedBy>
  <dcterms:modified xsi:type="dcterms:W3CDTF">2009-09-21T11:08:56Z</dcterms:modified>
  <cp:revision>40</cp:revision>
  <dc:subject/>
  <dc:title>A crise financeira mundial e as perspectivas de mercado para produtos agropecuários</dc:title>
</cp:coreProperties>
</file>