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14.wmf" ContentType="image/x-wmf"/>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2D8C-1117-4AFC-B842-B294C0D9E6C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16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1993-AA9D-40C8-B7CE-B1285DD47A5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0461-BFDF-4096-8A6B-7E39BACD36D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15D98-6A46-4C85-936E-8C63ED6C3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92AC6-189D-4B16-8003-96D27DCC3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26F2C-93BD-4BB9-92C3-8BAAC2CED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F396D-B001-44F7-98FD-0D99AD795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307EB-DAA8-4796-8CC6-4EC9ADD2B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18621-36A4-4855-99E7-AFF1D1AD4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4C991-F073-4229-AABF-D7DDD5362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DDEED-B449-4968-A784-8EAD76DFC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1BFA7-EBD8-4B08-8EC9-BE499DB28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2E6BA-0D78-4A87-97B7-F7B62057D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BC07D-205C-4C53-A32B-E5A5843AB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F5A01-8D44-4EB0-B77E-5A27F7F37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1FC4-466B-4BD0-A8C6-FEC38863BF68}"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rs.usda.gov/Briefing/FarmPolicy/gov-pay.htm"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rs.usda.gov/publications/AIB728/aib728d.pdf" TargetMode="External"/><Relationship Id="rId2" Type="http://schemas.openxmlformats.org/officeDocument/2006/relationships/hyperlink" Target="http://www.oxfam.org/en/policy/bn051115-green-box-subsidies"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fao.org/docrep/x4400e/x4400e09.htm#TopOfPage"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96640"/>
            <a:ext cx="9144000" cy="3336840"/>
          </a:xfrm>
          <a:prstGeom prst="rect">
            <a:avLst/>
          </a:prstGeom>
          <a:noFill/>
          <a:ln w="0">
            <a:noFill/>
          </a:ln>
        </p:spPr>
        <p:txBody>
          <a:bodyPr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PECTIVAS DOS MERCADOS MUNDIAL E NACIONAL PARA PRODUTOS AGROPECUÁRIOS </a:t>
            </a:r>
            <a:br>
              <a:rPr sz="4000"/>
            </a:br>
            <a:r>
              <a:rPr b="1" lang="en-US" sz="4000" spc="-1" strike="noStrike">
                <a:solidFill>
                  <a:srgbClr val="000000"/>
                </a:solidFill>
                <a:latin typeface="Arial"/>
              </a:rPr>
              <a:t>DO RIO GRANDE DO S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78920" y="333360"/>
            <a:ext cx="8807400" cy="5616720"/>
          </a:xfrm>
          <a:prstGeom prst="rect">
            <a:avLst/>
          </a:prstGeom>
          <a:noFill/>
          <a:ln w="0">
            <a:noFill/>
          </a:ln>
        </p:spPr>
        <p:txBody>
          <a:bodyPr anchor="t">
            <a:normAutofit fontScale="97000"/>
          </a:bodyPr>
          <a:p>
            <a:pPr marL="332640" indent="-332640" algn="just">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Índia:</a:t>
            </a:r>
            <a:r>
              <a:rPr b="0" lang="en-US" sz="2800" spc="-1" strike="noStrike">
                <a:solidFill>
                  <a:srgbClr val="000000"/>
                </a:solidFill>
                <a:latin typeface="Arial"/>
              </a:rPr>
              <a:t> terceiro produtor mundial de alimentos, com aproximadamente 8,5% de participação no mercado;</a:t>
            </a:r>
            <a:endParaRPr b="0" lang="en-US" sz="2800" spc="-1" strike="noStrike">
              <a:solidFill>
                <a:srgbClr val="000000"/>
              </a:solidFill>
              <a:latin typeface="Arial"/>
            </a:endParaRPr>
          </a:p>
          <a:p>
            <a:pPr marL="332640" indent="-332640" algn="just">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sil:</a:t>
            </a:r>
            <a:r>
              <a:rPr b="0" lang="en-US" sz="2800" spc="-1" strike="noStrike">
                <a:solidFill>
                  <a:srgbClr val="000000"/>
                </a:solidFill>
                <a:latin typeface="Arial"/>
              </a:rPr>
              <a:t> assume o quarto lugar com aproximadamente 4,5% da produção global. Vale notar que a produção chinesa supera a norte-americana 6%, o que equivale a quase um Brasil e meio de diferença;</a:t>
            </a:r>
            <a:endParaRPr b="0" lang="en-US" sz="2800" spc="-1" strike="noStrike">
              <a:solidFill>
                <a:srgbClr val="000000"/>
              </a:solidFill>
              <a:latin typeface="Arial"/>
            </a:endParaRPr>
          </a:p>
          <a:p>
            <a:pPr marL="332640" indent="-332640" algn="just">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gentina:</a:t>
            </a:r>
            <a:r>
              <a:rPr b="0" lang="en-US" sz="2800" spc="-1" strike="noStrike">
                <a:solidFill>
                  <a:srgbClr val="000000"/>
                </a:solidFill>
                <a:latin typeface="Arial"/>
              </a:rPr>
              <a:t> se mantém como o país com maior produtividade agrícola per capita, ainda que decrescente ao longo do tempo. Sua participação na produção mundial gira em torno de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07640" y="188640"/>
            <a:ext cx="8908920" cy="5616360"/>
          </a:xfrm>
          <a:prstGeom prst="rect">
            <a:avLst/>
          </a:prstGeom>
          <a:noFill/>
          <a:ln w="0">
            <a:noFill/>
          </a:ln>
        </p:spPr>
        <p:txBody>
          <a:bodyPr anchor="t">
            <a:normAutofit/>
          </a:bodyPr>
          <a:p>
            <a:pPr marL="343080" indent="-343080" algn="just">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produtividade da agricultura </a:t>
            </a:r>
            <a:r>
              <a:rPr b="1" lang="en-US" sz="3000" spc="-1" strike="noStrike">
                <a:solidFill>
                  <a:srgbClr val="000000"/>
                </a:solidFill>
                <a:latin typeface="Arial"/>
              </a:rPr>
              <a:t>francesa</a:t>
            </a:r>
            <a:r>
              <a:rPr b="0" lang="en-US" sz="3000" spc="-1" strike="noStrike">
                <a:solidFill>
                  <a:srgbClr val="000000"/>
                </a:solidFill>
                <a:latin typeface="Arial"/>
              </a:rPr>
              <a:t> cresceu e, hoje, é similar à norte-americana. A França ocupa o sexto lugar na produção agrícola mundial (aprox. 3%), logo após a </a:t>
            </a:r>
            <a:r>
              <a:rPr b="1" lang="en-US" sz="3000" spc="-1" strike="noStrike">
                <a:solidFill>
                  <a:srgbClr val="000000"/>
                </a:solidFill>
                <a:latin typeface="Arial"/>
              </a:rPr>
              <a:t>Federação Russa</a:t>
            </a:r>
            <a:r>
              <a:rPr b="0" lang="en-US" sz="3000" spc="-1" strike="noStrike">
                <a:solidFill>
                  <a:srgbClr val="000000"/>
                </a:solidFill>
                <a:latin typeface="Arial"/>
              </a:rPr>
              <a:t> (3,6%);</a:t>
            </a:r>
            <a:endParaRPr b="0" lang="en-US" sz="3000" spc="-1" strike="noStrike">
              <a:solidFill>
                <a:srgbClr val="000000"/>
              </a:solidFill>
              <a:latin typeface="Arial"/>
            </a:endParaRPr>
          </a:p>
          <a:p>
            <a:pPr marL="343080" indent="-343080" algn="just">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lemanha</a:t>
            </a:r>
            <a:r>
              <a:rPr b="0" lang="en-US" sz="3000" spc="-1" strike="noStrike">
                <a:solidFill>
                  <a:srgbClr val="000000"/>
                </a:solidFill>
                <a:latin typeface="Arial"/>
              </a:rPr>
              <a:t>, </a:t>
            </a:r>
            <a:r>
              <a:rPr b="1" lang="en-US" sz="3000" spc="-1" strike="noStrike">
                <a:solidFill>
                  <a:srgbClr val="000000"/>
                </a:solidFill>
                <a:latin typeface="Arial"/>
              </a:rPr>
              <a:t>Itália</a:t>
            </a:r>
            <a:r>
              <a:rPr b="0" lang="en-US" sz="3000" spc="-1" strike="noStrike">
                <a:solidFill>
                  <a:srgbClr val="000000"/>
                </a:solidFill>
                <a:latin typeface="Arial"/>
              </a:rPr>
              <a:t> e </a:t>
            </a:r>
            <a:r>
              <a:rPr b="1" lang="en-US" sz="3000" spc="-1" strike="noStrike">
                <a:solidFill>
                  <a:srgbClr val="000000"/>
                </a:solidFill>
                <a:latin typeface="Arial"/>
              </a:rPr>
              <a:t>Indonésia</a:t>
            </a:r>
            <a:r>
              <a:rPr b="0" lang="en-US" sz="3000" spc="-1" strike="noStrike">
                <a:solidFill>
                  <a:srgbClr val="000000"/>
                </a:solidFill>
                <a:latin typeface="Arial"/>
              </a:rPr>
              <a:t> respectivamente ocupam a 6ª, 8ª e 9ª posição no ranking, com 2,2%; 1,9% e 1,8% da produção total;</a:t>
            </a:r>
            <a:endParaRPr b="0" lang="en-US" sz="3000" spc="-1" strike="noStrike">
              <a:solidFill>
                <a:srgbClr val="000000"/>
              </a:solidFill>
              <a:latin typeface="Arial"/>
            </a:endParaRPr>
          </a:p>
          <a:p>
            <a:pPr marL="343080" indent="-343080" algn="just">
              <a:lnSpc>
                <a:spcPct val="90000"/>
              </a:lnSpc>
              <a:spcBef>
                <a:spcPts val="1125"/>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 conjunto, estes 9 países respondem por quase 2/3 da produção mundial de alimentos.</a:t>
            </a:r>
            <a:endParaRPr b="0" lang="en-US" sz="3000" spc="-1" strike="noStrike">
              <a:solidFill>
                <a:srgbClr val="000000"/>
              </a:solidFill>
              <a:latin typeface="Arial"/>
            </a:endParaRPr>
          </a:p>
        </p:txBody>
      </p:sp>
      <p:sp>
        <p:nvSpPr>
          <p:cNvPr id="64" name="Text Box 3"/>
          <p:cNvSpPr/>
          <p:nvPr/>
        </p:nvSpPr>
        <p:spPr>
          <a:xfrm>
            <a:off x="108000" y="5445000"/>
            <a:ext cx="892800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O gráfico seguinte (defasado) reproduz a situação em 19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Figure B (continued)"/>
          <p:cNvPicPr/>
          <p:nvPr/>
        </p:nvPicPr>
        <p:blipFill>
          <a:blip r:embed="rId1"/>
          <a:stretch/>
        </p:blipFill>
        <p:spPr>
          <a:xfrm>
            <a:off x="971640" y="44280"/>
            <a:ext cx="7089840" cy="671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6"/>
          <p:cNvSpPr/>
          <p:nvPr/>
        </p:nvSpPr>
        <p:spPr>
          <a:xfrm>
            <a:off x="611280" y="1197000"/>
            <a:ext cx="799128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do o tamanho da população de China, o excelente desempenho deste país na produção de alimentos não foi suficiente para retirá-lo da posição de importador líquido. Diferentemente, a Índia alcançou uma posição de exportador líquido, mas sua produção excedentária é relativamente pequena. </a:t>
            </a:r>
            <a:endParaRPr b="0" lang="en-US" sz="2800" spc="-1" strike="noStrike">
              <a:solidFill>
                <a:srgbClr val="000000"/>
              </a:solidFill>
              <a:latin typeface="Arial"/>
            </a:endParaRPr>
          </a:p>
        </p:txBody>
      </p:sp>
      <p:sp>
        <p:nvSpPr>
          <p:cNvPr id="67" name="Text Box 7"/>
          <p:cNvSpPr/>
          <p:nvPr/>
        </p:nvSpPr>
        <p:spPr>
          <a:xfrm>
            <a:off x="111240" y="5824440"/>
            <a:ext cx="899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225"/>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 isso o que se observa no mapa do próximo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mapa da balança com de alimentos 2000-02"/>
          <p:cNvPicPr/>
          <p:nvPr/>
        </p:nvPicPr>
        <p:blipFill>
          <a:blip r:embed="rId1"/>
          <a:stretch/>
        </p:blipFill>
        <p:spPr>
          <a:xfrm>
            <a:off x="539640" y="404640"/>
            <a:ext cx="8064720" cy="6858000"/>
          </a:xfrm>
          <a:prstGeom prst="rect">
            <a:avLst/>
          </a:prstGeom>
          <a:ln w="0">
            <a:noFill/>
          </a:ln>
        </p:spPr>
      </p:pic>
      <p:sp>
        <p:nvSpPr>
          <p:cNvPr id="69" name="PlaceHolder 1"/>
          <p:cNvSpPr>
            <a:spLocks noGrp="1"/>
          </p:cNvSpPr>
          <p:nvPr>
            <p:ph type="title"/>
          </p:nvPr>
        </p:nvSpPr>
        <p:spPr>
          <a:xfrm>
            <a:off x="34920" y="-27360"/>
            <a:ext cx="957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Os determinantes da crise financeira “mundial”</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24000" y="549360"/>
            <a:ext cx="8569080" cy="5861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as se o sucesso de China e Índia não os converte em competidores expressivos no mercado mundial,  a capacidade demonstrada por estes países para ampliarem a produção e a produtividade internas lhes permite adotar políticas seletivas de importação, que se associam a políticas de reconversão produtiva interna, voltadas à melhor exploração de suas disponibilidades relativas de recursos (muita mão-de-obra; pouca terra);</a:t>
            </a: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Ou, dito de outra forma: a China (secundada pela Índia) estão tentando “empurrar” para a “nova periferia” a produção de bens agrícolas intensivos em terra e de menor valor agreg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08000" y="404640"/>
            <a:ext cx="88614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taneamente, tendo em vista as taxas igualmente elevadas de crescimento da produtividade agrícola nos EUA, França e Alemanha – que consolidam e aprofundam suas posições de exportadores líquidos -  o mercado mundial de alimentos tende a se mostrar crescentemente competitivo ao longo das últimas décadas.</a:t>
            </a:r>
            <a:endParaRPr b="0" lang="en-US" sz="2800" spc="-1" strike="noStrike">
              <a:solidFill>
                <a:srgbClr val="000000"/>
              </a:solidFill>
              <a:latin typeface="Arial"/>
            </a:endParaRPr>
          </a:p>
        </p:txBody>
      </p:sp>
      <p:sp>
        <p:nvSpPr>
          <p:cNvPr id="72" name="Text Box 3"/>
          <p:cNvSpPr/>
          <p:nvPr/>
        </p:nvSpPr>
        <p:spPr>
          <a:xfrm>
            <a:off x="1625760" y="4152960"/>
            <a:ext cx="71942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resultado agregado destes movimentos é o fracasso da Rodada do Uruguay e a estruturalização do impasse da assim chamada “Rodada de Doha”. Nos termos da FAO, no relatório já citado</a:t>
            </a:r>
            <a:r>
              <a:rPr b="0" lang="pt-BR"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68360" y="1020600"/>
            <a:ext cx="8351640" cy="4218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n April 1994, the Final Act of the Uruguay Round of MTNs was signed in Marrakesh. Launched in 1986, the Round concluded with an agreement to create the World Trade Organization (WTO) to replace GATT. The State of Food and Agriculture 1995 reported that, given the importance of the issues and the seven years of strenuous negotiations involved, the outcome of the Uruguay Round in terms of market access and reductions in domestic support and export subsidization fell short of what might have been expected. Agricultural protectionism remained high and was likely to continue to plague agricultural markets in traditional and new forms in the future”. </a:t>
            </a:r>
            <a:endParaRPr b="0" lang="en-US" sz="20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OF FOOD AND AGRICULTURE (200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5"/>
          <p:cNvSpPr/>
          <p:nvPr/>
        </p:nvSpPr>
        <p:spPr>
          <a:xfrm>
            <a:off x="34920" y="1014480"/>
            <a:ext cx="907416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odada de Doha: uma década sem qualquer avanço substantivo.</a:t>
            </a: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Formalmente, EUA e Europa (com apoio da WTO, Banco Mundial, e dos movimentos camponeses europeus e americanos) vem procurando alterar os padrões de subsídios, que ganham a forma de “programas de defesa do meio ambiente” e pagamentos pela “não utilização de recursos naturais” (from amber box to green b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179280" y="476280"/>
            <a:ext cx="8785440" cy="6121440"/>
          </a:xfrm>
          <a:prstGeom prst="rect">
            <a:avLst/>
          </a:prstGeom>
          <a:noFill/>
          <a:ln w="0">
            <a:noFill/>
          </a:ln>
        </p:spPr>
        <p:txBody>
          <a:bodyPr anchor="t">
            <a:normAutofit/>
          </a:bodyPr>
          <a:p>
            <a:pPr marL="343080" indent="-34308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obstante, como muito bem denunciam diversas entidades defensoras do livre-comércio de produtos agropecuários como forma de alavancagem do desenvolvimento endógeno da periferia (como Oxfam, Caritas, etc.), diversos programas considerados “</a:t>
            </a:r>
            <a:r>
              <a:rPr b="0" i="1" lang="en-US" sz="2800" spc="-1" strike="noStrike">
                <a:solidFill>
                  <a:srgbClr val="000000"/>
                </a:solidFill>
                <a:latin typeface="Arial"/>
              </a:rPr>
              <a:t>green</a:t>
            </a:r>
            <a:r>
              <a:rPr b="0" lang="en-US" sz="2800" spc="-1" strike="noStrike">
                <a:solidFill>
                  <a:srgbClr val="000000"/>
                </a:solidFill>
                <a:latin typeface="Arial"/>
              </a:rPr>
              <a:t>” – como os programas governamentais de assistência nutricional – distorcem, sim, o mercado, ao permitirem aos governos centrais comprarem bens agrícolas acima do preço do mercado internacional para distribuição gratu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274680"/>
            <a:ext cx="8229600" cy="5851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 economia gaúcha vem passando por um processo acelerado e extremamente preocupante de concentração espacial da renda e da riqueza.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mapa temático reproduzido no próximo slide nos oferece uma expressão clara e dramática deste process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le estão representados os padrões de crescimento demográfico dos 496 municípios gaúchos atualmente existentes entre 1991 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684360" y="1341360"/>
            <a:ext cx="8277120" cy="283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acordo com a USDA, os dispêndios com programas “</a:t>
            </a:r>
            <a:r>
              <a:rPr b="0" i="1" lang="en-US" sz="2800" spc="-1" strike="noStrike">
                <a:solidFill>
                  <a:srgbClr val="000000"/>
                </a:solidFill>
                <a:latin typeface="Arial"/>
              </a:rPr>
              <a:t>green box</a:t>
            </a:r>
            <a:r>
              <a:rPr b="0" lang="en-US" sz="2800" spc="-1" strike="noStrike">
                <a:solidFill>
                  <a:srgbClr val="000000"/>
                </a:solidFill>
                <a:latin typeface="Arial"/>
              </a:rPr>
              <a:t>” de padrão assistencial cresceram, nos EUA, entre 1995 e 2007, de US$ 46 bilhões para US$ 76,2 bilhõe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este respeito, veja-se </a:t>
            </a:r>
            <a:r>
              <a:rPr b="0" lang="en-US" sz="2000" spc="-1" strike="noStrike" u="sng">
                <a:solidFill>
                  <a:srgbClr val="009999"/>
                </a:solidFill>
                <a:uFillTx/>
                <a:latin typeface="Arial"/>
                <a:hlinkClick r:id="rId1"/>
              </a:rPr>
              <a:t>http://www.ers.usda.gov/Briefing/FarmPolicy/gov-pay.ht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404280"/>
            <a:ext cx="8229600" cy="4526280"/>
          </a:xfrm>
          <a:prstGeom prst="rect">
            <a:avLst/>
          </a:prstGeom>
          <a:noFill/>
          <a:ln w="0">
            <a:noFill/>
          </a:ln>
        </p:spPr>
        <p:txBody>
          <a:bodyPr anchor="t">
            <a:normAutofit fontScale="84000"/>
          </a:bodyPr>
          <a:p>
            <a:pPr marL="288000" indent="-2880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se isto não bastasse, os dispêndios dos países centrais também têm crescido substancialmente através do pagamento aos pequenos produtores para diminuição da área plantada e preservação do solo e do eco-sistema.</a:t>
            </a:r>
            <a:endParaRPr b="0" lang="en-US" sz="2800" spc="-1" strike="noStrike">
              <a:solidFill>
                <a:srgbClr val="000000"/>
              </a:solidFill>
              <a:latin typeface="Arial"/>
            </a:endParaRPr>
          </a:p>
          <a:p>
            <a:pPr marL="2880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peito destes programas terem, de fato, um menor impacto distorcivo do mercado (</a:t>
            </a:r>
            <a:r>
              <a:rPr b="0" i="1" lang="en-US" sz="2800" spc="-1" strike="noStrike">
                <a:solidFill>
                  <a:srgbClr val="000000"/>
                </a:solidFill>
                <a:latin typeface="Arial"/>
              </a:rPr>
              <a:t>vis-à-vis </a:t>
            </a:r>
            <a:r>
              <a:rPr b="0" lang="en-US" sz="2800" spc="-1" strike="noStrike">
                <a:solidFill>
                  <a:srgbClr val="000000"/>
                </a:solidFill>
                <a:latin typeface="Arial"/>
              </a:rPr>
              <a:t>os programas tradicionais de subsídios), eles impõem um peso fiscal maior aos estados nacionais desenvolvidos, que não contam, sequer, com estoques de mercadorias para se ressarcirem de parte dos dispên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79280" y="402840"/>
            <a:ext cx="8909280" cy="4527720"/>
          </a:xfrm>
          <a:prstGeom prst="rect">
            <a:avLst/>
          </a:prstGeom>
          <a:noFill/>
          <a:ln w="0">
            <a:noFill/>
          </a:ln>
        </p:spPr>
        <p:txBody>
          <a:bodyPr anchor="t">
            <a:normAutofit fontScale="87000"/>
          </a:bodyPr>
          <a:p>
            <a:pPr marL="298440" indent="-29844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uma conjuntura de crise financeira e fiscal global, estes programas podem ser paulatinamente abandonados (ou inadequadamente fiscalizados, como aponta a Oxfam) gerando uma nova pressão de oferta de alimentos no mercado mundial. Vale observar que, segundo o USDA, programas deste padrão já retiraram de uso </a:t>
            </a:r>
            <a:r>
              <a:rPr b="1" lang="en-US" sz="2700" spc="-1" strike="noStrike">
                <a:solidFill>
                  <a:srgbClr val="000000"/>
                </a:solidFill>
                <a:latin typeface="Arial"/>
              </a:rPr>
              <a:t>30 milhões de ha de terra apenas nos EUA. </a:t>
            </a:r>
            <a:endParaRPr b="0" lang="en-US" sz="2700" spc="-1" strike="noStrike">
              <a:solidFill>
                <a:srgbClr val="000000"/>
              </a:solidFill>
              <a:latin typeface="Arial"/>
            </a:endParaRPr>
          </a:p>
          <a:p>
            <a:pPr marL="298440" indent="0" algn="just">
              <a:lnSpc>
                <a:spcPct val="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98440" indent="-298440" algn="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009999"/>
                </a:solidFill>
                <a:uFillTx/>
                <a:latin typeface="Arial"/>
                <a:hlinkClick r:id="rId1"/>
              </a:rPr>
              <a:t>www.ers.usda.gov/publications/AIB728/aib728d.pdf</a:t>
            </a:r>
            <a:endParaRPr b="0" lang="en-US" sz="1900" spc="-1" strike="noStrike">
              <a:solidFill>
                <a:srgbClr val="000000"/>
              </a:solidFill>
              <a:latin typeface="Arial"/>
            </a:endParaRPr>
          </a:p>
          <a:p>
            <a:pPr marL="29844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98440" indent="-29844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ma idéia da magnitude desta área,</a:t>
            </a:r>
            <a:r>
              <a:rPr b="1" lang="en-US" sz="2700" spc="-1" strike="noStrike">
                <a:solidFill>
                  <a:srgbClr val="000000"/>
                </a:solidFill>
                <a:latin typeface="Arial"/>
              </a:rPr>
              <a:t>toda a área nacional empregada em agricultura temporária não chega a 76 milhões de ha </a:t>
            </a:r>
            <a:r>
              <a:rPr b="0" lang="en-US" sz="2700" spc="-1" strike="noStrike">
                <a:solidFill>
                  <a:srgbClr val="000000"/>
                </a:solidFill>
                <a:latin typeface="Arial"/>
              </a:rPr>
              <a:t>(Censo Agropec., 2006).</a:t>
            </a:r>
            <a:endParaRPr b="0" lang="en-US" sz="2700" spc="-1" strike="noStrike">
              <a:solidFill>
                <a:srgbClr val="000000"/>
              </a:solidFill>
              <a:latin typeface="Arial"/>
            </a:endParaRPr>
          </a:p>
          <a:p>
            <a:pPr marL="29844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98440" indent="-298440" algn="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speito das distorções subjacentes ao padrão regulatório da produção agrícola reconhecido como legítimo e não  distorcivo pela WTO, recomendamos fortemente a leitura de “</a:t>
            </a:r>
            <a:r>
              <a:rPr b="0" i="1" lang="en-US" sz="1400" spc="-1" strike="noStrike">
                <a:solidFill>
                  <a:srgbClr val="000000"/>
                </a:solidFill>
                <a:latin typeface="Arial"/>
              </a:rPr>
              <a:t>Green, but not clean</a:t>
            </a:r>
            <a:r>
              <a:rPr b="0" lang="en-US" sz="1400" spc="-1" strike="noStrike">
                <a:solidFill>
                  <a:srgbClr val="000000"/>
                </a:solidFill>
                <a:latin typeface="Arial"/>
              </a:rPr>
              <a:t>”, no site da Oxfam: </a:t>
            </a:r>
            <a:r>
              <a:rPr b="0" lang="pt-BR" sz="1400" spc="-1" strike="noStrike" u="sng">
                <a:solidFill>
                  <a:srgbClr val="009999"/>
                </a:solidFill>
                <a:uFillTx/>
                <a:latin typeface="Arial"/>
                <a:hlinkClick r:id="rId2"/>
              </a:rPr>
              <a:t>http://www.oxfam.org/en/policy/bn051115-green-box-subsidies</a:t>
            </a:r>
            <a:r>
              <a:rPr b="0" lang="pt-BR" sz="1400" spc="-1" strike="noStrike">
                <a:solidFill>
                  <a:srgbClr val="000000"/>
                </a:solidFill>
                <a:latin typeface="Arial"/>
              </a:rPr>
              <a:t> </a:t>
            </a:r>
            <a:endParaRPr b="0" lang="en-US" sz="1400" spc="-1" strike="noStrike">
              <a:solidFill>
                <a:srgbClr val="000000"/>
              </a:solidFill>
              <a:latin typeface="Arial"/>
            </a:endParaRPr>
          </a:p>
          <a:p>
            <a:pPr marL="29844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enorme potencial de ampliação de oferta e seus desdobramentos</a:t>
            </a:r>
            <a:endParaRPr b="0" lang="en-US" sz="32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0000"/>
          </a:bodyPr>
          <a:p>
            <a:pPr marL="308520" indent="-308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despeito do que pretendem neo-malthusianos e catastrofistas de todos os matizes, o potencial de ampliação de oferta agrícola é enorme no mundo. </a:t>
            </a:r>
            <a:endParaRPr b="0" lang="en-US" sz="2000" spc="-1" strike="noStrike">
              <a:solidFill>
                <a:srgbClr val="000000"/>
              </a:solidFill>
              <a:latin typeface="Arial"/>
            </a:endParaRPr>
          </a:p>
          <a:p>
            <a:pPr marL="308520" indent="-308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 acordo com o OECD-FAO Agricultural Outlook 2009-2018, a área cultivada no mundo hoje é de aproximadamente 1,4 bilhões de ha. E o potencial aberto ao cultivo na América do Sul e na África é de 4,3 bilhões de ha. </a:t>
            </a:r>
            <a:endParaRPr b="0" lang="en-US" sz="2000" spc="-1" strike="noStrike">
              <a:solidFill>
                <a:srgbClr val="000000"/>
              </a:solidFill>
              <a:latin typeface="Arial"/>
            </a:endParaRPr>
          </a:p>
          <a:p>
            <a:pPr marL="308520" indent="-308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 acordo com o mesmo relatório, mesmo se adotamos as exigências mais fortes de sustentação dos biomas naturais, haveria, no mínimo, 1,56 bilhões de ha a serem ocupados no mundo. </a:t>
            </a:r>
            <a:endParaRPr b="0" lang="en-US" sz="2000" spc="-1" strike="noStrike">
              <a:solidFill>
                <a:srgbClr val="000000"/>
              </a:solidFill>
              <a:latin typeface="Arial"/>
            </a:endParaRPr>
          </a:p>
          <a:p>
            <a:pPr marL="308520" indent="-3085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 se somarmos a isto o fato de que em pouco mais de 10% da área cultivada atualmente opera-se com as tecnologias capazes de garantir máxima produtividade por área, somos levados a concluir que a produção de alimentos no mundo poderia quadruplicar sem qualquer desmatamento ou cultivo de áreas fadadas à erosão e à rápida perda de fertilidade e capacidade produ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590400" y="836640"/>
            <a:ext cx="8229600" cy="4525920"/>
          </a:xfrm>
          <a:prstGeom prst="rect">
            <a:avLst/>
          </a:prstGeom>
          <a:noFill/>
          <a:ln w="0">
            <a:noFill/>
          </a:ln>
        </p:spPr>
        <p:txBody>
          <a:bodyPr anchor="t">
            <a:normAutofit fontScale="93000"/>
          </a:bodyPr>
          <a:p>
            <a:pPr marL="318960" indent="-3189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estão que fica, então, é: como operar diante de uma realidade marcada, de um lado, pela presença de excedentes estruturais da oferta de alimentos por parte dos países desenvolvidos e, de outro, por uma crescente capacidade produzir internamente alimentos baseados na utilização intensiva de mão-de-obra por parte dos principais países importadores de bens agropecuários do mundo, como China e índia.</a:t>
            </a:r>
            <a:endParaRPr b="0" lang="en-US" sz="2400" spc="-1" strike="noStrike">
              <a:solidFill>
                <a:srgbClr val="000000"/>
              </a:solidFill>
              <a:latin typeface="Arial"/>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 nos parecer que o ponto de partida necessário para articular uma resposta consistente a esta questão candente envolva uma avaliação circunstanciada da dinâmica de crescimento e das políticas agropecuárias dos principais países produtores e consumidores de bens agropecuári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is commodities em valor</a:t>
            </a:r>
            <a:br>
              <a:rPr sz="3600"/>
            </a:br>
            <a:endParaRPr b="0" lang="en-US" sz="3600" spc="-1" strike="noStrike">
              <a:solidFill>
                <a:srgbClr val="000000"/>
              </a:solidFill>
              <a:latin typeface="Arial"/>
            </a:endParaRPr>
          </a:p>
        </p:txBody>
      </p:sp>
      <p:pic>
        <p:nvPicPr>
          <p:cNvPr id="83" name="Picture 5" descr="ChartPic_000132"/>
          <p:cNvPicPr/>
          <p:nvPr/>
        </p:nvPicPr>
        <p:blipFill>
          <a:blip r:embed="rId1"/>
          <a:stretch/>
        </p:blipFill>
        <p:spPr>
          <a:xfrm>
            <a:off x="0" y="934920"/>
            <a:ext cx="9140760" cy="6023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457200" y="404640"/>
          <a:ext cx="8229600" cy="6134400"/>
        </p:xfrm>
        <a:graphic>
          <a:graphicData uri="http://schemas.openxmlformats.org/drawingml/2006/table">
            <a:tbl>
              <a:tblPr/>
              <a:tblGrid>
                <a:gridCol w="1438200"/>
                <a:gridCol w="3009960"/>
                <a:gridCol w="1836720"/>
                <a:gridCol w="1944720"/>
              </a:tblGrid>
              <a:tr h="604800">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Commodity</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a:t>
                      </a:r>
                      <a:endParaRPr b="0" lang="en-US" sz="1600" spc="-1" strike="noStrike">
                        <a:solidFill>
                          <a:srgbClr val="000000"/>
                        </a:solidFill>
                        <a:latin typeface="Arial"/>
                      </a:endParaRPr>
                    </a:p>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Cow milk, whole, fresh</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44.976.5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566.850.18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Rice, padd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30.994.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659.590.6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Indigenous Cattle 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14.771.4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55.491.23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Indigenous Pig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96.440.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95.235.64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Indigenous Chicken 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85.618.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73.402.69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Wh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72.917.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605.994.94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Hen eggs, in shel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47.921.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58.961.47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Soybean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44.666.5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220.532.61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Buffalo milk, whole, fresh</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42.629.46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86.574.52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Vegetables fresh n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41.856.9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245.079.4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Maiz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8.394.49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791.794.58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Cotton lin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7.736.3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25.420.57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Potato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4.821.6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09.344.24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Sugar can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2.090.14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590.701.77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Grap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1.183.82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67.221.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Tomato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0.327.2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29.942.41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Appl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8.832.01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65.970.70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Groundnuts, with shel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7.092.21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37.144.12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Indigenous Sheep 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5.910.86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8.042.81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8080"/>
                          </a:solidFill>
                          <a:latin typeface="Arial"/>
                          <a:ea typeface="Arial"/>
                        </a:rPr>
                        <a:t>Cassav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14.051.9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33"/>
                          </a:solidFill>
                          <a:latin typeface="Arial"/>
                        </a:rPr>
                        <a:t>    </a:t>
                      </a:r>
                      <a:r>
                        <a:rPr b="0" lang="pt-BR" sz="1600" spc="-1" strike="noStrike">
                          <a:solidFill>
                            <a:srgbClr val="333333"/>
                          </a:solidFill>
                          <a:latin typeface="Arial"/>
                        </a:rPr>
                        <a:t>214.515.14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4920" y="-18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is Commodities em Volume</a:t>
            </a:r>
            <a:endParaRPr b="0" lang="en-US" sz="3600" spc="-1" strike="noStrike">
              <a:solidFill>
                <a:srgbClr val="000000"/>
              </a:solidFill>
              <a:latin typeface="Arial"/>
            </a:endParaRPr>
          </a:p>
        </p:txBody>
      </p:sp>
      <p:pic>
        <p:nvPicPr>
          <p:cNvPr id="86" name="Picture 5" descr="ChartPic_000116"/>
          <p:cNvPicPr/>
          <p:nvPr/>
        </p:nvPicPr>
        <p:blipFill>
          <a:blip r:embed="rId1"/>
          <a:stretch/>
        </p:blipFill>
        <p:spPr>
          <a:xfrm>
            <a:off x="-36360" y="919080"/>
            <a:ext cx="9216720" cy="618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800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is Commodities em Volume</a:t>
            </a:r>
            <a:endParaRPr b="0" lang="en-US" sz="3600" spc="-1" strike="noStrike">
              <a:solidFill>
                <a:srgbClr val="000000"/>
              </a:solidFill>
              <a:latin typeface="Arial"/>
            </a:endParaRPr>
          </a:p>
        </p:txBody>
      </p:sp>
      <p:graphicFrame>
        <p:nvGraphicFramePr>
          <p:cNvPr id="88" name=""/>
          <p:cNvGraphicFramePr/>
          <p:nvPr/>
        </p:nvGraphicFramePr>
        <p:xfrm>
          <a:off x="395280" y="1144440"/>
          <a:ext cx="8229600" cy="5713560"/>
        </p:xfrm>
        <a:graphic>
          <a:graphicData uri="http://schemas.openxmlformats.org/drawingml/2006/table">
            <a:tbl>
              <a:tblPr/>
              <a:tblGrid>
                <a:gridCol w="1235160"/>
                <a:gridCol w="3200400"/>
                <a:gridCol w="1805040"/>
                <a:gridCol w="1989000"/>
              </a:tblGrid>
              <a:tr h="405000">
                <a:tc>
                  <a:txBody>
                    <a:bodyPr lIns="90000" rIns="90000" tIns="46800" bIns="46800" anchor="b">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Commodity</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667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ugar can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2.090.14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90.701.77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aiz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8.394.49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91.794.58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Rice, padd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0.994.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59.590.6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Wh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2.917.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05.994.94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ow milk, whole, fresh</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44.976.5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66.850.18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otato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4.821.6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09.344.24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67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ugar bee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907.0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46.713.21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Vegetables fresh n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1.856.9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45.079.4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oybean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4.666.5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0.532.61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assav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4.051.9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14.515.14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arle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265.13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3.431.34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67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Tomato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0.327.2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9.942.41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weet potato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073.33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7.667.97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Watermelon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491.60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7.434.56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genous Pig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6.440.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5.235.64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uffalo milk, whole, fresh</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2.629.46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6.574.52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anana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065.27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5.855.85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67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genous Chicken Mea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5.618.3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3.402.69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532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abbages and other brassica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417.10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8.918.01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4960">
                <a:tc>
                  <a:txBody>
                    <a:bodyPr lIns="90000" rIns="90000" tIns="46800" bIns="46800" anchor="ctr">
                      <a:no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Grap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1.183.82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7.221.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80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iores produtores de leite</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Arial"/>
            </a:endParaRPr>
          </a:p>
        </p:txBody>
      </p:sp>
      <p:pic>
        <p:nvPicPr>
          <p:cNvPr id="91" name="Picture 5" descr="ChartPic_000071"/>
          <p:cNvPicPr/>
          <p:nvPr/>
        </p:nvPicPr>
        <p:blipFill>
          <a:blip r:embed="rId1"/>
          <a:stretch/>
        </p:blipFill>
        <p:spPr>
          <a:xfrm>
            <a:off x="-36360" y="1430280"/>
            <a:ext cx="9213840" cy="552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Espaço Reservado para Conteúdo 3" descr="mapa_intro.jpg"/>
          <p:cNvPicPr/>
          <p:nvPr/>
        </p:nvPicPr>
        <p:blipFill>
          <a:blip r:embed="rId1"/>
          <a:stretch/>
        </p:blipFill>
        <p:spPr>
          <a:xfrm>
            <a:off x="2000160" y="0"/>
            <a:ext cx="51768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36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ais produtores de leite</a:t>
            </a:r>
            <a:br>
              <a:rPr sz="3200"/>
            </a:br>
            <a:endParaRPr b="0" lang="en-US" sz="3200" spc="-1" strike="noStrike">
              <a:solidFill>
                <a:srgbClr val="000000"/>
              </a:solidFill>
              <a:latin typeface="Arial"/>
            </a:endParaRPr>
          </a:p>
        </p:txBody>
      </p:sp>
      <p:graphicFrame>
        <p:nvGraphicFramePr>
          <p:cNvPr id="93" name="Object 302"/>
          <p:cNvGraphicFramePr/>
          <p:nvPr/>
        </p:nvGraphicFramePr>
        <p:xfrm>
          <a:off x="1476360" y="728640"/>
          <a:ext cx="6191280" cy="5940360"/>
        </p:xfrm>
        <a:graphic>
          <a:graphicData uri="http://schemas.openxmlformats.org/presentationml/2006/ole">
            <p:oleObj progId="Excel.Sheet.12" r:id="rId1" spid="">
              <p:embed/>
              <p:pic>
                <p:nvPicPr>
                  <p:cNvPr id="94" name="Object 302" descr=""/>
                  <p:cNvPicPr/>
                  <p:nvPr/>
                </p:nvPicPr>
                <p:blipFill>
                  <a:blip r:embed="rId2"/>
                  <a:stretch/>
                </p:blipFill>
                <p:spPr>
                  <a:xfrm>
                    <a:off x="1476360" y="728640"/>
                    <a:ext cx="6191280" cy="59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ChartPic_000160"/>
          <p:cNvPicPr/>
          <p:nvPr/>
        </p:nvPicPr>
        <p:blipFill>
          <a:blip r:embed="rId1"/>
          <a:stretch/>
        </p:blipFill>
        <p:spPr>
          <a:xfrm>
            <a:off x="-108000" y="1197000"/>
            <a:ext cx="9820440" cy="5638680"/>
          </a:xfrm>
          <a:prstGeom prst="rect">
            <a:avLst/>
          </a:prstGeom>
          <a:ln w="0">
            <a:noFill/>
          </a:ln>
        </p:spPr>
      </p:pic>
      <p:sp>
        <p:nvSpPr>
          <p:cNvPr id="96" name="Rectangle 6"/>
          <p:cNvSpPr/>
          <p:nvPr/>
        </p:nvSpPr>
        <p:spPr>
          <a:xfrm>
            <a:off x="34920" y="115920"/>
            <a:ext cx="9036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is prod. de carne bovi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8000" y="-100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ção mundial de carne bovina</a:t>
            </a:r>
            <a:endParaRPr b="0" lang="en-US" sz="3600" spc="-1" strike="noStrike">
              <a:solidFill>
                <a:srgbClr val="000000"/>
              </a:solidFill>
              <a:latin typeface="Arial"/>
            </a:endParaRPr>
          </a:p>
        </p:txBody>
      </p:sp>
      <p:graphicFrame>
        <p:nvGraphicFramePr>
          <p:cNvPr id="98" name=""/>
          <p:cNvGraphicFramePr/>
          <p:nvPr/>
        </p:nvGraphicFramePr>
        <p:xfrm>
          <a:off x="108000" y="907920"/>
          <a:ext cx="8905680" cy="5943600"/>
        </p:xfrm>
        <a:graphic>
          <a:graphicData uri="http://schemas.openxmlformats.org/drawingml/2006/table">
            <a:tbl>
              <a:tblPr/>
              <a:tblGrid>
                <a:gridCol w="1630440"/>
                <a:gridCol w="3531960"/>
                <a:gridCol w="1870200"/>
                <a:gridCol w="1873080"/>
              </a:tblGrid>
              <a:tr h="459000">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Area</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States of Ame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351.9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807.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razi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867.9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705.04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h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073.4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837.43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Argent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163.7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980.12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exico</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715.45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96.4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Franc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706.77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92.2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Russian Federatio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473.26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79.30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anad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341.79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15.73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652.2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82.36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German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543.98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3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tal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97.33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69.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olomb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95.40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19.71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outh Af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35.28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90.65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Kingdom</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61.55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55.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New Zea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65.77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60.34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akista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56.60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55.91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re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90.00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75.36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rugua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84.60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72.74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pai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83.05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72.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zbekista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38.71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50.56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Chart1" descr="ChartPic_000147"/>
          <p:cNvPicPr/>
          <p:nvPr/>
        </p:nvPicPr>
        <p:blipFill>
          <a:blip r:embed="rId1"/>
          <a:stretch/>
        </p:blipFill>
        <p:spPr>
          <a:xfrm>
            <a:off x="34920" y="1052640"/>
            <a:ext cx="9144000" cy="5864040"/>
          </a:xfrm>
          <a:prstGeom prst="rect">
            <a:avLst/>
          </a:prstGeom>
          <a:ln w="0">
            <a:noFill/>
          </a:ln>
        </p:spPr>
      </p:pic>
      <p:sp>
        <p:nvSpPr>
          <p:cNvPr id="100" name="PlaceHolder 1"/>
          <p:cNvSpPr>
            <a:spLocks noGrp="1"/>
          </p:cNvSpPr>
          <p:nvPr>
            <p:ph type="title"/>
          </p:nvPr>
        </p:nvSpPr>
        <p:spPr>
          <a:xfrm>
            <a:off x="34560" y="-100440"/>
            <a:ext cx="910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ais prod. de carne de suí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4560" y="4392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ção mundial de carne suína</a:t>
            </a:r>
            <a:endParaRPr b="0" lang="en-US" sz="4000" spc="-1" strike="noStrike">
              <a:solidFill>
                <a:srgbClr val="000000"/>
              </a:solidFill>
              <a:latin typeface="Arial"/>
            </a:endParaRPr>
          </a:p>
        </p:txBody>
      </p:sp>
      <p:graphicFrame>
        <p:nvGraphicFramePr>
          <p:cNvPr id="102" name=""/>
          <p:cNvGraphicFramePr/>
          <p:nvPr/>
        </p:nvGraphicFramePr>
        <p:xfrm>
          <a:off x="34920" y="1125360"/>
          <a:ext cx="9074160" cy="5821560"/>
        </p:xfrm>
        <a:graphic>
          <a:graphicData uri="http://schemas.openxmlformats.org/drawingml/2006/table">
            <a:tbl>
              <a:tblPr/>
              <a:tblGrid>
                <a:gridCol w="1362240"/>
                <a:gridCol w="3528720"/>
                <a:gridCol w="1989360"/>
                <a:gridCol w="2193840"/>
              </a:tblGrid>
              <a:tr h="5806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Area</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h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4.534.62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3.978.29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States of Ame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065.24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952.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German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266.29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213.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pai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252.24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211.61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anad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710.61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676.75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Franc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85.55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57.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Viet Nam</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189.67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162.31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razi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068.8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042.98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o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939.22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915.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Denmark</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936.18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912.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Russian Federatio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864.43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841.14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hilippin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37.87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17.41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Netherland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76.69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57.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tal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05.81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487.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Japa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66.31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50.49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exico</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02.94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89.16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Korea, Republic of</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56.4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43.20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Thai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95.26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84.0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Kingdom</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84.55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76.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63880">
                <a:tc>
                  <a:txBody>
                    <a:bodyPr lIns="90000" rIns="90000" tIns="46800" bIns="46800" anchor="ctr">
                      <a:noAutofit/>
                    </a:bodyPr>
                    <a:p>
                      <a:pPr marL="343080" indent="-343080" algn="ct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krain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39.05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31.06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492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ncipais produtores de frango</a:t>
            </a:r>
            <a:endParaRPr b="0" lang="en-US" sz="4000" spc="-1" strike="noStrike">
              <a:solidFill>
                <a:srgbClr val="000000"/>
              </a:solidFill>
              <a:latin typeface="Arial"/>
            </a:endParaRPr>
          </a:p>
        </p:txBody>
      </p:sp>
      <p:pic>
        <p:nvPicPr>
          <p:cNvPr id="104" name="Picture 5" descr="ChartPic_000085"/>
          <p:cNvPicPr/>
          <p:nvPr/>
        </p:nvPicPr>
        <p:blipFill>
          <a:blip r:embed="rId1"/>
          <a:stretch/>
        </p:blipFill>
        <p:spPr>
          <a:xfrm>
            <a:off x="-36360" y="1133640"/>
            <a:ext cx="9216720" cy="5724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ncipais produtores de frango</a:t>
            </a:r>
            <a:br>
              <a:rPr sz="4000"/>
            </a:br>
            <a:endParaRPr b="0" lang="en-US" sz="4000" spc="-1" strike="noStrike">
              <a:solidFill>
                <a:srgbClr val="000000"/>
              </a:solidFill>
              <a:latin typeface="Arial"/>
            </a:endParaRPr>
          </a:p>
        </p:txBody>
      </p:sp>
      <p:graphicFrame>
        <p:nvGraphicFramePr>
          <p:cNvPr id="106" name=""/>
          <p:cNvGraphicFramePr/>
          <p:nvPr/>
        </p:nvGraphicFramePr>
        <p:xfrm>
          <a:off x="34920" y="907920"/>
          <a:ext cx="8950320" cy="5943600"/>
        </p:xfrm>
        <a:graphic>
          <a:graphicData uri="http://schemas.openxmlformats.org/drawingml/2006/table">
            <a:tbl>
              <a:tblPr/>
              <a:tblGrid>
                <a:gridCol w="1690560"/>
                <a:gridCol w="3378240"/>
                <a:gridCol w="1941480"/>
                <a:gridCol w="1940040"/>
              </a:tblGrid>
              <a:tr h="459000">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Are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US $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States of Americ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8.512.25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871.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hin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460.4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682.60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raz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929.36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370.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exic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836.72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431.99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615.197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42.071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Russian Federatio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160.58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852.32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Japa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91.89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64.77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ones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52.07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30.627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Kingdo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533.84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15.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ran, Islamic Republic o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453.219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45.879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Fran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58.879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65.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pai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237.06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60.56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Argentin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76.759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08.864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anad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66.42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00.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alays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57.25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92.14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outh Afric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35.94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73.87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Thailan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07.408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49.407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olan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28.47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96.00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olomb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91.704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64.48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Austral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87.00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60.448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ncipais prod. de ovos de galinha</a:t>
            </a:r>
            <a:endParaRPr b="0" lang="en-US" sz="4000" spc="-1" strike="noStrike">
              <a:solidFill>
                <a:srgbClr val="000000"/>
              </a:solidFill>
              <a:latin typeface="Arial"/>
            </a:endParaRPr>
          </a:p>
        </p:txBody>
      </p:sp>
      <p:pic>
        <p:nvPicPr>
          <p:cNvPr id="108" name="Picture 5" descr="ChartPic_000260"/>
          <p:cNvPicPr/>
          <p:nvPr/>
        </p:nvPicPr>
        <p:blipFill>
          <a:blip r:embed="rId1"/>
          <a:stretch/>
        </p:blipFill>
        <p:spPr>
          <a:xfrm>
            <a:off x="-61920" y="1484280"/>
            <a:ext cx="9890280" cy="5467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492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ncipais produtores de ovos</a:t>
            </a:r>
            <a:endParaRPr b="0" lang="en-US" sz="4000" spc="-1" strike="noStrike">
              <a:solidFill>
                <a:srgbClr val="000000"/>
              </a:solidFill>
              <a:latin typeface="Arial"/>
            </a:endParaRPr>
          </a:p>
        </p:txBody>
      </p:sp>
      <p:graphicFrame>
        <p:nvGraphicFramePr>
          <p:cNvPr id="110" name=""/>
          <p:cNvGraphicFramePr/>
          <p:nvPr/>
        </p:nvGraphicFramePr>
        <p:xfrm>
          <a:off x="34920" y="907920"/>
          <a:ext cx="9074160" cy="5943600"/>
        </p:xfrm>
        <a:graphic>
          <a:graphicData uri="http://schemas.openxmlformats.org/drawingml/2006/table">
            <a:tbl>
              <a:tblPr/>
              <a:tblGrid>
                <a:gridCol w="1457280"/>
                <a:gridCol w="3781440"/>
                <a:gridCol w="2160720"/>
                <a:gridCol w="1674720"/>
              </a:tblGrid>
              <a:tr h="459000">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Area</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h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8.540.6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1.833.3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States of Ame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3.991.91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308.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176.77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67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Japa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123.81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525.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exico</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897.08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290.83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Russian Federatio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746.10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2.103.3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razi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197.5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779.19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ones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931.31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1.174.6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Franc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04.17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878.4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Turke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690.55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95.31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kraine</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662.58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807.2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German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635.58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86.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taly</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78.27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pai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70.19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05.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ran, Islamic Republic of</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43.54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711.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Netherland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495.78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621.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Niger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467.95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52.8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Kingdom</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443.73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79.24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o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443.47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46.74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Korea, Republic of</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434.14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rPr>
                        <a:t>           </a:t>
                      </a:r>
                      <a:r>
                        <a:rPr b="1" lang="pt-BR" sz="1600" spc="-1" strike="noStrike">
                          <a:solidFill>
                            <a:srgbClr val="333333"/>
                          </a:solidFill>
                          <a:latin typeface="Calibri"/>
                        </a:rPr>
                        <a:t>545.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ncipais produtores de soja</a:t>
            </a:r>
            <a:endParaRPr b="0" lang="en-US" sz="4400" spc="-1" strike="noStrike">
              <a:solidFill>
                <a:srgbClr val="000000"/>
              </a:solidFill>
              <a:latin typeface="Arial"/>
            </a:endParaRPr>
          </a:p>
        </p:txBody>
      </p:sp>
      <p:pic>
        <p:nvPicPr>
          <p:cNvPr id="112" name="Picture 5" descr="ChartPic_000154"/>
          <p:cNvPicPr/>
          <p:nvPr/>
        </p:nvPicPr>
        <p:blipFill>
          <a:blip r:embed="rId1"/>
          <a:stretch/>
        </p:blipFill>
        <p:spPr>
          <a:xfrm>
            <a:off x="11160" y="1490760"/>
            <a:ext cx="9889920" cy="546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274680"/>
            <a:ext cx="8229600" cy="5851440"/>
          </a:xfrm>
          <a:prstGeom prst="rect">
            <a:avLst/>
          </a:prstGeom>
          <a:noFill/>
          <a:ln w="0">
            <a:noFill/>
          </a:ln>
        </p:spPr>
        <p:txBody>
          <a:bodyPr anchor="t">
            <a:normAutofit fontScale="98000"/>
          </a:bodyPr>
          <a:p>
            <a:pPr marL="335880" indent="-3358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s 241 municípios representados em tom pastel (48,59% do total) apresentaram perda populacional líquida entre 91 e 07. Estes municípios ocupam 36,53% da área do Estado. </a:t>
            </a:r>
            <a:endParaRPr b="0" lang="en-US" sz="2900" spc="-1" strike="noStrike">
              <a:solidFill>
                <a:srgbClr val="000000"/>
              </a:solidFill>
              <a:latin typeface="Arial"/>
            </a:endParaRPr>
          </a:p>
          <a:p>
            <a:pPr marL="335880" indent="-3358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s municípios representados em tom alaranjado apresentaram crescimento populacional positivo, mas inferior à média do Estado, de 0,953% ao ano. </a:t>
            </a:r>
            <a:endParaRPr b="0" lang="en-US" sz="2900" spc="-1" strike="noStrike">
              <a:solidFill>
                <a:srgbClr val="000000"/>
              </a:solidFill>
              <a:latin typeface="Arial"/>
            </a:endParaRPr>
          </a:p>
          <a:p>
            <a:pPr marL="335880" indent="-3358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74,6% dos municípios do Estado – que ocupam 82,84% de sua área - apresentaram performance demográfica negativa ou inferior à média estadual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4428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dutores de soja</a:t>
            </a:r>
            <a:endParaRPr b="0" lang="en-US" sz="4400" spc="-1" strike="noStrike">
              <a:solidFill>
                <a:srgbClr val="000000"/>
              </a:solidFill>
              <a:latin typeface="Arial"/>
            </a:endParaRPr>
          </a:p>
        </p:txBody>
      </p:sp>
      <p:graphicFrame>
        <p:nvGraphicFramePr>
          <p:cNvPr id="114" name=""/>
          <p:cNvGraphicFramePr/>
          <p:nvPr/>
        </p:nvGraphicFramePr>
        <p:xfrm>
          <a:off x="108000" y="981000"/>
          <a:ext cx="8048520" cy="5761080"/>
        </p:xfrm>
        <a:graphic>
          <a:graphicData uri="http://schemas.openxmlformats.org/drawingml/2006/table">
            <a:tbl>
              <a:tblPr/>
              <a:tblGrid>
                <a:gridCol w="555480"/>
                <a:gridCol w="3719520"/>
                <a:gridCol w="2125800"/>
                <a:gridCol w="1647720"/>
              </a:tblGrid>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ea typeface="Arial"/>
                        </a:rPr>
                        <a:t>Rank</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ea typeface="Arial"/>
                        </a:rPr>
                        <a:t>Area</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ea typeface="Arial"/>
                        </a:rPr>
                        <a:t>Production (Int $100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ea typeface="Arial"/>
                        </a:rPr>
                        <a:t>Production (MT)</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United States of Americ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4.910.08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72.860.4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Brazil</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2.287.5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57.857.2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Argentin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0.147.14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47.482.784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Indi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264.313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0.968.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Chin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231.204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3.800.147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Paraguay</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211.682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5.856.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Canad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494.571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695.7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Bolivi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17.76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595.947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Uruguay</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60.572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779.92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0</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Indonesi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19.106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592.634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1</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Nigeri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114.225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604.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2</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Russian Federation</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80.113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651.84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3</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Ukraine</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78.13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722.6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4</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Italy</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70.193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442.151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5</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Korea, Democratic People's Republic of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69.942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345.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6</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Serbi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62.578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303.95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7</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Viet Nam</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58.578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75.5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8</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Iran, Islamic Republic of</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54.973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60.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19</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Thailand</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43.614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03.973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20</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8080"/>
                          </a:solidFill>
                          <a:latin typeface="Arial"/>
                          <a:ea typeface="Arial"/>
                        </a:rPr>
                        <a:t>South Africa</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41.432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333333"/>
                          </a:solidFill>
                          <a:latin typeface="Arial"/>
                        </a:rPr>
                        <a:t>           </a:t>
                      </a:r>
                      <a:r>
                        <a:rPr b="1" lang="pt-BR" sz="1200" spc="-1" strike="noStrike">
                          <a:solidFill>
                            <a:srgbClr val="333333"/>
                          </a:solidFill>
                          <a:latin typeface="Arial"/>
                        </a:rPr>
                        <a:t>205.000 </a:t>
                      </a:r>
                      <a:endParaRPr b="0" lang="en-US" sz="12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27360"/>
            <a:ext cx="921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rincipais produtores de cana-de-açúcar</a:t>
            </a:r>
            <a:endParaRPr b="0" lang="en-US" sz="3600" spc="-1" strike="noStrike">
              <a:solidFill>
                <a:srgbClr val="000000"/>
              </a:solidFill>
              <a:latin typeface="Arial"/>
            </a:endParaRPr>
          </a:p>
        </p:txBody>
      </p:sp>
      <p:pic>
        <p:nvPicPr>
          <p:cNvPr id="116" name="Picture 5" descr="ChartPic_000274"/>
          <p:cNvPicPr/>
          <p:nvPr/>
        </p:nvPicPr>
        <p:blipFill>
          <a:blip r:embed="rId1"/>
          <a:stretch/>
        </p:blipFill>
        <p:spPr>
          <a:xfrm>
            <a:off x="-36360" y="963720"/>
            <a:ext cx="9937440" cy="6114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ção de cana-de-açúcar</a:t>
            </a:r>
            <a:endParaRPr b="0" lang="en-US" sz="3600" spc="-1" strike="noStrike">
              <a:solidFill>
                <a:srgbClr val="000000"/>
              </a:solidFill>
              <a:latin typeface="Arial"/>
            </a:endParaRPr>
          </a:p>
        </p:txBody>
      </p:sp>
      <p:graphicFrame>
        <p:nvGraphicFramePr>
          <p:cNvPr id="118" name=""/>
          <p:cNvGraphicFramePr/>
          <p:nvPr/>
        </p:nvGraphicFramePr>
        <p:xfrm>
          <a:off x="34920" y="981000"/>
          <a:ext cx="9074160" cy="5943600"/>
        </p:xfrm>
        <a:graphic>
          <a:graphicData uri="http://schemas.openxmlformats.org/drawingml/2006/table">
            <a:tbl>
              <a:tblPr/>
              <a:tblGrid>
                <a:gridCol w="1612800"/>
                <a:gridCol w="3640320"/>
                <a:gridCol w="1852560"/>
                <a:gridCol w="1968480"/>
              </a:tblGrid>
              <a:tr h="459000">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Rank</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Area</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Int $1000)</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ea typeface="Arial"/>
                        </a:rPr>
                        <a:t>Production (MT)</a:t>
                      </a:r>
                      <a:endParaRPr b="0" lang="en-US" sz="1600" spc="-1" strike="noStrike">
                        <a:solidFill>
                          <a:srgbClr val="000000"/>
                        </a:solidFill>
                        <a:latin typeface="Arial"/>
                      </a:endParaRPr>
                    </a:p>
                  </a:txBody>
                  <a:tcPr anchor="b" marL="90000" marR="90000">
                    <a:lnL>
                      <a:noFill/>
                    </a:lnL>
                    <a:lnR>
                      <a:noFill/>
                    </a:lnR>
                    <a:lnT>
                      <a:noFill/>
                    </a:lnT>
                    <a:lnB>
                      <a:noFill/>
                    </a:lnB>
                    <a:solidFill>
                      <a:srgbClr val="c0c0c0"/>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Brazil</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375.88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49.707.32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833.29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55.52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h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197.07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6.431.91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Thailand</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336.87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4.365.482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Mexico</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81.89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2.089.356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akistan</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023.28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4.741.6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Austral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755.965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6.397.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olomb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655.68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2.0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United States of Ame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41.00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7.750.6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Guatemal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26.86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5.436.76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1</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Indonesi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525.48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5.3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2</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hilippines</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23.469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2.235.29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3</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South Afric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421.63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0.3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4</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Argentin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98.78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9.2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5</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Viet Nam</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56.98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378.5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6</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Egypt</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304.90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6.2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7</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Cub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45.0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1.900.000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8</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Venezuela</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201.277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9.690.79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19</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Ecuador</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1.144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360.001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r h="276480">
                <a:tc>
                  <a:txBody>
                    <a:bodyPr lIns="90000" rIns="90000" tIns="46800" bIns="46800" anchor="ctr">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20</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80"/>
                          </a:solidFill>
                          <a:latin typeface="Arial"/>
                          <a:ea typeface="Arial"/>
                        </a:rPr>
                        <a:t>Peru</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170.908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Arial"/>
                        </a:rPr>
                        <a:t>          </a:t>
                      </a:r>
                      <a:r>
                        <a:rPr b="1" lang="pt-BR" sz="1600" spc="-1" strike="noStrike">
                          <a:solidFill>
                            <a:srgbClr val="333333"/>
                          </a:solidFill>
                          <a:latin typeface="Arial"/>
                        </a:rPr>
                        <a:t>8.228.623 </a:t>
                      </a:r>
                      <a:endParaRPr b="0" lang="en-US" sz="16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539640" y="2852280"/>
            <a:ext cx="8499600" cy="3240360"/>
          </a:xfrm>
          <a:prstGeom prst="rect">
            <a:avLst/>
          </a:prstGeom>
          <a:noFill/>
          <a:ln w="0">
            <a:noFill/>
          </a:ln>
        </p:spPr>
        <p:txBody>
          <a:bodyPr anchor="t">
            <a:normAutofit fontScale="97000"/>
          </a:bodyPr>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1) A política monetário-cambial em curso e prospectiva;</a:t>
            </a:r>
            <a:endParaRPr b="0" lang="en-US" sz="3200" spc="-1" strike="noStrike">
              <a:solidFill>
                <a:srgbClr val="000000"/>
              </a:solidFill>
              <a:latin typeface="Arial"/>
            </a:endParaRPr>
          </a:p>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2) Vantagens competitivas estruturais;</a:t>
            </a:r>
            <a:endParaRPr b="0" lang="en-US" sz="3200" spc="-1" strike="noStrike">
              <a:solidFill>
                <a:srgbClr val="000000"/>
              </a:solidFill>
              <a:latin typeface="Arial"/>
            </a:endParaRPr>
          </a:p>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3) As políticas agrícolas setoriais nacionais;</a:t>
            </a:r>
            <a:endParaRPr b="0" lang="en-US" sz="3200" spc="-1" strike="noStrike">
              <a:solidFill>
                <a:srgbClr val="000000"/>
              </a:solidFill>
              <a:latin typeface="Arial"/>
            </a:endParaRPr>
          </a:p>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4) A estrutura e a dinâmica potencial do mercado interno.</a:t>
            </a:r>
            <a:endParaRPr b="0" lang="en-US" sz="3200" spc="-1" strike="noStrike">
              <a:solidFill>
                <a:srgbClr val="000000"/>
              </a:solidFill>
              <a:latin typeface="Arial"/>
            </a:endParaRPr>
          </a:p>
        </p:txBody>
      </p:sp>
      <p:sp>
        <p:nvSpPr>
          <p:cNvPr id="120" name="Text Box 5"/>
          <p:cNvSpPr/>
          <p:nvPr/>
        </p:nvSpPr>
        <p:spPr>
          <a:xfrm>
            <a:off x="108000" y="115920"/>
            <a:ext cx="8848800" cy="30394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o definir os setores a serem privilegia-dos por uma nação ou região? </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Quatro elementos centrais devem ser considerado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08000" y="1598760"/>
            <a:ext cx="8928000" cy="4527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 plano cambial, as perspectivas dificilmente poderiam ser piores. O Brasil se viciou na “âncora cambial”. Este vício tem fortes componentes anti-populares, pois implicam na depressão do poder de monopólio das empresas que operam internamente pela exposição à concorrência externa, por oposição à promoção competitiva das MPMEs nacionais. Mas esta é a realidade</a:t>
            </a:r>
            <a:endParaRPr b="0" lang="en-US" sz="3200" spc="-1" strike="noStrike">
              <a:solidFill>
                <a:srgbClr val="000000"/>
              </a:solidFill>
              <a:latin typeface="Arial"/>
            </a:endParaRPr>
          </a:p>
        </p:txBody>
      </p:sp>
      <p:sp>
        <p:nvSpPr>
          <p:cNvPr id="122" name="Text Box 5"/>
          <p:cNvSpPr/>
          <p:nvPr/>
        </p:nvSpPr>
        <p:spPr>
          <a:xfrm>
            <a:off x="108000" y="115920"/>
            <a:ext cx="884880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Como definir os setores a serem privilegia-dos por uma nação ou regi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539640" y="1052640"/>
          <a:ext cx="8064720" cy="5438520"/>
        </p:xfrm>
        <a:graphic>
          <a:graphicData uri="http://schemas.openxmlformats.org/drawingml/2006/table">
            <a:tbl>
              <a:tblPr/>
              <a:tblGrid>
                <a:gridCol w="2955960"/>
                <a:gridCol w="1058760"/>
                <a:gridCol w="1059120"/>
                <a:gridCol w="1058760"/>
                <a:gridCol w="1058760"/>
                <a:gridCol w="873360"/>
              </a:tblGrid>
              <a:tr h="647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 </a:t>
                      </a:r>
                      <a:r>
                        <a:rPr b="1" lang="pt-BR" sz="1000" spc="-1" strike="noStrike">
                          <a:solidFill>
                            <a:srgbClr val="000000"/>
                          </a:solidFill>
                          <a:latin typeface="Arial"/>
                        </a:rPr>
                        <a:t>Discriminação</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Médi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79-83</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Médi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84-94</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Méd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95-02</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Méd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03-07</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Corr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 </a:t>
                      </a:r>
                      <a:r>
                        <a:rPr b="1" lang="pt-BR" sz="1000" spc="-1" strike="noStrike">
                          <a:solidFill>
                            <a:srgbClr val="000000"/>
                          </a:solidFill>
                          <a:latin typeface="Arial"/>
                          <a:ea typeface="Arial"/>
                        </a:rPr>
                        <a:t>até 2007</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Balança comercial (FOB)</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558.13</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2.790.20</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216.70</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7.925.12</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5069</a:t>
                      </a:r>
                      <a:endParaRPr b="0" lang="en-US" sz="10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Serviços e rendas (líquido)</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2.285.1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3.942.1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7.747.8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2.517.4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8765</a:t>
                      </a:r>
                      <a:endParaRPr b="0" lang="en-US" sz="1000" spc="-1" strike="noStrike">
                        <a:solidFill>
                          <a:srgbClr val="000000"/>
                        </a:solidFill>
                        <a:latin typeface="Arial"/>
                      </a:endParaRPr>
                    </a:p>
                  </a:txBody>
                  <a:tcPr anchor="ctr" marL="90000" marR="90000">
                    <a:lnL>
                      <a:noFill/>
                    </a:lnL>
                    <a:lnR>
                      <a:noFill/>
                    </a:lnR>
                    <a:lnT>
                      <a:noFill/>
                    </a:lnT>
                    <a:lnB>
                      <a:noFill/>
                    </a:lnB>
                    <a:no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Transferências unilaterais corrente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87.16</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854.4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369.66</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599.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8809</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TRANSAÇÕES CORRENTE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1.639.9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97.4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6.594.9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006.9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0957</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CONTA CAPITAL E FINANCEIRA</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899.78</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985.18</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7.181.0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8.701.6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587</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Conta capital</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9.3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60.8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31.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8229</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Conta financeira</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890.1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955.85</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6.820.2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8.070.18</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491</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Investimento direto</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989.18</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079.2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2.093.9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784.1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5530</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Investimentos em carteira</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39.8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217.08</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9.613.0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2.582.7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551</a:t>
                      </a:r>
                      <a:endParaRPr b="0" lang="en-US" sz="1000" spc="-1" strike="noStrike">
                        <a:solidFill>
                          <a:srgbClr val="000000"/>
                        </a:solidFill>
                        <a:latin typeface="Arial"/>
                      </a:endParaRPr>
                    </a:p>
                  </a:txBody>
                  <a:tcPr anchor="ctr" marL="90000" marR="90000">
                    <a:lnL>
                      <a:noFill/>
                    </a:lnL>
                    <a:lnR>
                      <a:noFill/>
                    </a:lnR>
                    <a:lnT>
                      <a:noFill/>
                    </a:lnT>
                    <a:lnB>
                      <a:noFill/>
                    </a:lnB>
                    <a:no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Derivativo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1.42</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5.45</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63.7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07.5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6506</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Outros investimento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729.7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4.345.9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4.623.10</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989.0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150</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ERROS E OMISSÕES</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85.3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61.3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95.73</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086.0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1574</a:t>
                      </a:r>
                      <a:endParaRPr b="0" lang="en-US" sz="1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RESULTADO DO BALANÇO</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125.52</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326.35</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09.62</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6.622.50</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4294</a:t>
                      </a:r>
                      <a:endParaRPr b="0" lang="en-US" sz="1000" spc="-1" strike="noStrike">
                        <a:solidFill>
                          <a:srgbClr val="000000"/>
                        </a:solidFill>
                        <a:latin typeface="Arial"/>
                      </a:endParaRPr>
                    </a:p>
                  </a:txBody>
                  <a:tcPr anchor="ctr" marL="90000" marR="90000">
                    <a:lnL>
                      <a:noFill/>
                    </a:lnL>
                    <a:lnR>
                      <a:noFill/>
                    </a:lnR>
                    <a:lnT>
                      <a:noFill/>
                    </a:lnT>
                    <a:lnB w="5760">
                      <a:solidFill>
                        <a:srgbClr val="000000"/>
                      </a:solidFill>
                    </a:lnB>
                    <a:noFill/>
                  </a:tcPr>
                </a:tc>
              </a:tr>
            </a:tbl>
          </a:graphicData>
        </a:graphic>
      </p:graphicFrame>
      <p:graphicFrame>
        <p:nvGraphicFramePr>
          <p:cNvPr id="124" name=""/>
          <p:cNvGraphicFramePr/>
          <p:nvPr/>
        </p:nvGraphicFramePr>
        <p:xfrm>
          <a:off x="52560" y="146160"/>
          <a:ext cx="8912160" cy="822240"/>
        </p:xfrm>
        <a:graphic>
          <a:graphicData uri="http://schemas.openxmlformats.org/drawingml/2006/table">
            <a:tbl>
              <a:tblPr/>
              <a:tblGrid>
                <a:gridCol w="891216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a:rPr>
                        <a:t>Balanço de pagamentos</a:t>
                      </a:r>
                      <a:endParaRPr b="0" lang="en-US" sz="24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Arial"/>
                        </a:rPr>
                        <a:t>US$ milhões</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52560" y="146160"/>
          <a:ext cx="8912160" cy="1218960"/>
        </p:xfrm>
        <a:graphic>
          <a:graphicData uri="http://schemas.openxmlformats.org/drawingml/2006/table">
            <a:tbl>
              <a:tblPr/>
              <a:tblGrid>
                <a:gridCol w="891216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a:rPr>
                        <a:t>Balanço de pagamentos</a:t>
                      </a:r>
                      <a:endParaRPr b="0" lang="en-US" sz="2400" spc="-1" strike="noStrike">
                        <a:solidFill>
                          <a:srgbClr val="000000"/>
                        </a:solidFill>
                        <a:latin typeface="Arial"/>
                      </a:endParaRPr>
                    </a:p>
                  </a:txBody>
                  <a:tcPr anchor="ctr" marL="90000" marR="90000">
                    <a:lnL>
                      <a:noFill/>
                    </a:lnL>
                    <a:lnR>
                      <a:noFill/>
                    </a:lnR>
                    <a:lnT>
                      <a:noFill/>
                    </a:lnT>
                    <a:lnB>
                      <a:noFill/>
                    </a:lnB>
                    <a:noFill/>
                  </a:tcPr>
                </a:tc>
              </a:tr>
              <a:tr h="764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26" name="Object 115"/>
          <p:cNvGraphicFramePr/>
          <p:nvPr/>
        </p:nvGraphicFramePr>
        <p:xfrm>
          <a:off x="52560" y="1941480"/>
          <a:ext cx="9038880" cy="2975040"/>
        </p:xfrm>
        <a:graphic>
          <a:graphicData uri="http://schemas.openxmlformats.org/presentationml/2006/ole">
            <p:oleObj progId="Excel.Sheet.12" r:id="rId1" spid="">
              <p:embed/>
              <p:pic>
                <p:nvPicPr>
                  <p:cNvPr id="127" name="Object 115" descr=""/>
                  <p:cNvPicPr/>
                  <p:nvPr/>
                </p:nvPicPr>
                <p:blipFill>
                  <a:blip r:embed="rId2"/>
                  <a:stretch/>
                </p:blipFill>
                <p:spPr>
                  <a:xfrm>
                    <a:off x="52560" y="1941480"/>
                    <a:ext cx="9038880" cy="2975040"/>
                  </a:xfrm>
                  <a:prstGeom prst="rect">
                    <a:avLst/>
                  </a:prstGeom>
                  <a:ln w="0">
                    <a:noFill/>
                  </a:ln>
                </p:spPr>
              </p:pic>
            </p:oleObj>
          </a:graphicData>
        </a:graphic>
      </p:graphicFrame>
      <p:sp>
        <p:nvSpPr>
          <p:cNvPr id="128" name="Line 117"/>
          <p:cNvSpPr/>
          <p:nvPr/>
        </p:nvSpPr>
        <p:spPr>
          <a:xfrm>
            <a:off x="52560" y="1916280"/>
            <a:ext cx="903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Vantagens competitivas estruturais</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 plano das vantagens competitivas estruturais, o Brasil é rico em recursos naturais, tem a maior fronteira agrícola aberta do mundo, com pelo menos mais 100 milhões de ha agricultáveis e úmidos. O que nos coloca na esteira do “projeto chinês” de especialização em leguminosas. Isto não interessa à regiã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olíticas Setoriais</a:t>
            </a:r>
            <a:endParaRPr b="0" lang="en-US"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s políticas setorias são determinadas, essencialmente, pelo jogo de interesses internos na produção agropecuária</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o longo dos últimos anos, o padrão de especialização produtiva agropecuária do Brasil vem se alterando significativamente.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s gráficos abaixo revelam este quad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dities by country Selected area: Sort b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4" name=""/>
          <p:cNvGraphicFramePr/>
          <p:nvPr/>
        </p:nvGraphicFramePr>
        <p:xfrm>
          <a:off x="1523880" y="1692360"/>
          <a:ext cx="6096240" cy="3475080"/>
        </p:xfrm>
        <a:graphic>
          <a:graphicData uri="http://schemas.openxmlformats.org/drawingml/2006/table">
            <a:tbl>
              <a:tblPr/>
              <a:tblGrid>
                <a:gridCol w="1524240"/>
                <a:gridCol w="1523880"/>
                <a:gridCol w="1523880"/>
                <a:gridCol w="1524240"/>
              </a:tblGrid>
              <a:tr h="3682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mmodities by country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lected area: </a:t>
                      </a:r>
                      <a:endParaRPr b="0" lang="en-US" sz="1800" spc="-1" strike="noStrike">
                        <a:solidFill>
                          <a:srgbClr val="000000"/>
                        </a:solidFill>
                        <a:latin typeface="Arial"/>
                      </a:endParaRPr>
                    </a:p>
                  </a:txBody>
                  <a:tcPr anchor="ctr" marL="90000" marR="90000">
                    <a:lnL>
                      <a:noFill/>
                    </a:lnL>
                    <a:lnR>
                      <a:noFill/>
                    </a:lnR>
                    <a:lnT>
                      <a:noFill/>
                    </a:lnT>
                    <a:lnB>
                      <a:noFill/>
                    </a:lnB>
                    <a:noFill/>
                  </a:tcPr>
                </a:tc>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ort by: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pic>
        <p:nvPicPr>
          <p:cNvPr id="135" name="Picture 4" descr="http://faostat.fao.org/DesktopModules/Faostat/Images/T20/ChartPic_000125.png?dcf270c0-5cc5-4976-91b2-8f37898198f0"/>
          <p:cNvPicPr/>
          <p:nvPr/>
        </p:nvPicPr>
        <p:blipFill>
          <a:blip r:embed="rId1"/>
          <a:stretch/>
        </p:blipFill>
        <p:spPr>
          <a:xfrm>
            <a:off x="457200" y="857160"/>
            <a:ext cx="8516880" cy="526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74680"/>
            <a:ext cx="8229600" cy="5851440"/>
          </a:xfrm>
          <a:prstGeom prst="rect">
            <a:avLst/>
          </a:prstGeom>
          <a:noFill/>
          <a:ln w="0">
            <a:noFill/>
          </a:ln>
        </p:spPr>
        <p:txBody>
          <a:bodyPr anchor="t">
            <a:normAutofit fontScale="97000"/>
          </a:bodyPr>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O que este mapa traduz é a baixa capacidade de incorporação de mão-de-obra local de parcela expressiva das cadeias produtivas de base agrícola no território gaúcho.</a:t>
            </a:r>
            <a:endParaRPr b="0" lang="en-US" sz="2600" spc="-1" strike="noStrike">
              <a:solidFill>
                <a:srgbClr val="000000"/>
              </a:solidFill>
              <a:latin typeface="Arial"/>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De forma particular, a coloração pastel da maior parte da região noroeste revela o esgotamento da opção soji-triticola da região noroeste. E isto não é gratuito.</a:t>
            </a:r>
            <a:endParaRPr b="0" lang="en-US" sz="2600" spc="-1" strike="noStrike">
              <a:solidFill>
                <a:srgbClr val="000000"/>
              </a:solidFill>
              <a:latin typeface="Arial"/>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 margem de rentabilidade por ha da produção de cereais e leguminosas é relativamente baixo. O que implica dizer, que esta é uma opção de especialização produtiva incompatível com a sustentação da renda e da dinâmica rural e urbana de uma região caracterizada pela pequena propriedade fundiári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37" name=""/>
          <p:cNvGraphicFramePr/>
          <p:nvPr/>
        </p:nvGraphicFramePr>
        <p:xfrm>
          <a:off x="457200" y="274680"/>
          <a:ext cx="8229600" cy="6083280"/>
        </p:xfrm>
        <a:graphic>
          <a:graphicData uri="http://schemas.openxmlformats.org/drawingml/2006/table">
            <a:tbl>
              <a:tblPr/>
              <a:tblGrid>
                <a:gridCol w="1295280"/>
                <a:gridCol w="3533760"/>
                <a:gridCol w="1808280"/>
                <a:gridCol w="1592280"/>
              </a:tblGrid>
              <a:tr h="438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Arial"/>
                        </a:rPr>
                        <a:t>Rank</a:t>
                      </a:r>
                      <a:endParaRPr b="0" lang="en-US" sz="1100" spc="-1" strike="noStrike">
                        <a:solidFill>
                          <a:srgbClr val="000000"/>
                        </a:solidFill>
                        <a:latin typeface="Arial"/>
                      </a:endParaRPr>
                    </a:p>
                  </a:txBody>
                  <a:tcPr anchor="b" marL="9360" marR="9360">
                    <a:lnL>
                      <a:noFill/>
                    </a:lnL>
                    <a:lnR>
                      <a:noFill/>
                    </a:lnR>
                    <a:lnT>
                      <a:noFill/>
                    </a:lnT>
                    <a:lnB>
                      <a:noFill/>
                    </a:lnB>
                    <a:solidFill>
                      <a:srgbClr val="bcd1d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Arial"/>
                        </a:rPr>
                        <a:t>Commodity</a:t>
                      </a:r>
                      <a:endParaRPr b="0" lang="en-US" sz="1100" spc="-1" strike="noStrike">
                        <a:solidFill>
                          <a:srgbClr val="000000"/>
                        </a:solidFill>
                        <a:latin typeface="Arial"/>
                      </a:endParaRPr>
                    </a:p>
                  </a:txBody>
                  <a:tcPr anchor="b" marL="9360" marR="9360">
                    <a:lnL>
                      <a:noFill/>
                    </a:lnL>
                    <a:lnR>
                      <a:noFill/>
                    </a:lnR>
                    <a:lnT>
                      <a:noFill/>
                    </a:lnT>
                    <a:lnB>
                      <a:noFill/>
                    </a:lnB>
                    <a:solidFill>
                      <a:srgbClr val="bcd1d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Arial"/>
                        </a:rPr>
                        <a:t>Production (Int $1000)</a:t>
                      </a:r>
                      <a:endParaRPr b="0" lang="en-US" sz="1100" spc="-1" strike="noStrike">
                        <a:solidFill>
                          <a:srgbClr val="000000"/>
                        </a:solidFill>
                        <a:latin typeface="Arial"/>
                      </a:endParaRPr>
                    </a:p>
                  </a:txBody>
                  <a:tcPr anchor="b" marL="9360" marR="9360">
                    <a:lnL>
                      <a:noFill/>
                    </a:lnL>
                    <a:lnR>
                      <a:noFill/>
                    </a:lnR>
                    <a:lnT>
                      <a:noFill/>
                    </a:lnT>
                    <a:lnB>
                      <a:noFill/>
                    </a:lnB>
                    <a:solidFill>
                      <a:srgbClr val="bcd1d8"/>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Arial"/>
                        </a:rPr>
                        <a:t>Production (MT)</a:t>
                      </a:r>
                      <a:endParaRPr b="0" lang="en-US" sz="1100" spc="-1" strike="noStrike">
                        <a:solidFill>
                          <a:srgbClr val="000000"/>
                        </a:solidFill>
                        <a:latin typeface="Arial"/>
                      </a:endParaRPr>
                    </a:p>
                  </a:txBody>
                  <a:tcPr anchor="b" marL="9360" marR="9360">
                    <a:lnL>
                      <a:noFill/>
                    </a:lnL>
                    <a:lnR>
                      <a:noFill/>
                    </a:lnR>
                    <a:lnT>
                      <a:noFill/>
                    </a:lnT>
                    <a:lnB>
                      <a:noFill/>
                    </a:lnB>
                    <a:solidFill>
                      <a:srgbClr val="bcd1d8"/>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Indigenous Cattle Meat</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3.867.9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6.705.041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2</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Soybean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2.287.5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57.857.2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3</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Sugar cane</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1.375.88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549.707.328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4</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Indigenous Chicken Meat</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0.929.36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9.370.0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5</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Cow milk, whole, fresh</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7.093.812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6.944.064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6</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Orange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3.283.702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8.685.0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7</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Rice, paddy</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309.714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1.060.7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8</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Indigenous Pigmeat</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068.83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042.986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9</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Cotton lint</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013.801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356.57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0</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Coffee, green</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838.701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249.01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1</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Tobacco, unmanufactured</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656.722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908.679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1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2</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Maize</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510.189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52.112.2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3</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Beans, dry</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314.878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3.169.36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4</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Hen eggs, in shell</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197.523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779.19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5</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Banana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011.586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7.098.35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6</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Cassava</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956.279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6.541.20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7</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Tomatoe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812.961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3.431.23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8</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Grape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636.266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1.371.56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19</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Wheat</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594.643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4.114.060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r h="282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20</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6699"/>
                          </a:solidFill>
                          <a:latin typeface="Arial"/>
                        </a:rPr>
                        <a:t>Pineapples</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517.592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333333"/>
                          </a:solidFill>
                          <a:latin typeface="Calibri"/>
                        </a:rPr>
                        <a:t>           </a:t>
                      </a:r>
                      <a:r>
                        <a:rPr b="1" lang="pt-BR" sz="1100" spc="-1" strike="noStrike">
                          <a:solidFill>
                            <a:srgbClr val="333333"/>
                          </a:solidFill>
                          <a:latin typeface="Calibri"/>
                        </a:rPr>
                        <a:t>2.676.417 </a:t>
                      </a:r>
                      <a:endParaRPr b="0" lang="en-US" sz="1100" spc="-1" strike="noStrike">
                        <a:solidFill>
                          <a:srgbClr val="000000"/>
                        </a:solidFill>
                        <a:latin typeface="Arial"/>
                      </a:endParaRPr>
                    </a:p>
                  </a:txBody>
                  <a:tcPr anchor="ctr" marL="9360" marR="9360">
                    <a:lnL>
                      <a:noFill/>
                    </a:lnL>
                    <a:lnR>
                      <a:noFill/>
                    </a:lnR>
                    <a:lnT>
                      <a:noFill/>
                    </a:lnT>
                    <a:lnB>
                      <a:noFill/>
                    </a:lnB>
                    <a:solidFill>
                      <a:srgbClr val="f7f7f7"/>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274680"/>
            <a:ext cx="8229600" cy="5851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primeiro a observar é a expressiva concentração da produção agropecuária nacional em alguns poucos produto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as, de forma especial vale observar a importância relativa do setor de carne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ta importância é salientada pelo relatório da OCDE-FAO supracitado, segundo o qual “até 2018 espera-se que o Brasil venha a se tornar responsável por 1/3 das vendas internacionais de carne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CDE-FAO, p.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74680"/>
            <a:ext cx="8229600" cy="5851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r oposição, a maior parte da expansão da produção de lácteos no mundo deve ser divida entre Índia e China (que já ocupam, hoje, o segundo e o terceiro lugar na produção mundial) e o Paquistã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te prognóstico não nega espaço para o crescimento da produção de lácteos no Mercosul. Pelo contrário. Mas, segundo o relatório já referido, parcela expressiva desta produção ampliada deve se destina ao mercado inter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274680"/>
            <a:ext cx="8229600" cy="5851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 aqui chegamos ao quarto fator que deve ser levado em consideração na determinação de uma estratégia de reconversão produtiva: a dinâmica esperada do mercado interno.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mercado interno brasileiro para o leite promete ser bastante dinâmico. O déficit alimentar da população é expressivo, e as políticas redistributivas e assistencialistas em curso devem ser mantidas nos próximos a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274680"/>
            <a:ext cx="8229600" cy="5851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rém, tendo em vista uma situação cambial que se projeta desfavorável e a amplitude do território nacional apto à produção leiteira, é preciso estar preparado para a adoção de políticas agressivas e concertadas de elevação da produtividade e da competitividade dos fornecedores regionais e das indústrias beneficiado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274680"/>
            <a:ext cx="8229600" cy="5851440"/>
          </a:xfrm>
          <a:prstGeom prst="rect">
            <a:avLst/>
          </a:prstGeom>
          <a:noFill/>
          <a:ln w="0">
            <a:noFill/>
          </a:ln>
        </p:spPr>
        <p:txBody>
          <a:bodyPr anchor="t">
            <a:normAutofit fontScale="91000"/>
          </a:bodyPr>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r fim, e com vistas a avaliar a consistência de um projeto de reconversão produtiva regional assentada na adoção da produção de carne de porco e de lácteos em substituição ao binômio trigo-soja, apresentamos a balança comercial dos principais traders mundiais no mercado de alimentos. </a:t>
            </a:r>
            <a:endParaRPr b="0" lang="en-US" sz="3200" spc="-1" strike="noStrike">
              <a:solidFill>
                <a:srgbClr val="000000"/>
              </a:solidFill>
              <a:latin typeface="Arial"/>
            </a:endParaRPr>
          </a:p>
          <a:p>
            <a:pPr marL="312120" indent="-31212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Vale observar que a situação deficitária na conta “carne de porco” é estrutural, envolvendo inclusive países que apresentam elevadíssima produtividade agropecuária como a Argentina e Austrál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179280" y="817560"/>
          <a:ext cx="8785440" cy="5776920"/>
        </p:xfrm>
        <a:graphic>
          <a:graphicData uri="http://schemas.openxmlformats.org/drawingml/2006/table">
            <a:tbl>
              <a:tblPr/>
              <a:tblGrid>
                <a:gridCol w="2014560"/>
                <a:gridCol w="1074960"/>
                <a:gridCol w="1155600"/>
                <a:gridCol w="1155600"/>
                <a:gridCol w="1074960"/>
                <a:gridCol w="1153800"/>
                <a:gridCol w="1155960"/>
              </a:tblGrid>
              <a:tr h="390600">
                <a:tc rowSpan="2">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items</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Argentina</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Brazil</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Import</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Export</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Saldo</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Import</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Export</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Saldo</a:t>
                      </a:r>
                      <a:endParaRPr b="0" lang="en-US" sz="11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Produtos Agrícolas em geral</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178.448,75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0.171.671,75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8.993.223,00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380.259,00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33.879.105,75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9.498.846,75 </a:t>
                      </a:r>
                      <a:endParaRPr b="0" lang="en-US" sz="11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Manteiga</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89,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6.341,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6.252,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271,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412,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141,50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Leite Cond, em pó e fresco</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8.202,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69.281,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61.079,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10.682,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32.396,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1.714,75 </a:t>
                      </a:r>
                      <a:endParaRPr b="0" lang="en-US" sz="11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Laticínios e Ovos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5.581,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641.850,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626.268,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46.304,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90.873,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4.569,50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Queijos e Coalhadas</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7.062,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35.180,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28.117,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6.392,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2.505,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6.112,75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Carnes em Geral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62.606,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578.158,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515.551,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98.234,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8.467.010,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8.368.776,75 </a:t>
                      </a:r>
                      <a:endParaRPr b="0" lang="en-US" sz="1100" spc="-1" strike="noStrike">
                        <a:solidFill>
                          <a:srgbClr val="000000"/>
                        </a:solidFill>
                        <a:latin typeface="Arial"/>
                      </a:endParaRPr>
                    </a:p>
                  </a:txBody>
                  <a:tcPr anchor="b" marL="90000" marR="90000">
                    <a:lnL>
                      <a:noFill/>
                    </a:lnL>
                    <a:lnR>
                      <a:noFill/>
                    </a:lnR>
                    <a:lnT>
                      <a:noFill/>
                    </a:lnT>
                    <a:lnB>
                      <a:noFill/>
                    </a:lnB>
                    <a:noFill/>
                  </a:tcPr>
                </a:tc>
              </a:tr>
              <a:tr h="39024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Carne Bovina em geral</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5.168,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264.126,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258.958,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78.843,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3.368.511,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3.289.668,50 </a:t>
                      </a:r>
                      <a:endParaRPr b="0" lang="en-US" sz="1100" spc="-1" strike="noStrike">
                        <a:solidFill>
                          <a:srgbClr val="000000"/>
                        </a:solidFill>
                        <a:latin typeface="Arial"/>
                      </a:endParaRPr>
                    </a:p>
                  </a:txBody>
                  <a:tcPr anchor="b" marL="90000" marR="90000">
                    <a:lnL>
                      <a:noFill/>
                    </a:lnL>
                    <a:lnR>
                      <a:noFill/>
                    </a:lnR>
                    <a:lnT>
                      <a:noFill/>
                    </a:lnT>
                    <a:lnB>
                      <a:noFill/>
                    </a:lnB>
                    <a:noFill/>
                  </a:tcPr>
                </a:tc>
              </a:tr>
              <a:tr h="31428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Carne Suína</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43.204,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41,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ff0000"/>
                          </a:solidFill>
                          <a:latin typeface="Calibri"/>
                        </a:rPr>
                        <a:t>(43.163,00)</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84,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1.004.897,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1.004.813,00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Carne de Frango (Fresh)</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4.491,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115.926,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111.435,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750,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3.400.698,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3.399.947,75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Soja</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76.894,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312.488,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035.594,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45.477,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5.778.189,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5.732.712,25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Cereais (Arroz, Trigo, etc)</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4.416,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3.354.949,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3.340.533,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394.747,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919.461,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0000"/>
                          </a:solidFill>
                          <a:latin typeface="Calibri"/>
                        </a:rPr>
                        <a:t>(475.286,75)</a:t>
                      </a:r>
                      <a:endParaRPr b="0" lang="en-US" sz="11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Frutas e Vegetais</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52.164,0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730.160,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577.996,7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660.820,50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378.245,25 </a:t>
                      </a:r>
                      <a:endParaRPr b="0" lang="en-US" sz="11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717.424,75 </a:t>
                      </a:r>
                      <a:endParaRPr b="0" lang="en-US" sz="11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Laranjas e frutas cítricas</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58,00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01.375,75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01.117,75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1.209,25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2.501,25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21.292,00 </a:t>
                      </a:r>
                      <a:endParaRPr b="0" lang="en-US" sz="11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4" name="Rectangle 244"/>
          <p:cNvSpPr/>
          <p:nvPr/>
        </p:nvSpPr>
        <p:spPr>
          <a:xfrm>
            <a:off x="-36360" y="-243000"/>
            <a:ext cx="9650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íses selecionados: Argentina e Bras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9"/>
          <p:cNvSpPr/>
          <p:nvPr/>
        </p:nvSpPr>
        <p:spPr>
          <a:xfrm>
            <a:off x="-36360" y="-243000"/>
            <a:ext cx="9650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íses selecionados: </a:t>
            </a:r>
            <a:r>
              <a:rPr b="1" lang="pt-BR" sz="3200" spc="-1" strike="noStrike">
                <a:solidFill>
                  <a:srgbClr val="000000"/>
                </a:solidFill>
                <a:latin typeface="Arial"/>
              </a:rPr>
              <a:t>EUA, França e Alemanha</a:t>
            </a:r>
            <a:endParaRPr b="0" lang="en-US" sz="3200" spc="-1" strike="noStrike">
              <a:solidFill>
                <a:srgbClr val="000000"/>
              </a:solidFill>
              <a:latin typeface="Arial"/>
            </a:endParaRPr>
          </a:p>
        </p:txBody>
      </p:sp>
      <p:graphicFrame>
        <p:nvGraphicFramePr>
          <p:cNvPr id="146" name=""/>
          <p:cNvGraphicFramePr/>
          <p:nvPr/>
        </p:nvGraphicFramePr>
        <p:xfrm>
          <a:off x="0" y="673200"/>
          <a:ext cx="9144000" cy="5851440"/>
        </p:xfrm>
        <a:graphic>
          <a:graphicData uri="http://schemas.openxmlformats.org/drawingml/2006/table">
            <a:tbl>
              <a:tblPr/>
              <a:tblGrid>
                <a:gridCol w="1379520"/>
                <a:gridCol w="857160"/>
                <a:gridCol w="858960"/>
                <a:gridCol w="857160"/>
                <a:gridCol w="857160"/>
                <a:gridCol w="857520"/>
                <a:gridCol w="857160"/>
                <a:gridCol w="857160"/>
                <a:gridCol w="857160"/>
                <a:gridCol w="905040"/>
              </a:tblGrid>
              <a:tr h="390600">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tems</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United States of America</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France</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Germany</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Prod. Agr. em geral</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5.689.918,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3.324.897,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634.978,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7.947.245,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0.760.418,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813.173,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7.845.235,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6.644.222,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11.201.013,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0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Manteig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35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5.35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6.001,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40.17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4.73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75.442,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01.88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1.83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00.047,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eite Cond, pó e fresco</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8.21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83.89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85.68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44.05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73.67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29.62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02.31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512.24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09.926,50 </a:t>
                      </a:r>
                      <a:endParaRPr b="0" lang="en-US" sz="900" spc="-1" strike="noStrike">
                        <a:solidFill>
                          <a:srgbClr val="000000"/>
                        </a:solidFill>
                        <a:latin typeface="Arial"/>
                      </a:endParaRPr>
                    </a:p>
                  </a:txBody>
                  <a:tcPr anchor="b" marL="90000" marR="90000">
                    <a:lnL>
                      <a:noFill/>
                    </a:lnL>
                    <a:lnR>
                      <a:noFill/>
                    </a:lnR>
                    <a:lnT>
                      <a:noFill/>
                    </a:lnT>
                    <a:lnB>
                      <a:noFill/>
                    </a:lnB>
                    <a:noFill/>
                  </a:tcPr>
                </a:tc>
              </a:tr>
              <a:tr h="389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ticínios e Ovos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67.73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17.92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0.186,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16.68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552.32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835.64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35.75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879.06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43.305,75 </a:t>
                      </a:r>
                      <a:endParaRPr b="0" lang="en-US" sz="900" spc="-1" strike="noStrike">
                        <a:solidFill>
                          <a:srgbClr val="000000"/>
                        </a:solidFill>
                        <a:latin typeface="Arial"/>
                      </a:endParaRPr>
                    </a:p>
                  </a:txBody>
                  <a:tcPr anchor="b" marL="90000" marR="90000">
                    <a:lnL>
                      <a:noFill/>
                    </a:lnL>
                    <a:lnR>
                      <a:noFill/>
                    </a:lnR>
                    <a:lnT>
                      <a:noFill/>
                    </a:lnT>
                    <a:lnB>
                      <a:noFill/>
                    </a:lnB>
                    <a:noFill/>
                  </a:tcPr>
                </a:tc>
              </a:tr>
              <a:tr h="390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Queijos e Coalhada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44.24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1.45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82.786,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2.50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12.88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00.378,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34.51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895.29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0.780,25 </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s em Geral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555.56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097.24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41.68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582.166,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213.22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68.937,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779.05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050.92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1.868,75 </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Bovina em geral</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499.27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74.03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2.225.239,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33.34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31.57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01.768,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20.74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94.88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74.134,25 </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arne Suín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907.18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2.111.59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204.41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805.28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989.46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84.18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927.82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2.100.92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73.098,75 </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de Frango (Fresh)</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4.60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99.43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14.82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64.09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37.59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73.49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54.19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0.07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94.128,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Soj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9.35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88.80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19.44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6.75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16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5.587,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83.04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18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73.859,0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Times New Roman"/>
                        </a:rPr>
                        <a:t>Cereais (Arroz, Trigo, etc)</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89.73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865.40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675.67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87.03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469.39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782.36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63.88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886.44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22.569,00 </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Frutas e Vegetai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381.35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239.34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4.142.007,2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131.66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184.86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3.946.805,5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823.00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244.884,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10.578.122,25)</a:t>
                      </a:r>
                      <a:endParaRPr b="0" lang="en-US" sz="8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ranjas e frutas cítricas</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35.092,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72.445,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7.35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92.061,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7.409,7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34.651,50)</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36.627,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3.481,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03.145,7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34920" y="-243000"/>
            <a:ext cx="9109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íses selecionados: China, índia e Japão</a:t>
            </a:r>
            <a:endParaRPr b="0" lang="en-US" sz="3200" spc="-1" strike="noStrike">
              <a:solidFill>
                <a:srgbClr val="000000"/>
              </a:solidFill>
              <a:latin typeface="Arial"/>
            </a:endParaRPr>
          </a:p>
        </p:txBody>
      </p:sp>
      <p:graphicFrame>
        <p:nvGraphicFramePr>
          <p:cNvPr id="148" name=""/>
          <p:cNvGraphicFramePr/>
          <p:nvPr/>
        </p:nvGraphicFramePr>
        <p:xfrm>
          <a:off x="34920" y="673200"/>
          <a:ext cx="9074160" cy="5851440"/>
        </p:xfrm>
        <a:graphic>
          <a:graphicData uri="http://schemas.openxmlformats.org/drawingml/2006/table">
            <a:tbl>
              <a:tblPr/>
              <a:tblGrid>
                <a:gridCol w="1387440"/>
                <a:gridCol w="863640"/>
                <a:gridCol w="861840"/>
                <a:gridCol w="909720"/>
                <a:gridCol w="804960"/>
                <a:gridCol w="863640"/>
                <a:gridCol w="804960"/>
                <a:gridCol w="861840"/>
                <a:gridCol w="806400"/>
                <a:gridCol w="909720"/>
              </a:tblGrid>
              <a:tr h="390600">
                <a:tc row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tems</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hina</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ndia</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Japan</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Prod. Agr. em geral</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8.040.133,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010.320,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a:t>
                      </a:r>
                      <a:r>
                        <a:rPr b="0" lang="pt-BR" sz="800" spc="-1" strike="noStrike">
                          <a:solidFill>
                            <a:srgbClr val="ff0000"/>
                          </a:solidFill>
                          <a:latin typeface="Times New Roman"/>
                          <a:ea typeface="Times New Roman"/>
                        </a:rPr>
                        <a:t>16.029.813,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331.301,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020.840,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689.539,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3.100.614,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32.212,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a:t>
                      </a:r>
                      <a:r>
                        <a:rPr b="0" lang="pt-BR" sz="800" spc="-1" strike="noStrike">
                          <a:solidFill>
                            <a:srgbClr val="ff0000"/>
                          </a:solidFill>
                          <a:latin typeface="Times New Roman"/>
                          <a:ea typeface="Times New Roman"/>
                        </a:rPr>
                        <a:t>41.068.402,0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Manteig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10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84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0.261,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16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53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37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3.69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3.549,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eite Cond, pó e fresco</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65.988,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4.66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51.324,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86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3.64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8.78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83.23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948,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75.289,50)</a:t>
                      </a:r>
                      <a:endParaRPr b="0" lang="en-US" sz="900" spc="-1" strike="noStrike">
                        <a:solidFill>
                          <a:srgbClr val="000000"/>
                        </a:solidFill>
                        <a:latin typeface="Arial"/>
                      </a:endParaRPr>
                    </a:p>
                  </a:txBody>
                  <a:tcPr anchor="b" marL="90000" marR="90000">
                    <a:lnL>
                      <a:noFill/>
                    </a:lnL>
                    <a:lnR>
                      <a:noFill/>
                    </a:lnR>
                    <a:lnT>
                      <a:noFill/>
                    </a:lnT>
                    <a:lnB>
                      <a:noFill/>
                    </a:lnB>
                    <a:noFill/>
                  </a:tcPr>
                </a:tc>
              </a:tr>
              <a:tr h="389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ticínios e Ovos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36.51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9.75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36.756,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84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9.32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4.47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9.71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27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07.432,75)</a:t>
                      </a:r>
                      <a:endParaRPr b="0" lang="en-US" sz="900" spc="-1" strike="noStrike">
                        <a:solidFill>
                          <a:srgbClr val="000000"/>
                        </a:solidFill>
                        <a:latin typeface="Arial"/>
                      </a:endParaRPr>
                    </a:p>
                  </a:txBody>
                  <a:tcPr anchor="b" marL="90000" marR="90000">
                    <a:lnL>
                      <a:noFill/>
                    </a:lnL>
                    <a:lnR>
                      <a:noFill/>
                    </a:lnR>
                    <a:lnT>
                      <a:noFill/>
                    </a:lnT>
                    <a:lnB>
                      <a:noFill/>
                    </a:lnB>
                    <a:noFill/>
                  </a:tcPr>
                </a:tc>
              </a:tr>
              <a:tr h="39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Queijos e Coalhada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4.84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5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93.089,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7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19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9.629,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7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46.857,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s em Geral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86.40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37.62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51.21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0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59.79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58.48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002.68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27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985.415,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Bovina em geral</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9.83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7.15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62.685,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32.66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32.55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50.58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28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039.294,75)</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arne Suín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97.40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387.81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290.409,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6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99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83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3.961.26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56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3.960.691,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de Frango (Fresh)</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5.93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1.17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54.757,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7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4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76.75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21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73.547,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Soj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160.38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4.42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995.961,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6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3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36.79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7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535.517,7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Times New Roman"/>
                        </a:rPr>
                        <a:t>Cereais (Arroz, Trigo, etc)</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24.68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11.22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13.458,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94.63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36.86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42.22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09.77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1.09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228.683,00)</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Frutas e Vegetai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86.83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664.76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377.929,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73.07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51.14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21.927,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735.51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6.84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588.661,0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ranjas e frutas cítricas</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1.551,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3.726,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2.175,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89,7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088,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98,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9.56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419,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5.144,2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0" y="-162000"/>
            <a:ext cx="10117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es selecionados: </a:t>
            </a:r>
            <a:r>
              <a:rPr b="1" lang="pt-BR" sz="2800" spc="-1" strike="noStrike">
                <a:solidFill>
                  <a:srgbClr val="000000"/>
                </a:solidFill>
                <a:latin typeface="Arial"/>
              </a:rPr>
              <a:t>Reino Unido, Japão e Rússia</a:t>
            </a:r>
            <a:endParaRPr b="0" lang="en-US" sz="2800" spc="-1" strike="noStrike">
              <a:solidFill>
                <a:srgbClr val="000000"/>
              </a:solidFill>
              <a:latin typeface="Arial"/>
            </a:endParaRPr>
          </a:p>
        </p:txBody>
      </p:sp>
      <p:graphicFrame>
        <p:nvGraphicFramePr>
          <p:cNvPr id="150" name=""/>
          <p:cNvGraphicFramePr/>
          <p:nvPr/>
        </p:nvGraphicFramePr>
        <p:xfrm>
          <a:off x="0" y="746280"/>
          <a:ext cx="9144000" cy="5851440"/>
        </p:xfrm>
        <a:graphic>
          <a:graphicData uri="http://schemas.openxmlformats.org/drawingml/2006/table">
            <a:tbl>
              <a:tblPr/>
              <a:tblGrid>
                <a:gridCol w="1382760"/>
                <a:gridCol w="858960"/>
                <a:gridCol w="860400"/>
                <a:gridCol w="904680"/>
                <a:gridCol w="860400"/>
                <a:gridCol w="801720"/>
                <a:gridCol w="906480"/>
                <a:gridCol w="858960"/>
                <a:gridCol w="803160"/>
                <a:gridCol w="906480"/>
              </a:tblGrid>
              <a:tr h="390240">
                <a:tc row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tems</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United Kingdom</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Japan</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Russian Federation</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91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Prod. Agr. em geral</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5.930.664,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305.944,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24.624.720,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3.100.614,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32.212,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41.068.402,0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915.948,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437.656,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0000"/>
                          </a:solidFill>
                          <a:latin typeface="Times New Roman"/>
                          <a:ea typeface="Times New Roman"/>
                        </a:rPr>
                        <a:t>(13.478.291,7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Manteig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6.01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0.92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15.090,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3.69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3.549,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1.40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4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65.761,0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eite Cond, pó e fresco</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6.79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0.25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537,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83.23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948,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75.289,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0.90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6.21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693,75)</a:t>
                      </a:r>
                      <a:endParaRPr b="0" lang="en-US" sz="900" spc="-1" strike="noStrike">
                        <a:solidFill>
                          <a:srgbClr val="000000"/>
                        </a:solidFill>
                        <a:latin typeface="Arial"/>
                      </a:endParaRPr>
                    </a:p>
                  </a:txBody>
                  <a:tcPr anchor="b" marL="90000" marR="90000">
                    <a:lnL>
                      <a:noFill/>
                    </a:lnL>
                    <a:lnR>
                      <a:noFill/>
                    </a:lnR>
                    <a:lnT>
                      <a:noFill/>
                    </a:lnT>
                    <a:lnB>
                      <a:noFill/>
                    </a:lnB>
                    <a:noFill/>
                  </a:tcPr>
                </a:tc>
              </a:tr>
              <a:tr h="389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ticínios e Ovos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56.52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27.88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728.647,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9.71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27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07.432,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74.15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2.57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11.583,50)</a:t>
                      </a:r>
                      <a:endParaRPr b="0" lang="en-US" sz="900" spc="-1" strike="noStrike">
                        <a:solidFill>
                          <a:srgbClr val="000000"/>
                        </a:solidFill>
                        <a:latin typeface="Arial"/>
                      </a:endParaRPr>
                    </a:p>
                  </a:txBody>
                  <a:tcPr anchor="b" marL="90000" marR="90000">
                    <a:lnL>
                      <a:noFill/>
                    </a:lnL>
                    <a:lnR>
                      <a:noFill/>
                    </a:lnR>
                    <a:lnT>
                      <a:noFill/>
                    </a:lnT>
                    <a:lnB>
                      <a:noFill/>
                    </a:lnB>
                    <a:noFill/>
                  </a:tcPr>
                </a:tc>
              </a:tr>
              <a:tr h="39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Queijos e Coalhada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32.956,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17.31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215.642,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9.629,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7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46.857,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40.28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07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10.211,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s em Geral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132.90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96.99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735.913,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002.68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27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985.415,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651.56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5.99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595.568,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Bovina em geral</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00.88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8.56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52.318,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50.58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28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039.294,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56.58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9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246.383,75)</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arne Suín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135.57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78.88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956.690,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3.961.26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56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3.960.691,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120.02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2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1.119.900,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de Frango (Fresh)</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66.45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35.50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30.949,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76.75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21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73.547,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67.01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94,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66.518,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Soj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8.12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03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44.090,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36.79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7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535.517,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18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9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899,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Times New Roman"/>
                        </a:rPr>
                        <a:t>Cereais (Arroz, Trigo, etc)</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90.97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29.45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61.528,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09.77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1.09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228.683,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55.74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62.24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06.505,25 </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Frutas e Vegetai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717.86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21.88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9.695.980,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735.51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6.84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588.661,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351.19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4.16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147.029,0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ranjas e frutas cítricas</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04.328,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58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74.745,2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9.56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419,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5.144,2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55.570,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746,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48.824,2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274680"/>
            <a:ext cx="9144000" cy="5851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O que se pode fazer para contornar esta crise?</a:t>
            </a:r>
            <a:endParaRPr b="0" lang="en-US" sz="2600" spc="-1" strike="noStrike">
              <a:solidFill>
                <a:srgbClr val="000000"/>
              </a:solidFill>
              <a:latin typeface="Arial"/>
            </a:endParaRPr>
          </a:p>
          <a:p>
            <a:pPr marL="343080" indent="-343080" algn="just">
              <a:lnSpc>
                <a:spcPct val="8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e pretendemos enfrentá-la a partir de recursos endógenos – a partir do que temos aqui – será preciso partir de uma reconversão produtiva agropecuária.</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E é este o olhar que temos de dirigir ao mundo agora: para além da explosão da bolha financeira norte-americana, para onde vai o mundo?</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Em particular: para onde vai a produção e o mercado nacional e mundial de alimentos? </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o podemos nos (re)inserir dinamicamente no mundo em transformação? ....</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Responder a estas e outras perguntas passa por aprender com o pass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4920" y="-243000"/>
            <a:ext cx="9109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íses selecionados: </a:t>
            </a:r>
            <a:r>
              <a:rPr b="1" lang="pt-BR" sz="2800" spc="-1" strike="noStrike">
                <a:solidFill>
                  <a:srgbClr val="000000"/>
                </a:solidFill>
                <a:latin typeface="Arial"/>
              </a:rPr>
              <a:t>México, Africa do Sul e Coréia</a:t>
            </a:r>
            <a:endParaRPr b="0" lang="en-US" sz="2800" spc="-1" strike="noStrike">
              <a:solidFill>
                <a:srgbClr val="000000"/>
              </a:solidFill>
              <a:latin typeface="Arial"/>
            </a:endParaRPr>
          </a:p>
        </p:txBody>
      </p:sp>
      <p:graphicFrame>
        <p:nvGraphicFramePr>
          <p:cNvPr id="152" name=""/>
          <p:cNvGraphicFramePr/>
          <p:nvPr/>
        </p:nvGraphicFramePr>
        <p:xfrm>
          <a:off x="34920" y="673200"/>
          <a:ext cx="9074160" cy="5851440"/>
        </p:xfrm>
        <a:graphic>
          <a:graphicData uri="http://schemas.openxmlformats.org/drawingml/2006/table">
            <a:tbl>
              <a:tblPr/>
              <a:tblGrid>
                <a:gridCol w="1414440"/>
                <a:gridCol w="879480"/>
                <a:gridCol w="878040"/>
                <a:gridCol w="869760"/>
                <a:gridCol w="820800"/>
                <a:gridCol w="820800"/>
                <a:gridCol w="822240"/>
                <a:gridCol w="878040"/>
                <a:gridCol w="820440"/>
                <a:gridCol w="870120"/>
              </a:tblGrid>
              <a:tr h="390600">
                <a:tc rowSpan="2">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tems</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Mexic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outh Africa</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Korea, Republic of</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Prod. Agr. em geral</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646.621,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115.455,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531.166,25)</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219.160,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798.220,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79.060,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259.611,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340.518,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9.919.092,50)</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024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Manteig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7.56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2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4.938,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69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9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502,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306,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289,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eite Cond, pó e fresco</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35.82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4.78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681.040,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5.48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66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0.819,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4.75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48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6.262,25)</a:t>
                      </a:r>
                      <a:endParaRPr b="0" lang="en-US" sz="900" spc="-1" strike="noStrike">
                        <a:solidFill>
                          <a:srgbClr val="000000"/>
                        </a:solidFill>
                        <a:latin typeface="Arial"/>
                      </a:endParaRPr>
                    </a:p>
                  </a:txBody>
                  <a:tcPr anchor="b" marL="90000" marR="90000">
                    <a:lnL>
                      <a:noFill/>
                    </a:lnL>
                    <a:lnR>
                      <a:noFill/>
                    </a:lnR>
                    <a:lnT>
                      <a:noFill/>
                    </a:lnT>
                    <a:lnB>
                      <a:noFill/>
                    </a:lnB>
                    <a:noFill/>
                  </a:tcPr>
                </a:tc>
              </a:tr>
              <a:tr h="38916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ticínios e Ovos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74.49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8.68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05.814,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3.01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3.89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9.119,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88.40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65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78.757,75)</a:t>
                      </a:r>
                      <a:endParaRPr b="0" lang="en-US" sz="900" spc="-1" strike="noStrike">
                        <a:solidFill>
                          <a:srgbClr val="000000"/>
                        </a:solidFill>
                        <a:latin typeface="Arial"/>
                      </a:endParaRPr>
                    </a:p>
                  </a:txBody>
                  <a:tcPr anchor="b" marL="90000" marR="90000">
                    <a:lnL>
                      <a:noFill/>
                    </a:lnL>
                    <a:lnR>
                      <a:noFill/>
                    </a:lnR>
                    <a:lnT>
                      <a:noFill/>
                    </a:lnT>
                    <a:lnB>
                      <a:noFill/>
                    </a:lnB>
                    <a:noFill/>
                  </a:tcPr>
                </a:tc>
              </a:tr>
              <a:tr h="39024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Queijos e Coalhada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0.34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06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60.279,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04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10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4.935,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7.255,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9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46.163,7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s em Geral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547.694,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84.36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163.329,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1.492,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5.62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15.871,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23.91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9.72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584.190,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Bovina em geral</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19.13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2.64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96.489,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8.016,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22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791,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8.23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934,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44.299,75)</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arne Suín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526.48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92.98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333.491,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41.70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2.10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39.598,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632.26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3.77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618.494,2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de Frango (Fresh)</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45.90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1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45.297,5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4.01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8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48.629,2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22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15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0.071,5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Soj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40.26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0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39.455,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10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8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0.320,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01.94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01.870,00)</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ereais (Arroz, Trigo, etc)</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363.44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0.26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223.182,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9.12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9.504,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409.617,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76.02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94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269.076,75)</a:t>
                      </a:r>
                      <a:endParaRPr b="0" lang="en-US" sz="900" spc="-1" strike="noStrike">
                        <a:solidFill>
                          <a:srgbClr val="000000"/>
                        </a:solidFill>
                        <a:latin typeface="Arial"/>
                      </a:endParaRPr>
                    </a:p>
                  </a:txBody>
                  <a:tcPr anchor="b" marL="90000" marR="90000">
                    <a:lnL>
                      <a:noFill/>
                    </a:lnL>
                    <a:lnR>
                      <a:noFill/>
                    </a:lnR>
                    <a:lnT>
                      <a:noFill/>
                    </a:lnT>
                    <a:lnB>
                      <a:noFill/>
                    </a:lnB>
                    <a:noFill/>
                  </a:tcPr>
                </a:tc>
              </a:tr>
              <a:tr h="3888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Frutas e Vegetai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78.65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617.521,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238.86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2.20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663.00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50.80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18.04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35.81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982.222,75)</a:t>
                      </a:r>
                      <a:endParaRPr b="0" lang="en-US" sz="900" spc="-1" strike="noStrike">
                        <a:solidFill>
                          <a:srgbClr val="000000"/>
                        </a:solidFill>
                        <a:latin typeface="Arial"/>
                      </a:endParaRPr>
                    </a:p>
                  </a:txBody>
                  <a:tcPr anchor="b" marL="90000" marR="90000">
                    <a:lnL>
                      <a:noFill/>
                    </a:lnL>
                    <a:lnR>
                      <a:noFill/>
                    </a:lnR>
                    <a:lnT>
                      <a:noFill/>
                    </a:lnT>
                    <a:lnB>
                      <a:noFill/>
                    </a:lnB>
                    <a:noFill/>
                  </a:tcPr>
                </a:tc>
              </a:tr>
              <a:tr h="390600">
                <a:tc>
                  <a:txBody>
                    <a:bodyPr lIns="90000" rIns="90000" tIns="46800" bIns="46800" anchor="b">
                      <a:noAutofit/>
                    </a:bodyPr>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ranjas e frutas cítricas</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735,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427,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92,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81,7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68.041,7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67.060,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2.12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295,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7.827,7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6360" y="-387360"/>
            <a:ext cx="97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íses selecionados: </a:t>
            </a:r>
            <a:r>
              <a:rPr b="1" lang="pt-BR" sz="2400" spc="-1" strike="noStrike">
                <a:solidFill>
                  <a:srgbClr val="000000"/>
                </a:solidFill>
                <a:latin typeface="Arial"/>
              </a:rPr>
              <a:t>Nova Zelândia, Austrália e Paquistão</a:t>
            </a:r>
            <a:endParaRPr b="0" lang="en-US" sz="2400" spc="-1" strike="noStrike">
              <a:solidFill>
                <a:srgbClr val="000000"/>
              </a:solidFill>
              <a:latin typeface="Arial"/>
            </a:endParaRPr>
          </a:p>
        </p:txBody>
      </p:sp>
      <p:graphicFrame>
        <p:nvGraphicFramePr>
          <p:cNvPr id="154" name=""/>
          <p:cNvGraphicFramePr/>
          <p:nvPr/>
        </p:nvGraphicFramePr>
        <p:xfrm>
          <a:off x="0" y="600120"/>
          <a:ext cx="9144000" cy="5853240"/>
        </p:xfrm>
        <a:graphic>
          <a:graphicData uri="http://schemas.openxmlformats.org/drawingml/2006/table">
            <a:tbl>
              <a:tblPr/>
              <a:tblGrid>
                <a:gridCol w="1432080"/>
                <a:gridCol w="833400"/>
                <a:gridCol w="890640"/>
                <a:gridCol w="830160"/>
                <a:gridCol w="833400"/>
                <a:gridCol w="890640"/>
                <a:gridCol w="890640"/>
                <a:gridCol w="830160"/>
                <a:gridCol w="833400"/>
                <a:gridCol w="879480"/>
              </a:tblGrid>
              <a:tr h="291960">
                <a:tc row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tems</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New Zealand</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Australia</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Pakistan</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923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Im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Export</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Saldo</a:t>
                      </a:r>
                      <a:endParaRPr b="0" lang="en-US" sz="9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Prod. Agr. em geral</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32.081,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333.399,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201.318,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865.000,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582.479,7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717.479,25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74.965,5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50.748,00 </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24.217,50)</a:t>
                      </a:r>
                      <a:endParaRPr b="0" lang="en-US" sz="9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Manteig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47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19.76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16.29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895,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2.79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5.89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50,25)</a:t>
                      </a:r>
                      <a:endParaRPr b="0" lang="en-US" sz="900" spc="-1" strike="noStrike">
                        <a:solidFill>
                          <a:srgbClr val="000000"/>
                        </a:solidFill>
                        <a:latin typeface="Arial"/>
                      </a:endParaRPr>
                    </a:p>
                  </a:txBody>
                  <a:tcPr anchor="b" marL="90000" marR="90000">
                    <a:lnL>
                      <a:noFill/>
                    </a:lnL>
                    <a:lnR>
                      <a:noFill/>
                    </a:lnR>
                    <a:lnT>
                      <a:noFill/>
                    </a:lnT>
                    <a:lnB>
                      <a:noFill/>
                    </a:lnB>
                    <a:noFill/>
                  </a:tcPr>
                </a:tc>
              </a:tr>
              <a:tr h="66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eite Cond, pó e fresco</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227,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596.78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570.56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0.87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18.70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67.83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2.17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32.170,50)</a:t>
                      </a:r>
                      <a:endParaRPr b="0" lang="en-US" sz="900" spc="-1" strike="noStrike">
                        <a:solidFill>
                          <a:srgbClr val="000000"/>
                        </a:solidFill>
                        <a:latin typeface="Arial"/>
                      </a:endParaRPr>
                    </a:p>
                  </a:txBody>
                  <a:tcPr anchor="b" marL="90000" marR="90000">
                    <a:lnL>
                      <a:noFill/>
                    </a:lnL>
                    <a:lnR>
                      <a:noFill/>
                    </a:lnR>
                    <a:lnT>
                      <a:noFill/>
                    </a:lnT>
                    <a:lnB>
                      <a:noFill/>
                    </a:lnB>
                    <a:noFill/>
                  </a:tcPr>
                </a:tc>
              </a:tr>
              <a:tr h="292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ticínios e Ovos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0.947,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124.484,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073.537,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3.37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838.75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35.374,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5.766,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12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8.644,50)</a:t>
                      </a:r>
                      <a:endParaRPr b="0" lang="en-US" sz="900" spc="-1" strike="noStrike">
                        <a:solidFill>
                          <a:srgbClr val="000000"/>
                        </a:solidFill>
                        <a:latin typeface="Arial"/>
                      </a:endParaRPr>
                    </a:p>
                  </a:txBody>
                  <a:tcPr anchor="b" marL="90000" marR="90000">
                    <a:lnL>
                      <a:noFill/>
                    </a:lnL>
                    <a:lnR>
                      <a:no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Queijos e Coalhada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0.003,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03.785,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83.78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1.87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65.26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43.396,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6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657,50)</a:t>
                      </a:r>
                      <a:endParaRPr b="0" lang="en-US" sz="900" spc="-1" strike="noStrike">
                        <a:solidFill>
                          <a:srgbClr val="000000"/>
                        </a:solidFill>
                        <a:latin typeface="Arial"/>
                      </a:endParaRPr>
                    </a:p>
                  </a:txBody>
                  <a:tcPr anchor="b" marL="90000" marR="90000">
                    <a:lnL>
                      <a:noFill/>
                    </a:lnL>
                    <a:lnR>
                      <a:noFill/>
                    </a:lnR>
                    <a:lnT>
                      <a:noFill/>
                    </a:lnT>
                    <a:lnB>
                      <a:noFill/>
                    </a:lnB>
                    <a:noFill/>
                  </a:tcPr>
                </a:tc>
              </a:tr>
              <a:tr h="662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s em Geral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5.80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193.801,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77.99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02.81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239.140,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936.33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21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217,00)</a:t>
                      </a:r>
                      <a:endParaRPr b="0" lang="en-US" sz="900" spc="-1" strike="noStrike">
                        <a:solidFill>
                          <a:srgbClr val="000000"/>
                        </a:solidFill>
                        <a:latin typeface="Arial"/>
                      </a:endParaRPr>
                    </a:p>
                  </a:txBody>
                  <a:tcPr anchor="b" marL="90000" marR="90000">
                    <a:lnL>
                      <a:noFill/>
                    </a:lnL>
                    <a:lnR>
                      <a:no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Bovina em geral</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9.50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68.51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39.008,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6.08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653.87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627.79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93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74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800,25 </a:t>
                      </a:r>
                      <a:endParaRPr b="0" lang="en-US" sz="900" spc="-1" strike="noStrike">
                        <a:solidFill>
                          <a:srgbClr val="000000"/>
                        </a:solidFill>
                        <a:latin typeface="Arial"/>
                      </a:endParaRPr>
                    </a:p>
                  </a:txBody>
                  <a:tcPr anchor="b" marL="90000" marR="90000">
                    <a:lnL>
                      <a:noFill/>
                    </a:lnL>
                    <a:lnR>
                      <a:noFill/>
                    </a:lnR>
                    <a:lnT>
                      <a:noFill/>
                    </a:lnT>
                    <a:lnB>
                      <a:noFill/>
                    </a:lnB>
                    <a:noFill/>
                  </a:tcPr>
                </a:tc>
              </a:tr>
              <a:tr h="66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Carne Suín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67.560,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421,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67.138,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254.506,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112.982,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0000"/>
                          </a:solidFill>
                          <a:latin typeface="Times New Roman"/>
                          <a:ea typeface="Times New Roman"/>
                        </a:rPr>
                        <a:t>(141.524,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Times New Roman"/>
                          <a:ea typeface="Times New Roman"/>
                        </a:rPr>
                        <a:t>0,00 </a:t>
                      </a:r>
                      <a:endParaRPr b="0" lang="en-US" sz="900" spc="-1" strike="noStrike">
                        <a:solidFill>
                          <a:srgbClr val="000000"/>
                        </a:solidFill>
                        <a:latin typeface="Arial"/>
                      </a:endParaRPr>
                    </a:p>
                  </a:txBody>
                  <a:tcPr anchor="b" marL="90000" marR="90000">
                    <a:lnL>
                      <a:noFill/>
                    </a:lnL>
                    <a:lnR>
                      <a:noFill/>
                    </a:lnR>
                    <a:lnT>
                      <a:noFill/>
                    </a:lnT>
                    <a:lnB>
                      <a:noFill/>
                    </a:lnB>
                    <a:noFill/>
                  </a:tcPr>
                </a:tc>
              </a:tr>
              <a:tr h="660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arne de Frango (Fresh)</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90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90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4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662,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7.61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8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283,25)</a:t>
                      </a:r>
                      <a:endParaRPr b="0" lang="en-US" sz="900" spc="-1" strike="noStrike">
                        <a:solidFill>
                          <a:srgbClr val="000000"/>
                        </a:solidFill>
                        <a:latin typeface="Arial"/>
                      </a:endParaRPr>
                    </a:p>
                  </a:txBody>
                  <a:tcPr anchor="b" marL="90000" marR="90000">
                    <a:lnL>
                      <a:noFill/>
                    </a:lnL>
                    <a:lnR>
                      <a:noFill/>
                    </a:lnR>
                    <a:lnT>
                      <a:noFill/>
                    </a:lnT>
                    <a:lnB>
                      <a:noFill/>
                    </a:lnB>
                    <a:noFill/>
                  </a:tcPr>
                </a:tc>
              </a:tr>
              <a:tr h="292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Soja</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99,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593,75)</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23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492,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59,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7.04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7.043,00)</a:t>
                      </a:r>
                      <a:endParaRPr b="0" lang="en-US" sz="900" spc="-1" strike="noStrike">
                        <a:solidFill>
                          <a:srgbClr val="000000"/>
                        </a:solidFill>
                        <a:latin typeface="Arial"/>
                      </a:endParaRPr>
                    </a:p>
                  </a:txBody>
                  <a:tcPr anchor="b" marL="90000" marR="90000">
                    <a:lnL>
                      <a:noFill/>
                    </a:lnL>
                    <a:lnR>
                      <a:noFill/>
                    </a:lnR>
                    <a:lnT>
                      <a:noFill/>
                    </a:lnT>
                    <a:lnB>
                      <a:noFill/>
                    </a:lnB>
                    <a:noFill/>
                  </a:tcPr>
                </a:tc>
              </a:tr>
              <a:tr h="290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Cereais (Arroz, Trigo, etc)</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0.18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16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18.020,00)</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66.16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819.201,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753.038,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7.790,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70.790,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23.000,50 </a:t>
                      </a:r>
                      <a:endParaRPr b="0" lang="en-US" sz="900" spc="-1" strike="noStrike">
                        <a:solidFill>
                          <a:srgbClr val="000000"/>
                        </a:solidFill>
                        <a:latin typeface="Arial"/>
                      </a:endParaRPr>
                    </a:p>
                  </a:txBody>
                  <a:tcPr anchor="b" marL="90000" marR="90000">
                    <a:lnL>
                      <a:noFill/>
                    </a:lnL>
                    <a:lnR>
                      <a:no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Frutas e Vegetais</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78.023,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43.577,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865.553,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982.249,7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036.238,25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53.988,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75.094,5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90.833,00 </a:t>
                      </a:r>
                      <a:endParaRPr b="0" lang="en-US" sz="9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84.261,50)</a:t>
                      </a:r>
                      <a:endParaRPr b="0" lang="en-US" sz="900" spc="-1" strike="noStrike">
                        <a:solidFill>
                          <a:srgbClr val="000000"/>
                        </a:solidFill>
                        <a:latin typeface="Arial"/>
                      </a:endParaRPr>
                    </a:p>
                  </a:txBody>
                  <a:tcPr anchor="b" marL="90000" marR="90000">
                    <a:lnL>
                      <a:noFill/>
                    </a:lnL>
                    <a:lnR>
                      <a:noFill/>
                    </a:lnR>
                    <a:lnT>
                      <a:noFill/>
                    </a:lnT>
                    <a:lnB>
                      <a:noFill/>
                    </a:lnB>
                    <a:noFill/>
                  </a:tcPr>
                </a:tc>
              </a:tr>
              <a:tr h="292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Laranjas e frutas cítricas</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5.944,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2.524,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ff0000"/>
                          </a:solidFill>
                          <a:latin typeface="Times New Roman"/>
                          <a:ea typeface="Times New Roman"/>
                        </a:rPr>
                        <a:t>(13.419,75)</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4.832,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28.735,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13.903,25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13,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1.146,5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Times New Roman"/>
                          <a:ea typeface="Times New Roman"/>
                        </a:rPr>
                        <a:t>31.133,00 </a:t>
                      </a:r>
                      <a:endParaRPr b="0" lang="en-US" sz="9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500040" y="714240"/>
          <a:ext cx="7786800" cy="5505480"/>
        </p:xfrm>
        <a:graphic>
          <a:graphicData uri="http://schemas.openxmlformats.org/drawingml/2006/table">
            <a:tbl>
              <a:tblPr/>
              <a:tblGrid>
                <a:gridCol w="5122800"/>
                <a:gridCol w="2664000"/>
              </a:tblGrid>
              <a:tr h="409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Itens</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Países Selec</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Produtos Agrícolas em geral</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35.527.391.00</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Manteiga</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739.938.2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Leite Cond, em pó e fresco</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6.462.369.50</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Laticínios e Ovos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4.565.023.00</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Queijos e Coalhadas</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1.060.146.7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arnes em Geral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5.330.102.7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arne Bovina em geral</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403.263.50</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arne Suína</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5.542.837.50</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arne de Frango (Fresh)</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1.474.079.7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Soja</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1.717.649.7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ereais (Arroz, Trigo, etc)</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19.953.562.7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390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Frutas e Vegetais</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28.151.487.2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r>
              <a:tr h="409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Laranjas e frutas cítricas</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1.986.158.25</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34920" y="-243000"/>
            <a:ext cx="9109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ide pré BP brasil 1</a:t>
            </a:r>
            <a:endParaRPr b="0" lang="en-US" sz="2800" spc="-1" strike="noStrike">
              <a:solidFill>
                <a:srgbClr val="000000"/>
              </a:solidFill>
              <a:latin typeface="Arial"/>
            </a:endParaRPr>
          </a:p>
        </p:txBody>
      </p:sp>
      <p:pic>
        <p:nvPicPr>
          <p:cNvPr id="157" name="Picture 3" descr="F:\Ijui\mapa da balança com de alimentos 2000-02.jpg"/>
          <p:cNvPicPr/>
          <p:nvPr/>
        </p:nvPicPr>
        <p:blipFill>
          <a:blip r:embed="rId1"/>
          <a:stretch/>
        </p:blipFill>
        <p:spPr>
          <a:xfrm>
            <a:off x="-458640" y="-458640"/>
            <a:ext cx="10063080" cy="77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23640" y="764640"/>
            <a:ext cx="8474040" cy="2676600"/>
          </a:xfrm>
          <a:prstGeom prst="rect">
            <a:avLst/>
          </a:prstGeom>
          <a:noFill/>
          <a:ln w="0">
            <a:noFill/>
          </a:ln>
        </p:spPr>
        <p:txBody>
          <a:bodyPr anchor="t">
            <a:normAutofit fontScale="82000"/>
          </a:bodyPr>
          <a:p>
            <a:pPr marL="28116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 2000, o relatório anual da FAO – </a:t>
            </a:r>
            <a:r>
              <a:rPr b="0" i="1" lang="en-US" sz="2800" spc="-1" strike="noStrike">
                <a:solidFill>
                  <a:srgbClr val="000000"/>
                </a:solidFill>
                <a:latin typeface="Arial"/>
              </a:rPr>
              <a:t>The State of Food and Agriculture</a:t>
            </a:r>
            <a:r>
              <a:rPr b="0" lang="en-US" sz="2800" spc="-1" strike="noStrike">
                <a:solidFill>
                  <a:srgbClr val="000000"/>
                </a:solidFill>
                <a:latin typeface="Arial"/>
              </a:rPr>
              <a:t> </a:t>
            </a:r>
            <a:r>
              <a:rPr b="0" lang="en-US" sz="2400" spc="-1" strike="noStrike">
                <a:solidFill>
                  <a:srgbClr val="000000"/>
                </a:solidFill>
                <a:latin typeface="Arial"/>
              </a:rPr>
              <a:t>(disponível em </a:t>
            </a:r>
            <a:r>
              <a:rPr b="0" lang="en-US" sz="2400" spc="-1" strike="noStrike" u="sng">
                <a:solidFill>
                  <a:srgbClr val="009999"/>
                </a:solidFill>
                <a:uFillTx/>
                <a:latin typeface="Arial"/>
                <a:hlinkClick r:id="rId1"/>
              </a:rPr>
              <a:t>http://www.fao.org/docrep/x4400e/x4400e09.htm#TopOfPage</a:t>
            </a:r>
            <a:r>
              <a:rPr b="0" lang="en-US" sz="2400" spc="-1" strike="noStrike">
                <a:solidFill>
                  <a:srgbClr val="000000"/>
                </a:solidFill>
                <a:latin typeface="Arial"/>
              </a:rPr>
              <a:t> )</a:t>
            </a:r>
            <a:r>
              <a:rPr b="0" lang="en-US" sz="2800" spc="-1" strike="noStrike">
                <a:solidFill>
                  <a:srgbClr val="000000"/>
                </a:solidFill>
                <a:latin typeface="Arial"/>
              </a:rPr>
              <a:t> – teve como tema a evolução mundial da produção de alimentos na segunda metade do século XX, que se associou a uma avaliação crítica das própias posições da FAO ao longo deste período.</a:t>
            </a:r>
            <a:endParaRPr b="0" lang="en-US" sz="2800" spc="-1" strike="noStrike">
              <a:solidFill>
                <a:srgbClr val="000000"/>
              </a:solidFill>
              <a:latin typeface="Arial"/>
            </a:endParaRPr>
          </a:p>
        </p:txBody>
      </p:sp>
      <p:sp>
        <p:nvSpPr>
          <p:cNvPr id="55" name="Text Box 4"/>
          <p:cNvSpPr/>
          <p:nvPr/>
        </p:nvSpPr>
        <p:spPr>
          <a:xfrm>
            <a:off x="684360" y="5029200"/>
            <a:ext cx="8113680" cy="1065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ntre seus prognósticos equivocados, o corpo técnico da FAO chamava a atenção par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258920" y="260280"/>
            <a:ext cx="777708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1) a subestimação do potencial produtivo da Ásia e a superestimação do potencial produtivo da África;</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 a subestimação dos ganhos de produtividade na agropecuária, que redundaram no aprofundamento do fosso entre países ricos e pobres (os diferenciais de produtividade por ha no início do período chegavam a 1:50. Ao fim do período os extremos eram 1:500);</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3) a subestimação da resistência dos países desenvolvidos a abrirem suas economias para a importação da produção agrícola da periferia.</a:t>
            </a:r>
            <a:endParaRPr b="0" lang="en-US" sz="2400" spc="-1" strike="noStrike">
              <a:solidFill>
                <a:srgbClr val="000000"/>
              </a:solidFill>
              <a:latin typeface="Arial"/>
            </a:endParaRPr>
          </a:p>
        </p:txBody>
      </p:sp>
      <p:sp>
        <p:nvSpPr>
          <p:cNvPr id="57" name="Text Box 5"/>
          <p:cNvSpPr/>
          <p:nvPr/>
        </p:nvSpPr>
        <p:spPr>
          <a:xfrm>
            <a:off x="250920" y="4724280"/>
            <a:ext cx="8712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relatório da FAO chamava atenção ainda para profundas alterações na posição relativa dos países no mercado mundial de alime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611280" y="333360"/>
            <a:ext cx="82818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ntre todas as transformações, a mais notável foi o acelerado desenvolvimento da agricultura chinesa.</a:t>
            </a:r>
            <a:endParaRPr b="0" lang="en-US" sz="2800" spc="-1" strike="noStrike">
              <a:solidFill>
                <a:srgbClr val="000000"/>
              </a:solidFill>
              <a:latin typeface="Arial"/>
            </a:endParaRPr>
          </a:p>
        </p:txBody>
      </p:sp>
      <p:sp>
        <p:nvSpPr>
          <p:cNvPr id="59" name="Text Box 5"/>
          <p:cNvSpPr/>
          <p:nvPr/>
        </p:nvSpPr>
        <p:spPr>
          <a:xfrm>
            <a:off x="611280" y="1844640"/>
            <a:ext cx="8281800" cy="1373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ua produção em valor quadruplicou ao longo do período e sua participação no mercado mundial mais do que dobrou.</a:t>
            </a:r>
            <a:endParaRPr b="0" lang="en-US" sz="2800" spc="-1" strike="noStrike">
              <a:solidFill>
                <a:srgbClr val="000000"/>
              </a:solidFill>
              <a:latin typeface="Arial"/>
            </a:endParaRPr>
          </a:p>
        </p:txBody>
      </p:sp>
      <p:sp>
        <p:nvSpPr>
          <p:cNvPr id="60" name="Text Box 6"/>
          <p:cNvSpPr/>
          <p:nvPr/>
        </p:nvSpPr>
        <p:spPr>
          <a:xfrm>
            <a:off x="611280" y="3357720"/>
            <a:ext cx="8281800" cy="1373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Já na primeira metade dos anos 90, a China assume a primazia mundial na produção de alimentos.</a:t>
            </a:r>
            <a:endParaRPr b="0" lang="en-US" sz="2800" spc="-1" strike="noStrike">
              <a:solidFill>
                <a:srgbClr val="000000"/>
              </a:solidFill>
              <a:latin typeface="Arial"/>
            </a:endParaRPr>
          </a:p>
        </p:txBody>
      </p:sp>
      <p:sp>
        <p:nvSpPr>
          <p:cNvPr id="61" name="Text Box 7"/>
          <p:cNvSpPr/>
          <p:nvPr/>
        </p:nvSpPr>
        <p:spPr>
          <a:xfrm>
            <a:off x="611280" y="4869000"/>
            <a:ext cx="8137440" cy="1800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tualmente, este país é responsável por aproximadamente 20% da produção mundial, superando os EUA, responsável por pouco menos de 14% desta mesma produ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01:44:47Z</dcterms:created>
  <dc:creator>Carlos Aguedo Paiva</dc:creator>
  <dc:description/>
  <dc:language>en-US</dc:language>
  <cp:lastModifiedBy>user</cp:lastModifiedBy>
  <dcterms:modified xsi:type="dcterms:W3CDTF">2009-11-01T16:12:32Z</dcterms:modified>
  <cp:revision>39</cp:revision>
  <dc:subject/>
  <dc:title>A crise financeira mundial e as perspectivas de mercado para produtos agropecuários</dc:title>
</cp:coreProperties>
</file>