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AD8C-6ABC-42F0-9574-E4799524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0AA0-64CA-462A-B05A-57A4B339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44E4-3F58-40F3-8F7A-FE1C494E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B096-5F27-4973-B9B1-4CEB15EF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7C59-8C60-4E38-8189-8A7E4216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4D52-B342-4591-9918-2949B11A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6959-6A55-4CDE-BE24-23BB7762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EE2E-DC0A-475D-9639-3A18D29C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6E72-9F23-462E-AB94-C4078B70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9368-E844-46DE-A703-DDEBD798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3CAE-ED06-4890-9CB1-FD524EBE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9274-E868-4C70-BD15-BC2D52A5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0A34-126E-49F9-ACE7-5C733EE1902B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D45E-3C27-4E82-B870-730D1C2E157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42600" y="2499840"/>
            <a:ext cx="8015400" cy="14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Indicadores Socio-econômicos e Políticas Públicas Municipa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tângulo 3"/>
          <p:cNvSpPr/>
          <p:nvPr/>
        </p:nvSpPr>
        <p:spPr>
          <a:xfrm>
            <a:off x="571680" y="612720"/>
            <a:ext cx="7929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Mas o principal fundamento da tese equivocada de que o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indicador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socio-econômico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são uma novidade é a confusão entre estes primeiros e o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índice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socio-econômic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; em especial os indices de desenvolviment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Índices de Desenvolvimento são indicadores compostos a partir de médias ou agregações de indicadores isolad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O IDH (ONU-Pnud-João Pinheiro) e o Idese (FEE) são dois exemplos de Índices de Desenvolviment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stes índices ganharam crescente atenção nas últimas décadas. Uma atenção (e expectativa acerca de sua acuidade) que nos parece bastante exagera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tângulo 1"/>
          <p:cNvSpPr/>
          <p:nvPr/>
        </p:nvSpPr>
        <p:spPr>
          <a:xfrm>
            <a:off x="642960" y="336600"/>
            <a:ext cx="7786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om isto, não queremos negar a contribuição positiva (e crítica) dos índices de desenvolvimento socio-econômic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dmitimos que, se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 somente se!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) queremos adotar uma medida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únic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para avaliar o desenvolvimento de um país, a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nda per capit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(indicador mais utilizado até os anos 80) é uma medida insuficient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Mas – perguntamos –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erá que se pode constituir uma única medida “suficiente”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Espaço Reservado para Rodapé 3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tângulo 1"/>
          <p:cNvSpPr/>
          <p:nvPr/>
        </p:nvSpPr>
        <p:spPr>
          <a:xfrm>
            <a:off x="642960" y="150840"/>
            <a:ext cx="7929720" cy="62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Arial"/>
                <a:ea typeface="Arial"/>
              </a:rPr>
              <a:t>Nas palavras de Eli da Veiga: “O principal defeito do IDH é que ele resulta da média aritmética de três índices mais específicos que captam renda, escolaridade e longevidade. Mesmo que se aceite a ausência de outras dimensões do desenvolvimento para as quais ainda não há disponibilidade de indicadores tão cômodos – como a ambiental, a cívica, ou a cultural – é duvidoso que seja essa média aritmética a que melhor revele o grau de desenvolvimento atingido por uma determinada coletividade (neste caso, o município).” </a:t>
            </a:r>
            <a:r>
              <a:rPr b="1" i="1" lang="pt-BR" sz="2900" spc="-1" strike="noStrike">
                <a:solidFill>
                  <a:srgbClr val="000000"/>
                </a:solidFill>
                <a:latin typeface="Arial"/>
                <a:ea typeface="Arial"/>
              </a:rPr>
              <a:t>Problemas do uso ingênuo do IDH-M. </a:t>
            </a:r>
            <a:r>
              <a:rPr b="1" lang="pt-BR" sz="2900" spc="-1" strike="noStrike">
                <a:solidFill>
                  <a:srgbClr val="000000"/>
                </a:solidFill>
                <a:latin typeface="Arial"/>
                <a:ea typeface="Arial"/>
              </a:rPr>
              <a:t>Valor, 14/01/2003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ço Reservado para Rodapé 3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tângulo 1"/>
          <p:cNvSpPr/>
          <p:nvPr/>
        </p:nvSpPr>
        <p:spPr>
          <a:xfrm>
            <a:off x="642960" y="336600"/>
            <a:ext cx="7858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Ou, como diz documento da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Fundação Seade: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 “Ao se deparar com situações distintas – país A com alto PIB per capita, mas baixa esperança de vida ao nascer e baixo grau de educação, e país B com alto grau de educação, mais baixo PIB per capita e baixa esperança de vida ao nascer – a ordenação será feita através da média entre os três componentes do índic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ço Reservado para Rodapé 3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tângulo 3"/>
          <p:cNvSpPr/>
          <p:nvPr/>
        </p:nvSpPr>
        <p:spPr>
          <a:xfrm>
            <a:off x="571680" y="116676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... Admita-se que o país A obtenha uma classificação melhor que o país B. Isso significa que é mais ‘valioso - principalmente do ponto de vista do desenvolvimento humano – possuir renda elevada do que alta escolaridade?’”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SEADE, </a:t>
            </a:r>
            <a:r>
              <a:rPr b="1" i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Índice de Vulnerabilidade Juvenil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, 2002:78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tângulo 1"/>
          <p:cNvSpPr/>
          <p:nvPr/>
        </p:nvSpPr>
        <p:spPr>
          <a:xfrm>
            <a:off x="642960" y="500040"/>
            <a:ext cx="7786800" cy="66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Estamos de pleno acordo com as duas críticas anteriores. Apenas acreditamos que os problemas sejam ainda maiores do que os já apontado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ssociada à crítica de Veiga sobre o obscurecimento do que está sendo mensurado, há um outro problema menos óbvio: por vezes, os índice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etendem expressa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versas dimensões do bem-estar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as expressam, de fato, apenas uma ou duas dimensões. E, nem sempre, as dimensões mais relevantes para as distintas comunidades de distintos territóri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spaço Reservado para Rodapé 3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esgoto esgota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omemos um exemplo: as condições de saneamento público (avaliadas, por exemplo, pela percentagem da população que recebe água tratada, esgotamento sanitário, coleta de lixo, etc.) são indicadores tradicionais de qualidade de vid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Não obstante, parece mais ou menos evidente que estas medidas não apresentam o mesmo peso na cidade ou no campo. Não dispor de água tratada na cidade de São Paulo é muito mais grave do que não contar com este serviço público  na área rural de um município que conta com mananciais naturais não-poluído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esgoto esgot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a mesma forma, antigos distritos rurais recentemente emancipados tendem a apresentar indicadores (urbanos!) de saneamento/sanidade muito inferiores aos municípios mais antigos, em especial àqueles de população estagnad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Não se pode concluir daí, contudo, que a população dos municípios jovens (e essencialmente rurais) apresentem uma qualidade de vida inferior à usufruída pela população dos municípios antigos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Esgoto esgot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, NÃO OBSTANTE, É BEM POSSÍVEL QUE UM ÍNDICE QUE, EM TERMOS FORMAIS, TOME O SANEAMENTO TIPICAMENTE URBANO COMO “UM DENTRE VÁRIOS OUTROS” INDICADORS COMPONETES DE UM “ÍNDICE PLURAL” ESTEJA, DE FATO, AVALIANDO O GRAU DE DESENVOLVIMENTO E O RANKING DE UM CONJUNTO DE MUNICÍPIOS (QUASE QUE) EXCLUSIVAMENTE PELO SANEAMENTO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não vejam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esgoto esgot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omemos um modelo bem simples de “Índice de Desenvolvimento Municipal”  composto por três indicadores “sociais”: anos médios de estudo, longevidade e percentagem da população atendida por saneamento básic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uponhamos que existam 7 municípios com características distintas e que queremos ranqueá-los pelo referido Índice de Desenvolviment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 que são indicador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dicadores socio-econômicos são medidas que buscam resgatar uma determinada dimensão da realidade socio-econômica de um dado território e/ou da população que usufrui (trabalhando, explorando, habitando, etc.) do mesm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s indicadores podem ser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ubjetivo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baseados em avaliações e declarações; tal como: % da população que considera o governo Lula ótimo ou bom) ou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objetivo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baseados em dados imediatamente quantificáveis; tal como: a taxa de crescimento da população urbana dos municípios gaúchos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 esgoto esgota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14240" y="2214720"/>
          <a:ext cx="7928280" cy="3419280"/>
        </p:xfrm>
        <a:graphic>
          <a:graphicData uri="http://schemas.openxmlformats.org/drawingml/2006/table">
            <a:tbl>
              <a:tblPr/>
              <a:tblGrid>
                <a:gridCol w="639720"/>
                <a:gridCol w="814680"/>
                <a:gridCol w="639720"/>
                <a:gridCol w="641160"/>
                <a:gridCol w="639720"/>
                <a:gridCol w="641520"/>
                <a:gridCol w="709560"/>
                <a:gridCol w="641520"/>
                <a:gridCol w="639720"/>
                <a:gridCol w="641160"/>
                <a:gridCol w="639720"/>
                <a:gridCol w="640080"/>
              </a:tblGrid>
              <a:tr h="9824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anos 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 anos 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que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s de 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Me 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e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 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k s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k 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k 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.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.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.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 a educação e a saúde não importam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39040" indent="-23904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serve que, no quadro anterior, os municípios se diferenciam em função dos anos médios de estudo e da longevidade. Mas as diferenças nestes quesitos são necessariamente menores que as diferenças entre % da área coberta por esgotamento. Pois educação e saúde são fortemente influenciadas por legislação (de ensino obrigatório e de políticas universais de saúde) que são definidas em âmbito nacional. E o mesmo não se dá com o saneamento básico, fortemente influenciada pela consolidação (antiguidade e taxa de crescimento) da sede urba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39040" indent="-23904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39040" indent="-23904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39040" indent="-23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 a educação e a saúde não importam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 resultado é que – tal como se pode ver no quadro exemplo acima –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o ranking dos municípios pelo “Índice de Desenvolvimento”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presumivelmente “composto”)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é exatamente o mesmo do ranking de Saneamento.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s difere significativamente do ranking definido exclusivamente pelas variáveis Longevidade e Educaçã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 verdade,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o Saneamento (cujo desvio padrão é maior) está definido sozinho o Indice de Desenvolvimento, a despeito do mesmo “se querer” multidimension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retar é preciso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o nosso ponto de vista, contudo, o maior dentre todos os defeitos dos Índices (vale dizer: dos indicadores sintéticos) é que a interpretação do seu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al significad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, bem como de sua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evoluçã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é demasiado complex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 sorte que, muitas vezes, sua utilização pode trazer mais obscuridade do que esclarecimento sobre a dinâmica que se busca interpreta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tângulo 1"/>
          <p:cNvSpPr/>
          <p:nvPr/>
        </p:nvSpPr>
        <p:spPr>
          <a:xfrm>
            <a:off x="571680" y="642960"/>
            <a:ext cx="7786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Talvez a melhor forma de entender este problema seja demonstrando que a interpretação do significado real de um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“indicador simples” e de sua evolução pode ser MUITO  complexa.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 que não se poderá dizer da interpretação do significado e evolução de um índice (por definição) composto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Tomemos como exemplo de um indicador simples a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nda per capita.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 vamos tentar interpretar o significado de distintas dinâmicos de evolução deste indicador em 3 municípios hipotétic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Espaço Reservado para Rodapé 3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2"/>
          <p:cNvGraphicFramePr/>
          <p:nvPr/>
        </p:nvGraphicFramePr>
        <p:xfrm>
          <a:off x="1500120" y="571680"/>
          <a:ext cx="6203880" cy="157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571680"/>
                    <a:ext cx="620388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Espaço Reservado para Rodapé 4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7120" y="378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 renda per capita inicial e final do Mun B é a maior dentre os três. Mas o crescimento da   renda per capita no Mun A é a mais elevada: 4,78% a.a., contra 1,3% a.a. no Mun B e de 0,16% a.a. no Mun C. O indicador parece estar mandando uma mensagem simples e clara: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o município A vem apresentando o melhor desempenho entre os três, a despeito do Mun B ser aquele de maior renda méd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2"/>
          <p:cNvGraphicFramePr/>
          <p:nvPr/>
        </p:nvGraphicFramePr>
        <p:xfrm>
          <a:off x="642960" y="714240"/>
          <a:ext cx="7786800" cy="18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714240"/>
                    <a:ext cx="778680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Espaço Reservado para Rodapé 9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357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sta leitura é corroborada pelo acompanhamento da evolução da renda absoluta. Só que, agora, os diferenciais já parecem menos impressionantes. A renda absoluta do município A cresce a 3,71% a.a.; a do Mun B cresce a 2,29% a.a e a do Mun C cresce a 0,59% a.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500040" y="571680"/>
          <a:ext cx="7786800" cy="150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571680"/>
                    <a:ext cx="7786800" cy="15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7120" y="36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A fonte da diferença começa a ficar clara quando se avança para a dinâmica populacional. Agora vemos que o Mun A está perdendo população a uma taxa anualizada de -1,02%; enquanto os municípios B e C tem sua população acrescida anualmente a taxas de 0,98% e 0,44%, respectivamente.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Se admitimos que a evasão de um território é indicador de insatisfação (e, provavelmente, de estagnação econômica), a dinâmica de A já não parece tão alvissareira. 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2"/>
          <p:cNvGraphicFramePr/>
          <p:nvPr/>
        </p:nvGraphicFramePr>
        <p:xfrm>
          <a:off x="571680" y="428760"/>
          <a:ext cx="7546680" cy="164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428760"/>
                    <a:ext cx="754668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357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Quando avaliamos o estado inicial e final do grau de urbanização vemos um quadro novo. O mun C mantém cerca de 3/4 de sua população no campo.   Isto tem dois significados: 1) a renda per capita desta população encontra-se subestimada, pois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a renda real no campo é maior do que renda monetária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(que é a única para a qual temos informações); 2) dado o baixo êxodo (vis-à-vis A), a estrutura fundiária (e, por extensão, a distribuição da renda!) deve ser mais igualitária em C do que em A, caracterizada por êxodo rural acelerado. Por fim, a renda per capita de B – totalmente urbano – está superestimada em relação aos demais, pois a renda não-monetária de seus habitantes deve ser relativamente meno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571680" y="571680"/>
          <a:ext cx="7500600" cy="161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571680"/>
                    <a:ext cx="7500600" cy="16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0040" y="371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Mas se Mun A está perdendo população, porque sua renda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absoluta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cresce aceleradamente?  É preciso analisar a fonte deste crescimento. E a análise da evolução da relação entre renda de Transferências (aposentadoria, rendas, mesadas)  explica o quadro. e do trabalho (salário, ordenados e rend. K próprio). Explica o quadro.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A renda do Mun A não cresce endogenamente. São as aposentadorias e remessas privadas que alavancam a renda monetári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600" y="1714320"/>
            <a:ext cx="792972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As tentativas de desenvolver teoricamente e de calcular Indicadores Socio-econômicos com vistas à orientação e avaliação de políticas públicas é tão antiga quanto a Economia Polític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Espaço Reservado para Rodapé 4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Espaço Reservado para Rodapé 4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Para finalizar, analisemos a evolução do perfil populacional. A razão de dependência cresce aceleradamente em A.  Isto explica a dinâmica da população e dos padrões de rendimento: a população jovem, desempregada, está emigrando. E quem recebe os imigrantes (jovens em busca de trabalho) é o Mun B, cuja razão de dependência vem caindo. E como crianças e idosos apresentam, em média, um patamar significativamente mais elevado de demanda     sobre serviços públicos básicos (educ. e saúde),  a pressão sobre a prefeitura não deve acompanhar a dinâmica populacional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357120" y="500040"/>
          <a:ext cx="8445600" cy="180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500040"/>
                    <a:ext cx="844560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m sum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 suma: um município pode apresentar um crescimento anormalmente elevado da renda per capita porque a população jovem está se evadindo e a população idosa abandona o campo (onde a renda não monetária é expressiva) para viver da aposentadoria na cidade, sem qualquer melhora efetiva em sua qualidade de vid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 o município c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empen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vale dizer: taxa de crescimento) intermediário no quesito renda per capita pode ser aquele de maior dinamismo na geração de emprego e renda endógen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quanto o município aparentemente pior situado (C) em termos de renda per capita e seu crescimento pode ser aquele que, de fato, oferece a melhor qualidade de vi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Qual é a meta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É ela que define o indicador relevante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 conclusão impositiva é de que, mais do que este ou aquele índice ou indicador socio-econômico, o que se precisa para avaliar o bem-estar de uma população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é a determinação precisa da “dimensão da vida” cuja qualidade se busca mensurar e um conhecimento detalhado das particularidades do território sob análise.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ó então, podemos determinar e coletar o conjunto de informações (via de regra, sob a forma de diversos “INDICADORES SIMPLES”) que permitam avaliar a dinâmica real da dimensão socio-econômica sob anális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f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) O princípio primeiro para que indicadores socio-econômicos sirvam de base para a avaliação de políticas públicas é, pois, que se defina com clareza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IS SÃO OS OBJETIVOS PRIORITÁRIOS DA POLÍTICA PÚBLICA EM CURSO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 o objetivo é universalizar o sistema de esgoto cloacal e a coleta de lixo (por exemplo), é a evolução da % da população atendida que se deve medi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s se o objetivo é preservar as nascentes dos mananciais, combater o aquecimento global e ampliar as oportunidades de emprego e renda da população rural, a estratégia mais adequada deve ser outra. Independentemente do maior ou menor impacto neste ou naquele “Índice de Desenvolvimento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aneamento pode ser biodigestor e renda!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ste caso, A POLÍTICA DE SANEAMENTO BÁSICO PODE SE ASSOCIAR A UMA POLÍTICA DE GERAÇÃO DE RENDA E E SIGNIFICAR, POR EXEMPL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UNIVERSALIZAÇÃO DO ACESSO DE AGRICULTORES FAMILIARES DEDICADOS À PECUÁRIA ESTABULADA A SISTEMAS DE GERAÇÃO DE ENERGIA POR BIODIGEST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 município (e sua administração) não está só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r fim, queremos chamar a atenção para um último mas importantíssimo problem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o a realidade não é estável, mas cambiante, é possível que ações corretas e consequentes do poder público municipal não gerem melhorias expressivas nos indicadores eleitos, em função de modificações nas condições mais gerais de vida da populaçã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 o governo adota políticas EFICAZES de geração de emprego e renda, pode acabar atraindo a população desempregada de outros municípi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 se o mundo mud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u, ainda, pode ocorrer que uma política eficaz e correta AMPLIE O NÚMERO DE DEMANDANTES DOS SERVIÇOS OFERECIDOS, ampliando o déficit formal (aparente) de atendimento do referido serviço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ste é um problema recorrente, quando se trata da implantação de políticas de oferta pública e de empregos e de seguro desemprego.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O desemprego oculto por desalento e precariedade tende a emergir como um desemprego aberto, piorando os indicadores e confundindo os seus intérprete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or fim, pode ocorrer que uma política eficaz e correta no âmbito municipal seja contrarrestada por uma política macroeconômica que alavanque a taxa global de desemprego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importância do diagnóstico at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istem diversos instrumentos para driblar este problema, e garantir uma avaliação tecnicamente consistente da eficácia das ações de uma instância de governo, independentemente da evolução de demandas e de inflexões da realidade impostas desde for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s, para tanto, é preciso ter-se um quadro relativamente bem determinado da situação (tamanho, perfil, etc.) dos usuários potenciais das políticas pública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no momento de sua implantação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ma amostra representativa bas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stes instrumentos de controle não precisam ser “censitários” (vale dizer: não é preciso conhecer a situação de toda a população potencialmente beneficiária de uma dada política pública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s, o ideal, é que se conheça pelo menos uma amostra representativa da referida população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ém disso,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empre que possíve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recomenda-se a criação e diferenciação de grupos de beneficiários e de não-beneficiários (grupos de controle ou “placebo”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sta estratégia é importante para avaliar de forma rigorosa (mais do que a eficiência e a eficácia) a EFETIVIDADE da política. Vale dizer: avaliar se o fim último almejado foi atingido em algum nível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 último caso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É bem verdade que estas condições ideais, nem sempre se encontram disponíveis. O que pode levar a conclusões totalmente equivocadas sobre a eficácia e efetividade das políticas postas em curso, quando seu sucesso ou insucesso é diagnosticado pela evolução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aparen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o indicad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orém, existem alguma estratégias para driblar as eventuais avaliações equivocadas quando as informações iniciais não se encontravam sistematizadas. Mas estas estratégias não só não são triviais, como variam caso a caso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 verdade, elas dependem da qualidade das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proxies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formacionais de que dispomos sobre as condições iniciais, prévias à introdução das políticas que se quer avaliar. Um tema para outro debat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ângulo 4"/>
          <p:cNvSpPr/>
          <p:nvPr/>
        </p:nvSpPr>
        <p:spPr>
          <a:xfrm>
            <a:off x="428760" y="612720"/>
            <a:ext cx="8286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“Aritmética Política”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, escrita em meados do séculoXVII por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Sir William Petty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, pode ser considerada a primeira obra sistemática sobre os indicadores  relevantes para a avaliação da riqueza de uma nação e bem-estar de seu povo e para a identificação da pertinência, potência e eficácia de políticas públicas de desenvolvimento socio-econômic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spaço Reservado para Rodapé 6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tângulo 4"/>
          <p:cNvSpPr/>
          <p:nvPr/>
        </p:nvSpPr>
        <p:spPr>
          <a:xfrm>
            <a:off x="500040" y="1166760"/>
            <a:ext cx="8358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Nos trabalhos de Petty aparecem distinções que viriam a se tornar clássicas nos estudos posteriores sobre indicador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or exemplo, a diferença entre indicadores absolutos e relativizad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etty (que também é um dos precursores da Contabilidade Social) já sabia que quando se trata de avaliar o bem-estar de um povo, as medidas relativizadas pela população são mais importantes que as medidas absolut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Espaço Reservado para Rodapé 6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tângulo 3"/>
          <p:cNvSpPr/>
          <p:nvPr/>
        </p:nvSpPr>
        <p:spPr>
          <a:xfrm>
            <a:off x="571680" y="1166760"/>
            <a:ext cx="800100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ssim, é que, por exemp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TAXA MÉDIA DE SALÁRI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(=massa de salário / pessoal ocupado assalariado)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NDA PER CAP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(= renda nacional total / população total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pressam melhor a condição de vida de um povo do que os dados agrega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tângulo 3"/>
          <p:cNvSpPr/>
          <p:nvPr/>
        </p:nvSpPr>
        <p:spPr>
          <a:xfrm>
            <a:off x="642960" y="1444680"/>
            <a:ext cx="77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Mas os indicadores relativos nem sempre são melhores que os absoluto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Não se pode avaliar a capacidade bélica (defensiva e ofensiva) da Inglaterra pelo número de marujos ou navios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por 1000 habitantes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tângulo 3"/>
          <p:cNvSpPr/>
          <p:nvPr/>
        </p:nvSpPr>
        <p:spPr>
          <a:xfrm>
            <a:off x="714240" y="857160"/>
            <a:ext cx="7572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Se computássemos assim, o poder bélico da Inglaterra pareceria maior do que é, alerta Petty. Na verdade, a Marinha inglesa é superior à francesa. Mas porque o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núme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bsolu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de marujos e navios é 4 vezes maior do que o francê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 o exército inglês é inferior, pois a população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e a capacidade de arregimentação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na Inglaterra é men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tângulo 3"/>
          <p:cNvSpPr/>
          <p:nvPr/>
        </p:nvSpPr>
        <p:spPr>
          <a:xfrm>
            <a:off x="642960" y="785880"/>
            <a:ext cx="7929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orque tantos autores nacionais e “terceiro-mundistas” afirmam que os indicadores sócio-econômicos são algo novo, então?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Um pouco por desconhecimento da historia mundial. Se a avaliação da eficácia-eficiência-efetividade das políticas públicas através de indicadores socio-econômicos é algo recente no Brasil, tais práticas emergiram muito antes em sociedades em que Estado e Governos passaram a ser controlados pela sociedade civil a partir de Revoluções Burguesas “a quente” (como a Revolução Puritana Inglesa, nos tempos de Petty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6:56:29Z</dcterms:created>
  <dc:creator>andrigo</dc:creator>
  <dc:description/>
  <dc:language>en-US</dc:language>
  <cp:lastModifiedBy>user</cp:lastModifiedBy>
  <dcterms:modified xsi:type="dcterms:W3CDTF">2010-05-19T00:25:01Z</dcterms:modified>
  <cp:revision>35</cp:revision>
  <dc:subject/>
  <dc:title>Slide 1</dc:title>
</cp:coreProperties>
</file>